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EF7-3CA4-4B6C-8FCE-E4BF1C91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9AC-2B93-4F1D-93CE-249C0B9B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62F-7006-4FB8-98E1-6608339B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C18-3883-486F-B2F6-7D1A23B9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6C4C-3155-4D41-AF27-CAFDD508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039-2E3A-4E63-8E01-6FA3D7A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D1BB-FAA4-42E5-BE2D-24144AD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A018-2D5C-43AC-BAF5-5A4A202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053-FBD6-4D5A-85C3-420EE1AA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C5C6-270F-4A42-9E11-36F05C72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B6A0-0EF5-4710-91D6-B385E4C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425-5C0C-47CC-B350-AF1B888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B98-E4F4-4B5A-BCCA-0F4DF3BC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1092-22AE-4695-84D6-6A9B044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0A1-4E6F-4F58-8F7F-10CF72A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8F5C-0F73-4CF0-B507-3D4E4681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F97E-A90E-4C0B-86C8-A2F78E2A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0A2-B671-4F29-B6AA-4134A14D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259-D2C4-4896-8316-58CFD4C3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58D-CA64-4DE6-8648-81DDFD3D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6B0-7E78-487F-B542-F03CD93C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187-45E9-4897-B764-06ACC3D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F21-4123-424A-846C-D4E2E86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EF5-FAD8-434D-B604-791E235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ACA-DC58-429F-B59F-FEA76886765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31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3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Oval 32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32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Oval 28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28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Oval 30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30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Oval 27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27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Oval 29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29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Oval 33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33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Oval 34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3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900-BF1B-4B4B-8A41-80840D5EF1C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06436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edd78"/>
                </a:solidFill>
                <a:latin typeface="Monotype Corsiva"/>
              </a:rPr>
              <a:t>Проект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edd78"/>
                </a:solidFill>
                <a:latin typeface="Monotype Corsiva"/>
              </a:rPr>
              <a:t>«Воспитание любви к родному краю»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Monotype Corsiva"/>
              </a:rPr>
              <a:t>Воспитатель: Борнико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Monotype Corsiva"/>
              </a:rPr>
              <a:t>Эльвира Анатольев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4996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жидаемый результа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99680" y="1285920"/>
            <a:ext cx="8286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Verdana"/>
              </a:rPr>
              <a:t>К концу года дети должн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Verdana"/>
              </a:rPr>
              <a:t>-с удовольствием рассказывать о семье, семейном быте, традици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Verdana"/>
              </a:rPr>
              <a:t>-уметь рассказывать о своем родном крае, город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Verdana"/>
              </a:rPr>
              <a:t>-проявлять чувство уважения к людям других национальностей, к их традиция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edd78"/>
                </a:solidFill>
                <a:latin typeface="Verdana"/>
              </a:rPr>
              <a:t>-любить Родину, свой родной кра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 каждого народа свои сказки, игры они передаются от поколения к поколению основные нравственные ценности: добро, дружба, взаимопомощь, трудолюби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0" name="Picture 5" descr="http://www.proza.ru/pics/2011/01/22/1757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8818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лечение семьи к нравственно-патриотическому воспитанию детей имеет огромное значение. В настоящее время у людей наблюдается интерес к своей генеалогии, национальных, сословных, профессиональных корней своего рода в разных поколен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увство Родины… Оно начинается у ребенка с восхищения тем, что видит перед собой малыш, чему он изумляется и что вызывает отклик в его душе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250920" y="2276640"/>
            <a:ext cx="8007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4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6012000" y="6462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ение музе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7" descr="http://www.i-irk.com/upload/gallery/kraevedcheskij_muzej_irkutsk_(8).jpg"/>
          <p:cNvPicPr/>
          <p:nvPr/>
        </p:nvPicPr>
        <p:blipFill>
          <a:blip r:embed="rId1"/>
          <a:stretch/>
        </p:blipFill>
        <p:spPr>
          <a:xfrm>
            <a:off x="1835280" y="1890720"/>
            <a:ext cx="6337080" cy="458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0978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едует отметить, что трудности в ознакомлении детей с бытом, традициями, отдельными историческими моментами  вызваны тем, что дошкольникам свойственно наглядно-образное мышле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ктуальность:</a:t>
            </a:r>
            <a:br>
              <a:rPr sz="2800"/>
            </a:br>
            <a:br>
              <a:rPr sz="1800"/>
            </a:b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«Любовь к родному краю, родной культуре, родной речи начинается с малого – любви к своей семье, к своему  жилищу   к своему детскому саду»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Д.С Лихач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26560" y="2499840"/>
            <a:ext cx="8007480" cy="38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екте  «Национальной доктрины образования в Российской Федерации» подчеркивается, что «система образования признана обеспечить воспитание патриотов России, граждан правового, демократического, социального государства, уважающих права и свободы личности, обладающих высокой нравственностью и проявляющих национальную и религиозную терпимость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ть патриотом - значит ощущать себя неотъемлемой частью Отечества. Это сложное чувство возникает еще в дошкольном детстве, когда закладываются основы ценностного отношения к окружающему миру, и формируется в ребенке постепенно, в ходе воспитания любви к своим ближним, к детскому саду, родным местам, родной стра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вить детям чувство патриотизма, любовь к родному краю,  любовь к родным местам,  гордость за свой народ,  ощущение своей неразрывности с окружающим миром, и желание сохранять и приумножить богатство своей стра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08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1.Воспитание у ребенка любви и  привязанности к своей семье, дому, детскому саду, улице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2. Формирование бережного отношения к природе и всему живому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3. Воспитание уважения к труду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4. Развитие интереса к национальным традициям 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5. Знакомство детей с символами государства (герб, флаг, гимн)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6. Развитие чувства ответственности и гордости за достижения страны;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edd78"/>
                </a:solidFill>
                <a:latin typeface="Verdana"/>
              </a:rPr>
              <a:t>7. Формирование толерантности, чувства уважения к другим народам, их традициям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потез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 ознакомлении детей с родной страной создаются благоприятные условия, при которых у них расширяется кругозор, развиваются познавательные способности, активность, любознательность, обогащается и развивается речь, решаются также задачи эстетического воспитания и детского творчеств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 и последовательность работы по нравственно-патриотическому воспитанию детей, используемая в проект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95280" y="2565360"/>
            <a:ext cx="1440000" cy="93492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2484360" y="2565360"/>
            <a:ext cx="1150920" cy="107964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211640" y="2565360"/>
            <a:ext cx="1440000" cy="100800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ная улиц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516720" y="2565360"/>
            <a:ext cx="1368360" cy="107964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1116000" y="4653000"/>
            <a:ext cx="1511280" cy="108108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е столиц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вол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708360" y="4653000"/>
            <a:ext cx="2303640" cy="1081080"/>
          </a:xfrm>
          <a:prstGeom prst="rect">
            <a:avLst/>
          </a:prstGeom>
          <a:solidFill>
            <a:srgbClr val="a1b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яза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ституц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1908000" y="3068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5724360" y="29973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2771640" y="522936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7956720" y="3068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8604360" y="3213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0"/>
          <p:cNvSpPr/>
          <p:nvPr/>
        </p:nvSpPr>
        <p:spPr>
          <a:xfrm flipH="1" flipV="1">
            <a:off x="539640" y="4220640"/>
            <a:ext cx="8064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>
            <a:off x="539640" y="4221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539640" y="5300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ализация проект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428760" y="1428840"/>
            <a:ext cx="8215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Monotype Corsiva"/>
                <a:ea typeface="MS Mincho"/>
              </a:rPr>
              <a:t>1.Работа с родителя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Консультация для родител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Создание эмоционально-положительного климата в семье»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ак провести выходной день в семье»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Оформление стенда с информацией о семейных праздниках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Привлечение родителей к организации проведения досугов, праздников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Домашнее задание для родителей: накануне выходных, отпуска, выезда семьи на природу сделать фотографии, подделки из природного материала. Оформить с детьми фотовыставку «Отдыхаем всей семь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72600" cy="632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2.Работа с деть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беседы на тему: «Что нас окружает», «Я и моя семья», «Моя улица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чтение художественной литературы, рассматривание альбомов, иллюстрации о природе родного края, заучивание стихов, пословиц о Роди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экскурсии, целевые прогулк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продуктивные виды деятельности – индивидуальные и коллективные(рисование, лепка, аппликация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дидактические, подвижные, народные игр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0096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3.Поисково-исследовательская деятельность</a:t>
            </a:r>
            <a:br>
              <a:rPr sz="36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экскурсия в краеведческий музей, экскурсия по родному городу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составление семейного альбома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посещение достопримечательностей город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49:16Z</dcterms:created>
  <dc:creator>Денис</dc:creator>
  <dc:description/>
  <dc:language>en-US</dc:language>
  <cp:lastModifiedBy>Даниил</cp:lastModifiedBy>
  <dcterms:modified xsi:type="dcterms:W3CDTF">2015-03-01T17:00:55Z</dcterms:modified>
  <cp:revision>93</cp:revision>
  <dc:subject/>
  <dc:title>Муниципальное дошкольное образовательное учреждение  «Детский сад №12 с. Забузан»</dc:title>
</cp:coreProperties>
</file>