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B25-E5A6-42F2-8942-00A12550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8E5-80B1-477A-A989-04E3D244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FE20-90FC-4860-815A-8A0037B8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209ED-026A-4712-BC54-F213A29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454A2-26F3-4A41-AD42-4B3D08D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28622-CCD4-43A2-AD72-15291E0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89601-30AA-49EF-809D-13E4979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FD100-3B43-4745-BF5A-84034B6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A417-D4F6-4956-B242-2B0323C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395C-145C-44AC-BEBD-0C889D88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738E6-86BD-40EA-89F1-96FB7B2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FA2-85EF-4430-B859-898A04DD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3D4-FCB7-48DF-9CAA-F17D65C0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FF63-20D0-4D8B-8BCD-D48001F3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CCBC-938F-4B30-9592-108ED34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718A-E398-4904-9757-7CBC191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F6B7-7AD4-441B-9A84-3C51AA0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394A-55D3-43EC-A8DA-438A382B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89CD-93B9-4F11-9DDF-F91AA76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6713-FD9B-419A-988A-95CD12E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3F0-A81D-4ED9-BFCD-47713243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CEDD-46F5-4381-A3B8-C7F67D5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37FC-21AC-4125-B707-592D9DED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B08A-5EF0-42DB-8826-D8CD7AE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F816-73DF-4E26-9D22-9EDBF54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53B7-DE64-4862-9A7E-E8223574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8910-A358-473B-AF89-95B94311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FC13-61FD-4204-B186-8DF7306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507D-3538-44EB-8446-C0711E84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DCCA-B765-4937-8248-BAD810A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D1E1-BD6A-4897-BD08-AD42F492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CFC-7288-46FA-83A3-BE9550F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CA62-4BCA-42E4-B07D-3E62715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D5B1-F658-45BE-982F-D7A9AB64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4AF8-F24A-4C4C-A5B6-8BA58AB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8CEF-AE88-4ABA-A809-436751A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6084-B6B1-4129-8655-CC2947FA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4BE9-B845-4DC1-90A3-C95DAD5C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C7B0-C45E-47DC-A396-453FA6A3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B834-09B9-459C-8A1A-FC9609AE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ADD5A-8680-43C0-9E97-EEF63B73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C112-33E3-42B7-AFE6-0117227B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8D9-F128-469D-A39F-04A5CB20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F741-588A-4E71-B4AB-77FAADFA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9255-58CF-40E2-9D0D-010B27AF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8469-97F4-43BE-BC86-90BAABCC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D7F5-504A-4017-8F74-BEDD0A5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E01B-D9DF-4028-B916-348EC06A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58AD-4D2C-4697-8BD2-72DF2673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89C6-0345-49B7-8647-E9935F4C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BAF7-FAAE-47F3-BB76-D178373E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0334-BC5C-4872-804C-A094D079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2215-4A82-48BB-A484-0897AA01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250-0785-4F34-81F4-CAD2667E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86B5-AACE-4647-BA94-6360621B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EA4E-FE5E-4EB7-A003-06CEAEB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F928-DF05-4ABE-96AD-F63807B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8D46-7E0D-459E-A219-B7FD71A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A347-B532-4080-AF1E-F330B9CB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1609-926A-482A-B8AE-BFCEF7B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BA37-B59C-4900-AFDF-3176C49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50FC9-AC7D-42CC-8F62-3153E80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36022-62DF-47A1-A4EF-BA6D26C8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802E-9F05-468D-835D-5E121D5E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1DB-1201-4387-8825-B7228B4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0753-D29B-47BE-B10A-4E182DFB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5FC3-6C04-4E0C-838B-0691ED58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A452-40F6-4361-8825-216EF65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26459-A582-455F-9856-309281A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E2C7-8C5B-41AA-AB4F-E6B3653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BDC8-21A7-4161-A6E7-B8F0020D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AFB9-78C8-4391-AD23-0E205D9E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513D-AB69-41C9-9EDC-9ED187B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56C0-16E3-4208-9BB6-D2B6171B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EFF1-6D9A-4062-88CF-2096E65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572-15D8-403B-A78C-3286802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844E7-72EC-4E70-AB8A-36E66BAB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0C5A-05EE-438C-BAE9-0026FDA0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F699-D359-4AD5-A831-3FF1F5F2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221A-EA3E-42BC-998A-5DA8C38D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2FCE3-F620-4EAE-9924-91F8D8B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8E4BB-435B-4AFE-B12A-4DCA735A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79A90-53CF-483A-AA36-4CA1E7C6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37FB6-9ECA-4999-A5E3-9FBD6049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AAAD-41D4-4E0B-BC87-73A2733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445C-BA47-4CEA-827D-266D76EC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59C-53E4-4E82-BE2A-6E5BF5E2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AFA9-3A94-4723-B0D0-6CBFF58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8C97-387B-4BE8-A2C5-F540BAA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6DFCA-0043-48EB-8F2F-CE628712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AFC03-62AF-47DB-942A-AFF4E885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09A6-0F3C-4CAC-BA50-C9B20EA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2F34B-4C97-4D37-983E-E9C58404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B70B4-8AEB-44B4-80C9-35C749D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F320-2A99-4749-A7B0-96C0AD44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2948C-32F0-4383-B906-9A8235A3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34AF-B469-4B4E-B9E3-7D3BACF7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AF5-C01C-4CD3-8671-389ACEA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4A603-DF84-4ECD-8D21-C1AE213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D985-E58A-41F8-B9FF-F9E55C68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5210-1812-4C07-84FA-0E927B2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38A63-7BD8-4A89-8032-0F87EE7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3E6A7-82C4-479E-8044-1F0FD4A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4D6F-0301-437B-923A-2FF8BF6E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E354-7736-4474-B7BF-71B42CD7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B6E97-2119-44E3-B5DD-A2D58802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5F4F5-EE08-4711-B1CF-A6E8A69B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0267C-A6AA-4151-A948-4C6C48C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D010-CC6A-4AF0-B0A1-176107D3D8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44F-C5F6-48DD-B76D-C504A0AA97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F4FC-F0BF-4008-9532-F222BB9594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AA90-7F34-4B95-9C07-D331EA8EA2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5D34-8940-4741-ADE8-B2772108C3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3114-0CB3-40B7-88D7-BA1AEAE837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BB9D-EF1C-4670-9293-71649E8047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330C-F154-4000-82AD-0D3FC57843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6E2E-1657-4B97-B57C-BA713A9C84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35164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3b14"/>
                </a:solidFill>
                <a:latin typeface="Bookman Old Style"/>
                <a:ea typeface="Times New Roman"/>
              </a:rPr>
              <a:t>Цветные пиктограммы к стихотворению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03b14"/>
                </a:solidFill>
                <a:latin typeface="Bookman Old Style"/>
                <a:ea typeface="Times New Roman"/>
              </a:rPr>
              <a:t>«Сколько знаю я дождей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3b14"/>
                </a:solidFill>
                <a:latin typeface="Bookman Old Style"/>
                <a:ea typeface="Times New Roman"/>
              </a:rPr>
              <a:t>В.Михайлов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03b14"/>
                </a:solidFill>
                <a:latin typeface="Bookman Old Style"/>
                <a:ea typeface="Times New Roman"/>
              </a:rPr>
              <a:t>Выполнила учитель-логопед: Майская В. 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знаю я дожд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знаю я дождей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 поскоре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с ветром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грибной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с радугой –дугой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с солнцем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с градом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с рыжим листопадо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ихайл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468360" y="549360"/>
          <a:ext cx="8388360" cy="5761080"/>
        </p:xfrm>
        <a:graphic>
          <a:graphicData uri="http://schemas.openxmlformats.org/drawingml/2006/table">
            <a:tbl>
              <a:tblPr/>
              <a:tblGrid>
                <a:gridCol w="2735280"/>
                <a:gridCol w="2857320"/>
                <a:gridCol w="279576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?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??7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02" name="Рисунок 27" descr="http://raskraska.ucoz.ru/_nw/9/63427628.gif"/>
          <p:cNvPicPr/>
          <p:nvPr/>
        </p:nvPicPr>
        <p:blipFill>
          <a:blip r:embed="rId1"/>
          <a:srcRect l="8067" t="21768" r="5209" b="20433"/>
          <a:stretch/>
        </p:blipFill>
        <p:spPr>
          <a:xfrm>
            <a:off x="900000" y="1341360"/>
            <a:ext cx="2159280" cy="1981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1" descr="http://img1.liveinternet.ru/images/attach/c/4/80/394/80394381_ZNAK_VOPROSA.jpg"/>
          <p:cNvPicPr/>
          <p:nvPr/>
        </p:nvPicPr>
        <p:blipFill>
          <a:blip r:embed="rId2"/>
          <a:srcRect l="22692" t="0" r="22903" b="0"/>
          <a:stretch/>
        </p:blipFill>
        <p:spPr>
          <a:xfrm>
            <a:off x="755640" y="692280"/>
            <a:ext cx="649440" cy="12603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9" descr="http://go3.imgsmail.ru/imgpreview?key=6940363da6e539bd&amp;mb=imgdb_preview_1237"/>
          <p:cNvPicPr/>
          <p:nvPr/>
        </p:nvPicPr>
        <p:blipFill>
          <a:blip r:embed="rId3"/>
          <a:srcRect l="5980" t="7028" r="11452" b="21614"/>
          <a:stretch/>
        </p:blipFill>
        <p:spPr>
          <a:xfrm>
            <a:off x="3780000" y="692280"/>
            <a:ext cx="1581120" cy="13525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0" descr="http://go3.imgsmail.ru/imgpreview?key=6940363da6e539bd&amp;mb=imgdb_preview_1237"/>
          <p:cNvPicPr/>
          <p:nvPr/>
        </p:nvPicPr>
        <p:blipFill>
          <a:blip r:embed="rId4"/>
          <a:srcRect l="5980" t="7028" r="11452" b="21614"/>
          <a:stretch/>
        </p:blipFill>
        <p:spPr>
          <a:xfrm>
            <a:off x="6443640" y="620640"/>
            <a:ext cx="1581120" cy="13525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31" descr="http://go3.imgsmail.ru/imgpreview?key=6940363da6e539bd&amp;mb=imgdb_preview_1237"/>
          <p:cNvPicPr/>
          <p:nvPr/>
        </p:nvPicPr>
        <p:blipFill>
          <a:blip r:embed="rId5"/>
          <a:srcRect l="5980" t="7028" r="11452" b="21614"/>
          <a:stretch/>
        </p:blipFill>
        <p:spPr>
          <a:xfrm>
            <a:off x="971640" y="3500280"/>
            <a:ext cx="1581120" cy="13528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2" descr="http://go3.imgsmail.ru/imgpreview?key=6940363da6e539bd&amp;mb=imgdb_preview_1237"/>
          <p:cNvPicPr/>
          <p:nvPr/>
        </p:nvPicPr>
        <p:blipFill>
          <a:blip r:embed="rId6"/>
          <a:srcRect l="5980" t="7028" r="11452" b="21614"/>
          <a:stretch/>
        </p:blipFill>
        <p:spPr>
          <a:xfrm>
            <a:off x="3851280" y="3500280"/>
            <a:ext cx="1581120" cy="13528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3" descr="http://go3.imgsmail.ru/imgpreview?key=6940363da6e539bd&amp;mb=imgdb_preview_1237"/>
          <p:cNvPicPr/>
          <p:nvPr/>
        </p:nvPicPr>
        <p:blipFill>
          <a:blip r:embed="rId7"/>
          <a:srcRect l="5980" t="7028" r="11452" b="21614"/>
          <a:stretch/>
        </p:blipFill>
        <p:spPr>
          <a:xfrm>
            <a:off x="6659640" y="3500280"/>
            <a:ext cx="1581120" cy="13528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4" descr="http://img0.liveinternet.ru/images/attach/c/1/48/907/48907440_1253435662_grib_b.jpg"/>
          <p:cNvPicPr/>
          <p:nvPr/>
        </p:nvPicPr>
        <p:blipFill>
          <a:blip r:embed="rId8"/>
          <a:srcRect l="0" t="4624" r="0" b="0"/>
          <a:stretch/>
        </p:blipFill>
        <p:spPr>
          <a:xfrm>
            <a:off x="4427640" y="1916280"/>
            <a:ext cx="1404720" cy="14047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5" descr="http://hm-online.ru/wp-content/uploads/2013/05/%D1%80%D0%B0%D0%B4%D1%83%D0%B3%D0%B0.png"/>
          <p:cNvPicPr/>
          <p:nvPr/>
        </p:nvPicPr>
        <p:blipFill>
          <a:blip r:embed="rId9"/>
          <a:stretch/>
        </p:blipFill>
        <p:spPr>
          <a:xfrm>
            <a:off x="6300720" y="2133720"/>
            <a:ext cx="215892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36" descr="http://static.diary.ru/userdir/2/0/5/7/2057974/77426582.jpg"/>
          <p:cNvPicPr/>
          <p:nvPr/>
        </p:nvPicPr>
        <p:blipFill>
          <a:blip r:embed="rId10"/>
          <a:srcRect l="0" t="6581" r="0" b="10522"/>
          <a:stretch/>
        </p:blipFill>
        <p:spPr>
          <a:xfrm>
            <a:off x="1332000" y="4653000"/>
            <a:ext cx="1800000" cy="149220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37" descr="http://s.fraza.ua/images/2011/08/25/gradlvov260811-1.thumb.jpg"/>
          <p:cNvPicPr/>
          <p:nvPr/>
        </p:nvPicPr>
        <p:blipFill>
          <a:blip r:embed="rId11"/>
          <a:stretch/>
        </p:blipFill>
        <p:spPr>
          <a:xfrm>
            <a:off x="3700440" y="4863960"/>
            <a:ext cx="371520" cy="2876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39" descr="http://s.fraza.ua/images/2011/08/25/gradlvov260811-1.thumb.jpg"/>
          <p:cNvPicPr/>
          <p:nvPr/>
        </p:nvPicPr>
        <p:blipFill>
          <a:blip r:embed="rId12"/>
          <a:stretch/>
        </p:blipFill>
        <p:spPr>
          <a:xfrm>
            <a:off x="4492800" y="4937040"/>
            <a:ext cx="371160" cy="2872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0" descr="http://s.fraza.ua/images/2011/08/25/gradlvov260811-1.thumb.jpg"/>
          <p:cNvPicPr/>
          <p:nvPr/>
        </p:nvPicPr>
        <p:blipFill>
          <a:blip r:embed="rId13"/>
          <a:stretch/>
        </p:blipFill>
        <p:spPr>
          <a:xfrm>
            <a:off x="5284800" y="4791240"/>
            <a:ext cx="372960" cy="2872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1" descr="http://s.fraza.ua/images/2011/08/25/gradlvov260811-1.thumb.jpg"/>
          <p:cNvPicPr/>
          <p:nvPr/>
        </p:nvPicPr>
        <p:blipFill>
          <a:blip r:embed="rId14"/>
          <a:stretch/>
        </p:blipFill>
        <p:spPr>
          <a:xfrm>
            <a:off x="4133880" y="5437080"/>
            <a:ext cx="371520" cy="2872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2" descr="http://s.fraza.ua/images/2011/08/25/gradlvov260811-1.thumb.jpg"/>
          <p:cNvPicPr/>
          <p:nvPr/>
        </p:nvPicPr>
        <p:blipFill>
          <a:blip r:embed="rId15"/>
          <a:stretch/>
        </p:blipFill>
        <p:spPr>
          <a:xfrm>
            <a:off x="5138640" y="5364000"/>
            <a:ext cx="378000" cy="2876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43" descr="http://s.fraza.ua/images/2011/08/25/gradlvov260811-1.thumb.jpg"/>
          <p:cNvPicPr/>
          <p:nvPr/>
        </p:nvPicPr>
        <p:blipFill>
          <a:blip r:embed="rId16"/>
          <a:stretch/>
        </p:blipFill>
        <p:spPr>
          <a:xfrm>
            <a:off x="4780080" y="587052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4" descr="http://www.klass39.ru/wp-content/uploads/2013/01/cd3b1cb61fb9.png"/>
          <p:cNvPicPr/>
          <p:nvPr/>
        </p:nvPicPr>
        <p:blipFill>
          <a:blip r:embed="rId17"/>
          <a:srcRect l="3129" t="5978" r="6259" b="29118"/>
          <a:stretch/>
        </p:blipFill>
        <p:spPr>
          <a:xfrm>
            <a:off x="6156360" y="472428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5" descr="http://www.klass39.ru/wp-content/uploads/2013/01/cd3b1cb61fb9.png"/>
          <p:cNvPicPr/>
          <p:nvPr/>
        </p:nvPicPr>
        <p:blipFill>
          <a:blip r:embed="rId18"/>
          <a:srcRect l="3129" t="5978" r="6259" b="29118"/>
          <a:stretch/>
        </p:blipFill>
        <p:spPr>
          <a:xfrm>
            <a:off x="7956720" y="4581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46" descr="http://www.klass39.ru/wp-content/uploads/2013/01/cd3b1cb61fb9.png"/>
          <p:cNvPicPr/>
          <p:nvPr/>
        </p:nvPicPr>
        <p:blipFill>
          <a:blip r:embed="rId19"/>
          <a:srcRect l="3129" t="5978" r="6259" b="29118"/>
          <a:stretch/>
        </p:blipFill>
        <p:spPr>
          <a:xfrm>
            <a:off x="7093080" y="4941720"/>
            <a:ext cx="718920" cy="5749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7" descr="http://www.klass39.ru/wp-content/uploads/2013/01/cd3b1cb61fb9.png"/>
          <p:cNvPicPr/>
          <p:nvPr/>
        </p:nvPicPr>
        <p:blipFill>
          <a:blip r:embed="rId20"/>
          <a:srcRect l="3129" t="5978" r="6259" b="29118"/>
          <a:stretch/>
        </p:blipFill>
        <p:spPr>
          <a:xfrm>
            <a:off x="6372360" y="551664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48" descr="http://www.klass39.ru/wp-content/uploads/2013/01/cd3b1cb61fb9.png"/>
          <p:cNvPicPr/>
          <p:nvPr/>
        </p:nvPicPr>
        <p:blipFill>
          <a:blip r:embed="rId21"/>
          <a:srcRect l="3129" t="5978" r="6259" b="29118"/>
          <a:stretch/>
        </p:blipFill>
        <p:spPr>
          <a:xfrm>
            <a:off x="7812000" y="5589720"/>
            <a:ext cx="72072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520" y="1197000"/>
            <a:ext cx="8458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Bookman Old Style"/>
              </a:rPr>
              <a:t>Использованная литератур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Bookman Old Style"/>
              </a:rPr>
              <a:t>Ю. Козлова «Я учусь запоминать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9:11:09Z</dcterms:created>
  <dc:creator>Samsung</dc:creator>
  <dc:description/>
  <dc:language>en-US</dc:language>
  <cp:lastModifiedBy>Samsung</cp:lastModifiedBy>
  <dcterms:modified xsi:type="dcterms:W3CDTF">2015-01-25T09:36:35Z</dcterms:modified>
  <cp:revision>3</cp:revision>
  <dc:subject/>
  <dc:title>Слайд 1</dc:title>
</cp:coreProperties>
</file>