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8A5-DFE4-4F59-9F80-AE3B0E17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D5A-922F-46DD-89DB-151807FC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04E-E9DF-4486-9971-D9F47262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BB3-894E-4DA6-A562-94D97DDE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CCF-111F-400C-A2E0-6EF80290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709-94B9-4CE4-89CF-D16EC5D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D05-84B2-4469-9708-184E0266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48C-AF5A-461D-8A47-225E5DF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02A-D172-48A8-8C54-7BD96EFF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AFD7-432A-4E41-A635-B9D7F6DB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A58-76C4-4D4D-957B-9F9A562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05D-EE5B-4DC4-BF9E-5E64F3A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1CFE-C91B-4593-A06B-740C25AD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F611-BD6A-4829-8C9F-78DC558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19A0-D01A-4C67-8874-9E8926D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148-4C8E-4134-AD03-3779D5AD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C395-CC7E-423E-89A2-45045598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861-612E-405F-A47F-C29779F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4F9-9026-4041-97A7-CE50D4B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915-C084-400C-A06E-49399A7C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0A1-5418-447B-AAD0-696C450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F89-A9DA-4925-AFA6-F1D74FB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E2F-DAA9-4BAC-9DEE-6B80844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42E-D60E-4EE2-9179-9E00E6F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3F4-EC18-4CE0-A180-34AFC3006E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30A-DAA7-4AA3-B2EE-AE9C6A1A04A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Организация работы по воспитанию у детей сознательной дисциплины и культуры поведения</a:t>
            </a: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иразеева Гульдауся Рафаилев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имер педагога, взрослы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Line 4"/>
          <p:cNvSpPr/>
          <p:nvPr/>
        </p:nvSpPr>
        <p:spPr>
          <a:xfrm flipH="1">
            <a:off x="1332000" y="1413000"/>
            <a:ext cx="576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91200" y="236376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внешний обл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492360" y="1557360"/>
            <a:ext cx="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195640" y="2868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поступки и сужд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5435640" y="1557360"/>
            <a:ext cx="0" cy="719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995640" y="236376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вежливый спокойный то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6877080" y="1413000"/>
            <a:ext cx="1008000" cy="158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732720" y="3068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справедлив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отношение к окружающи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Picture 15" descr="учитт"/>
          <p:cNvPicPr/>
          <p:nvPr/>
        </p:nvPicPr>
        <p:blipFill>
          <a:blip r:embed="rId1"/>
          <a:stretch/>
        </p:blipFill>
        <p:spPr>
          <a:xfrm>
            <a:off x="3348000" y="3573360"/>
            <a:ext cx="20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2143080" y="142884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ест: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«Хороший   ли ты педагог?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5979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Ваш ребенок шаловливый, озорной, хлопот с ним хватает, чего только не случается: то вернется домой с разодранными штанами, то с синяком.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вы расспрашиваете, что случилось, зашиваете штаны, прикладываете компресс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оказываете помощь ребенку, но журите, говорите, что в один прекрасный  момент  его  шалости  могут  ему  дорого  обойтись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вообще не обращаете на него внимания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19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У ребенка есть друзья, но они непослушны, дурно воспитаны.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вы разговариваете с их родителями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2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зовете детей в дом, стараетесь повлиять на них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объясняете своему ребенку, в чем состоят недостатки его друзей, почему они для него являются дурным примером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21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 Ребенок любит играть, но не умеет проигрывать. Как вы поступит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вы ничего не предпринимаете, пусть сам научится проигрывать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отказываетесь с ним играть до тех пор, пока он будет так болезненно воспринимать поражение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умышленно создаете такие ситуации, в которых он научился бы проигрывать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0" y="21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Ваш ребенок мог бы играть все 24 часа в сутки. По вечерам он вообще не хочет идти спать. Что вы предпринимает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позволяете, чтобы он ложился, когда захочет, но утром заставляете вставать вовремя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вы объясняете ребенку, как важен сон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укладываете его в постель в определенное время и оставляете одного. Сказку рассказываете только тогда, когда он хорошо ведет себя днем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0" y="3168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Детских телепередач ему уже недостаточно, он может смотреть телевизор целый день.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после детской программы он ложится спать, а вы включаете телевизор после того, как он заснул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говорите с ним о том, что ему можно смотреть, а что нет, так, чтобы он понял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2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выбираете для него некоторые передачи сами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) определяете, сколько часов он может смотреть телевизор, но он сам может решить, когда и что ему смотреть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0" y="194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. Ребенок ваш достаточно дерзок, за словом в карман не полезет.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объясняете, что такое поведение неприлично, что люди его за это осудят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запрещаете ему дерзить и строго наказываете за ослушание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каждый день, когда он ведет себя прилично, поощряете его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26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. Вашему ребенку еще немного лет, но он уже интересуется противоположным полом.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оставляете все как есть, ведь в этом возрасте это безобид-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о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пытаетесь пресечь детскую влюбленность, если она возникает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по-деловому объясняете, что такое любовь, и какими должны быть отношения между мужчиной и женщиной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0" y="21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8. Другие дети преследуют вашего ребенка: бьют его, насмехаются над ним. Как вы поступает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учите его давать сдачи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разговариваете с родителями обидчиков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стараетесь организовать жизнь ребенка таким образом, чтобы он избегал конфликтов с этими детьми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0 оч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357120" y="642960"/>
            <a:ext cx="65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Дисциплина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– обязательное для всех членов какого-нибудь коллектива подчинение установленному порядку, правилу»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http://kov.my1.ru/pictures/for_site3.jpg"/>
          <p:cNvPicPr/>
          <p:nvPr/>
        </p:nvPicPr>
        <p:blipFill>
          <a:blip r:embed="rId1"/>
          <a:stretch/>
        </p:blipFill>
        <p:spPr>
          <a:xfrm>
            <a:off x="5715000" y="3000240"/>
            <a:ext cx="3429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0" y="21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9. Вы создаете старшему сыну (дочери) все необходимые условия. Но он (она) ничего не ценит, обижает младшего брата (сестренку). Что вы предпринимает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призываете к благоразумию, обычно в присутствии младших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уделяете ему больше внимания, независимо от того, что он старше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3 очк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вообще не вмешиваетесь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1 очк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241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0. Если ваш ребенок грубит, не способен сопереживать, нападает на других детей, какими будут ваши действ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вы считаете: как он относится к другим, так и вы к нему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0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стремитесь  оказывать  ему больше внимания, чем до сих пор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5 очко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запрещаете ему смотреть фильмы, в которых демонстрируется насилие,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2 оч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44000" cy="418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66"/>
                </a:solidFill>
                <a:latin typeface="Verdana"/>
              </a:rPr>
              <a:t>Спасибо за    внимание!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162864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нятие «культура поведения» можно определить как совокупность полезных для общества устойчивых форм повседневного поведения в быту, в общении, в различных видах деятель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097360" y="404640"/>
            <a:ext cx="54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Verdana"/>
              </a:rPr>
              <a:t>Культура поведен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Правила точности и обязательности"/>
          <p:cNvPicPr/>
          <p:nvPr/>
        </p:nvPicPr>
        <p:blipFill>
          <a:blip r:embed="rId1"/>
          <a:stretch/>
        </p:blipFill>
        <p:spPr>
          <a:xfrm>
            <a:off x="4786200" y="3571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ttp://ermakova76.ucoz.ru/pedagogika.png"/>
          <p:cNvPicPr/>
          <p:nvPr/>
        </p:nvPicPr>
        <p:blipFill>
          <a:blip r:embed="rId1"/>
          <a:stretch/>
        </p:blipFill>
        <p:spPr>
          <a:xfrm>
            <a:off x="0" y="642960"/>
            <a:ext cx="3071880" cy="2643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2286000" y="28584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омпоненты культуры       поведен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3071880" y="1571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Культура деятель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Задачи воспитания культуры поведения"/>
          <p:cNvPicPr/>
          <p:nvPr/>
        </p:nvPicPr>
        <p:blipFill>
          <a:blip r:embed="rId2"/>
          <a:stretch/>
        </p:blipFill>
        <p:spPr>
          <a:xfrm>
            <a:off x="6929280" y="2000160"/>
            <a:ext cx="2071800" cy="29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Основные правила культурного поведения. Правила личной гигиены, аккуратности и опрятности"/>
          <p:cNvPicPr/>
          <p:nvPr/>
        </p:nvPicPr>
        <p:blipFill>
          <a:blip r:embed="rId3"/>
          <a:stretch/>
        </p:blipFill>
        <p:spPr>
          <a:xfrm>
            <a:off x="142920" y="42861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7"/>
          <p:cNvSpPr/>
          <p:nvPr/>
        </p:nvSpPr>
        <p:spPr>
          <a:xfrm>
            <a:off x="2786040" y="521496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Культурно-гигиенические навыки и привыч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3092400" y="32860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Verdana"/>
              </a:rPr>
              <a:t>Культура общ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Культура деятель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Line 5"/>
          <p:cNvSpPr/>
          <p:nvPr/>
        </p:nvSpPr>
        <p:spPr>
          <a:xfrm flipH="1">
            <a:off x="1642680" y="857160"/>
            <a:ext cx="934920" cy="505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11280" y="15001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на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уроках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4286160" y="928800"/>
            <a:ext cx="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492360" y="15717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в игра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6000840" y="785880"/>
            <a:ext cx="64764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572160" y="157176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в выполнении трудовых     поручен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71840" y="25718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99"/>
                </a:solidFill>
                <a:uFillTx/>
                <a:latin typeface="Verdana"/>
              </a:rPr>
              <a:t>Воспитывать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50920" y="3071880"/>
            <a:ext cx="5249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мение содержать в порядке рабочее место, где ребенок занимается, трудитьс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ычку доводить начатое дело до конц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ережно относиться к вещам, книгам и д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755360" y="4092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http://ermakova76.ucoz.ru/pedagogika.png"/>
          <p:cNvPicPr/>
          <p:nvPr/>
        </p:nvPicPr>
        <p:blipFill>
          <a:blip r:embed="rId1"/>
          <a:stretch/>
        </p:blipFill>
        <p:spPr>
          <a:xfrm>
            <a:off x="5143680" y="3143160"/>
            <a:ext cx="3686040" cy="3262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http://ermakova76.ucoz.ru/pedagogika.png"/>
          <p:cNvPicPr/>
          <p:nvPr/>
        </p:nvPicPr>
        <p:blipFill>
          <a:blip r:embed="rId2"/>
          <a:stretch/>
        </p:blipFill>
        <p:spPr>
          <a:xfrm>
            <a:off x="5143680" y="3143160"/>
            <a:ext cx="36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Культура общения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6429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Формы обращения к старшим и сверстникам при встрече и расставани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950760" y="2266920"/>
            <a:ext cx="61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Приемы обращения с просьбой, вопросом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Умение просить извинени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Правила поведения в общественных места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Правила поведения в гостя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Правила поведения при знакомстве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Умение спокойно, правильно реагироват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на замечания, не вступая в пререк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6" descr="Задачи воспитания культуры поведения"/>
          <p:cNvPicPr/>
          <p:nvPr/>
        </p:nvPicPr>
        <p:blipFill>
          <a:blip r:embed="rId1"/>
          <a:stretch/>
        </p:blipFill>
        <p:spPr>
          <a:xfrm>
            <a:off x="7072200" y="3357720"/>
            <a:ext cx="2071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428760" y="2858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Культурно-гигиенические навыки и привычк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571680" y="1785960"/>
            <a:ext cx="50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мыватьс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истить зуб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чесыватьс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лать утреннюю гимнастику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держать в чистоте свою одежду и др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2" descr="Основные правила культурного поведения. Правила личной гигиены, аккуратности и опрятности"/>
          <p:cNvPicPr/>
          <p:nvPr/>
        </p:nvPicPr>
        <p:blipFill>
          <a:blip r:embed="rId1"/>
          <a:stretch/>
        </p:blipFill>
        <p:spPr>
          <a:xfrm>
            <a:off x="5643720" y="2786040"/>
            <a:ext cx="3247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ff"/>
                </a:solidFill>
                <a:latin typeface="Verdana"/>
              </a:rPr>
              <a:t>Методы диагностика культуры повед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1643040"/>
            <a:ext cx="66978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Наблюдени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Беседы с родителя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Анкетирование родителей,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Экспериментальные методи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95280" y="227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12" descr="http://s2.ipicture.ru/uploads/20130627/3YTm1R4Q.jpg"/>
          <p:cNvPicPr/>
          <p:nvPr/>
        </p:nvPicPr>
        <p:blipFill>
          <a:blip r:embed="rId1"/>
          <a:stretch/>
        </p:blipFill>
        <p:spPr>
          <a:xfrm>
            <a:off x="3952800" y="3429000"/>
            <a:ext cx="5191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Методы и приемы воспитания культуры повед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5480" y="1773000"/>
            <a:ext cx="635796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Пример педагога, взрослых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Этические бесед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Речевые логические задач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Задачи практического характер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южетно-ролевые игры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овместная деятельность дет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7" descr="http://grifit-ltd.ru/published/publicdata/GRIFITLTGRIFITWEB/attachments/SC/products_pictures/01798_enl.jpg"/>
          <p:cNvPicPr/>
          <p:nvPr/>
        </p:nvPicPr>
        <p:blipFill>
          <a:blip r:embed="rId1"/>
          <a:stretch/>
        </p:blipFill>
        <p:spPr>
          <a:xfrm>
            <a:off x="5929200" y="1571760"/>
            <a:ext cx="2928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7:33:37Z</dcterms:created>
  <dc:creator>student</dc:creator>
  <dc:description/>
  <dc:language>en-US</dc:language>
  <cp:lastModifiedBy>Kaf</cp:lastModifiedBy>
  <dcterms:modified xsi:type="dcterms:W3CDTF">2014-11-18T12:51:14Z</dcterms:modified>
  <cp:revision>52</cp:revision>
  <dc:subject/>
  <dc:title>Воспитание культуры поведения младших школьников</dc:title>
</cp:coreProperties>
</file>