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7.png" ContentType="image/png"/>
  <Override PartName="/ppt/media/image8.png" ContentType="image/png"/>
  <Override PartName="/ppt/media/image6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B718-4E17-41FB-98AD-4FA1253F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1FB-F3D2-4180-94C0-31816E05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53DA-88F0-48D6-AAE8-81BFFFF2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9538-07FF-46D5-B414-BB390FA3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5DB6-DF44-48D3-B1CE-0A091557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F73B-0865-4D0A-A6E8-972951DD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D884-E9F4-49BC-925F-CA46E27E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5C5F-767A-41E7-B0C8-4838DA4A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93C7-6B45-4A60-BC16-0840696B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DFA6-B95A-4695-9DC8-3EA6BF37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4385-2705-4FAD-915C-5072CE05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6967-2AFC-428C-890D-8C408FB9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1B43-4CDD-4C6E-B6FB-CA7D5102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5CF2-D3F7-4EAD-AC66-0D54A111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7C87-3A8C-4151-B955-DA934635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37E0-675C-424A-B523-525E32F1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A385-E919-441F-9EB0-820B77CA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BA4C7-EE0B-4D56-B8C4-4A487C1C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15DBF-DE08-412F-9C29-BE59ADF2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A00F3-0F93-4C2E-BF0F-71F97EB5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C0BB6-0525-446A-A594-B5407B04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17853-80A7-40F4-9155-902E0C6C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382-6C22-4863-9D36-D8D07006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872EE-AD33-41CB-8047-1515E5A3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D8E7C-4F21-427E-89F2-55F10F09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D6950-596A-45FF-869C-8820750C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ED7FC-D68E-4BD0-ACA6-CCDC26F4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F1616-86A6-4AF3-BC52-E987250C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506E8-8553-43F7-80A5-C27C93A8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B0F97-25A2-4C15-870A-C53D1F04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44375-14DA-4512-97DA-340CD080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F4436-833A-4732-ACED-B2B5D727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9EB67-FD92-4813-813E-B9350449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088-D88F-4255-943A-3ED3A4C7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C01BE-D140-4809-BA05-F4030BF4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EB155-00BC-4CDD-B31F-FF17052E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4FF42-BDBA-41D3-802F-44B8ED71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DC995-75A6-4D02-BE41-32508EE6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3F8AE-4577-43BC-A439-472132CB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3EBA9-CB25-4E9C-9B29-4D46DBBD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72476-602C-4107-BD23-56FFD7EC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5B185-5CAD-4685-B601-CB16C2B7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E49D4-A8C5-49ED-B3C0-665F2492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91815-684F-43C3-97BF-95E6912F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40DE-F3B7-4C61-8B53-2CD1B33F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475E8-227C-42B5-8AC3-79B881BC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CC3FB-5DD7-46CF-9D3D-C02D3810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681C2-220E-4889-A12A-EF4BC505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16BAE-B7E1-46F4-BCFF-FEB18961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04DC4-28B6-4899-B0C2-5AAD7541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3E481-EB53-4653-9C1B-9684542C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7AF91-581F-470E-9AD2-E551DDB6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75A3B-AE4E-4F58-A8CD-D67DE05E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90C33-38C8-41BE-B03C-1F2D3864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6385D-8494-46FE-8042-305F9138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BF08-7DA3-4025-830F-3DFBBF1F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01A86-76A8-45EE-AB85-675648F3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5699-7E68-4F25-B24C-2669EC84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57EA-9C14-4C69-9BF0-43F9C41C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F36-66D0-4FEA-A4E7-DCF3BD65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6B55-FC20-4CA1-8C13-EA5B8ACD42A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63DA-94AF-4676-8E2D-D74267EAB95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DE02-76B0-4DFC-8AF8-FE1D59569EE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6CFE-BF55-4154-98A4-24B209D124B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DF80-F4C1-45BD-8E12-A13813F10FB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433440" y="1127160"/>
            <a:ext cx="8601120" cy="33116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780000" y="4653000"/>
            <a:ext cx="5114880" cy="153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rebuchet MS"/>
              </a:rPr>
              <a:t>Трофименко С.А., инструктор по физической культуре первой квалификационной категории МКДОУ детского сада «Сказка» г. Тайшета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68360" y="836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емейные физкультурные праздники проходят очень эмоционально. Игры отличаются своей динамичностью и простотой, так как рассчитаны на любой возраст участников и не требуют дополнительного времени на разучивание. Посещая совместные мероприятия, папы и мамы открывают новое в своем ребенке, наблюдают за  детским коллективом, укрепляя тем самым семейные отнош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242120" cy="1371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C:\Users\user\Desktop\Рисунок4.jpg"/>
          <p:cNvPicPr/>
          <p:nvPr/>
        </p:nvPicPr>
        <p:blipFill>
          <a:blip r:embed="rId2"/>
          <a:stretch/>
        </p:blipFill>
        <p:spPr>
          <a:xfrm>
            <a:off x="611280" y="1727280"/>
            <a:ext cx="7408800" cy="5130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4" descr="C:\Users\user\Desktop\Рисунок5.jpg"/>
          <p:cNvPicPr/>
          <p:nvPr/>
        </p:nvPicPr>
        <p:blipFill>
          <a:blip r:embed="rId1"/>
          <a:stretch/>
        </p:blipFill>
        <p:spPr>
          <a:xfrm>
            <a:off x="250920" y="93600"/>
            <a:ext cx="8134200" cy="6670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69800" y="165240"/>
            <a:ext cx="7326360" cy="1011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C:\Users\user\Desktop\през\0.jpg"/>
          <p:cNvPicPr/>
          <p:nvPr/>
        </p:nvPicPr>
        <p:blipFill>
          <a:blip r:embed="rId2"/>
          <a:stretch/>
        </p:blipFill>
        <p:spPr>
          <a:xfrm>
            <a:off x="539640" y="1268280"/>
            <a:ext cx="7527960" cy="558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C:\Users\user\Desktop\през\1.jpg"/>
          <p:cNvPicPr/>
          <p:nvPr/>
        </p:nvPicPr>
        <p:blipFill>
          <a:blip r:embed="rId1"/>
          <a:stretch/>
        </p:blipFill>
        <p:spPr>
          <a:xfrm>
            <a:off x="108000" y="115920"/>
            <a:ext cx="86756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396720" y="128520"/>
            <a:ext cx="7236000" cy="919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C:\Users\user\Desktop\през\2.jpg"/>
          <p:cNvPicPr/>
          <p:nvPr/>
        </p:nvPicPr>
        <p:blipFill>
          <a:blip r:embed="rId2"/>
          <a:stretch/>
        </p:blipFill>
        <p:spPr>
          <a:xfrm>
            <a:off x="468360" y="1197000"/>
            <a:ext cx="770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358640"/>
          </a:xfrm>
          <a:prstGeom prst="rect">
            <a:avLst/>
          </a:prstGeom>
          <a:ln w="0">
            <a:noFill/>
          </a:ln>
        </p:spPr>
      </p:pic>
      <p:pic>
        <p:nvPicPr>
          <p:cNvPr id="246" name="Объект 3" descr=""/>
          <p:cNvPicPr/>
          <p:nvPr/>
        </p:nvPicPr>
        <p:blipFill>
          <a:blip r:embed="rId2"/>
          <a:stretch/>
        </p:blipFill>
        <p:spPr>
          <a:xfrm>
            <a:off x="406440" y="1558800"/>
            <a:ext cx="7340400" cy="4948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450720" y="542880"/>
            <a:ext cx="7699680" cy="4810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4" descr=""/>
          <p:cNvPicPr/>
          <p:nvPr/>
        </p:nvPicPr>
        <p:blipFill>
          <a:blip r:embed="rId1"/>
          <a:stretch/>
        </p:blipFill>
        <p:spPr>
          <a:xfrm>
            <a:off x="146160" y="2425680"/>
            <a:ext cx="885168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4" name="Picture 5" descr="C:\Users\user\Desktop\Рисунок1.jpg"/>
          <p:cNvPicPr/>
          <p:nvPr/>
        </p:nvPicPr>
        <p:blipFill>
          <a:blip r:embed="rId1"/>
          <a:stretch/>
        </p:blipFill>
        <p:spPr>
          <a:xfrm>
            <a:off x="12600" y="368280"/>
            <a:ext cx="9058320" cy="6121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68000" y="333000"/>
            <a:ext cx="7713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Вырастить ребенка сильным, крепким, здоровым – это желание родителей и одна из ведущих задач, стоящих перед дошкольным учреждением. Ведь  это значит заложить фундамент в развитии здорового поколения в будущем.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68000" y="475920"/>
            <a:ext cx="75596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Главной и общей целью родителей и воспитателей является воспитание развитого ребёнка. Эта цель может быть достигнута только в результате грамотно  организованного плодотворного взаимодействия родителей и сотрудников ДО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вместная работа с семьей по воспитанию здорового ребенка строится на принципах, определяющих   её содержание, организацию и методик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242120" cy="1371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ндивидуальный подход к каждому ребёнку и каждой семь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истемность и последовательность работ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Единство. Оно достигается в том случае, если цели и задачи воспитания здорового ребенка понятны и воспитателям  и родителя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549360"/>
            <a:ext cx="749952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ложительных результатов в воспитании здорового ребенка можно достичь лишь при тесном эффективном сотрудничестве педагогов с семьей. Поэтому поставили перед собой цель – привлечь родителей к совместной активной деятельности в вопросах физического воспитани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 работе по физическому воспитанию, организованной с семьями воспитанников, используются разнообразные формы, средства и метод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иболее интересными и продуктивными являются следующие формы работы: спортивные праздники и физкультурные досуги с участием детей, родителей и педагогов; дни открытых дверей; консультации; семинары – практикум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68360" y="981000"/>
            <a:ext cx="72388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Физкультурные   праздники  - одна из наиболее ярких и запоминающихся форм приобщения семей к здоровому образу жизни и физической культуре. Совместные праздники позволяют и взрослым, и детям раскрепоститься, сплачивают детско – взрослый коллектив, повышают эмоциональный настрой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Это одна из форм активного отдыха, больше всего любимая детьми и взрослыми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9280" y="90756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Такая форма взаимодействия оказывает комплексное влияние на формирование личности ребенка, улучшает взаимоотношения в семье, коллективе групп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В ходе  проведения соревнования воспитываются самостоятельность, целеустремленность  в достижении победы, чувства товарищества и ответственности перед коллективо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7327800" cy="1756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C:\Users\user\Desktop\Рисунок3.jpg"/>
          <p:cNvPicPr/>
          <p:nvPr/>
        </p:nvPicPr>
        <p:blipFill>
          <a:blip r:embed="rId2"/>
          <a:stretch/>
        </p:blipFill>
        <p:spPr>
          <a:xfrm>
            <a:off x="0" y="1628640"/>
            <a:ext cx="5996160" cy="5097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C:\Users\user\Desktop\Рисунок2.jpg"/>
          <p:cNvPicPr/>
          <p:nvPr/>
        </p:nvPicPr>
        <p:blipFill>
          <a:blip r:embed="rId3"/>
          <a:stretch/>
        </p:blipFill>
        <p:spPr>
          <a:xfrm>
            <a:off x="2987640" y="2249640"/>
            <a:ext cx="5985000" cy="46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12:40:00Z</dcterms:created>
  <dc:creator>User</dc:creator>
  <dc:description/>
  <dc:language>en-US</dc:language>
  <cp:lastModifiedBy>user</cp:lastModifiedBy>
  <dcterms:modified xsi:type="dcterms:W3CDTF">2015-03-03T07:35:12Z</dcterms:modified>
  <cp:revision>16</cp:revision>
  <dc:subject/>
  <dc:title>Требования ФГОС к взаимодействию педагогов и родителей, как участников образовательных отношений.  Трофименко. С.А.</dc:title>
</cp:coreProperties>
</file>