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9D6-7834-483F-9346-7CD859A2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6F2-9039-4818-926E-36E4D41A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015-6F5F-4477-B589-A1322A8F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801-E12D-4DAF-9E8A-5D46CE0D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BEA-12C2-4C9E-9956-C04D903F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0C4-F7E9-4D72-A2BC-9C886987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6E1-8883-4A5B-A0AB-4CDF130C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8A6-1C7A-4BE2-8F8E-E9490AD3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4DD-C451-4601-9CED-ED42CE81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107-2A84-4B2F-B5DE-80E2EBFF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0E7-52D8-4A4A-8043-B0756250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DCC-0EA6-4460-904B-CB3F60F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AEA3-B457-4F41-9F0D-3BDB1910B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66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1128600" y="955800"/>
            <a:ext cx="10323720" cy="3827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2371680" cy="36385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"/>
          <p:cNvPicPr/>
          <p:nvPr/>
        </p:nvPicPr>
        <p:blipFill>
          <a:blip r:embed="rId3"/>
          <a:stretch/>
        </p:blipFill>
        <p:spPr>
          <a:xfrm>
            <a:off x="2550960" y="0"/>
            <a:ext cx="9279000" cy="11764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322200" y="4957920"/>
            <a:ext cx="5586480" cy="16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"Шукшин - закодированный писатель. Затронутые им проблемы, загадки человеческого духа дают работу нашему уму и сердцу - для самопонимания и самовоскрешения; они не устаревают, они вечны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                                                  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. Горыш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5" descr=""/>
          <p:cNvPicPr/>
          <p:nvPr/>
        </p:nvPicPr>
        <p:blipFill>
          <a:blip r:embed="rId4"/>
          <a:stretch/>
        </p:blipFill>
        <p:spPr>
          <a:xfrm>
            <a:off x="4335480" y="3963960"/>
            <a:ext cx="7856640" cy="9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img0.liveinternet.ru/images/attach/c/1/60/941/60941780_KNIGA1.jpg"/>
          <p:cNvPicPr/>
          <p:nvPr/>
        </p:nvPicPr>
        <p:blipFill>
          <a:blip r:embed="rId5"/>
          <a:stretch/>
        </p:blipFill>
        <p:spPr>
          <a:xfrm>
            <a:off x="9669600" y="5197320"/>
            <a:ext cx="1795320" cy="1195560"/>
          </a:xfrm>
          <a:prstGeom prst="rect">
            <a:avLst/>
          </a:prstGeom>
          <a:ln w="0">
            <a:noFill/>
          </a:ln>
        </p:spPr>
      </p:pic>
      <p:pic>
        <p:nvPicPr>
          <p:cNvPr id="47" name="Evgeniy-Svetlanov-Kalina-krasnaya-simfonicheskaya-poema-pamyati-V-M-Shukshina-dlya-orkestra-ch-1(muzofon.com).mp3" descr=""/>
          <p:cNvPicPr/>
          <p:nvPr/>
        </p:nvPicPr>
        <p:blipFill>
          <a:blip r:embed="rId6"/>
          <a:stretch/>
        </p:blipFill>
        <p:spPr>
          <a:xfrm>
            <a:off x="428760" y="4205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220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55220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552203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66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9360"/>
          <a:ext cx="12192120" cy="6927840"/>
        </p:xfrm>
        <a:graphic>
          <a:graphicData uri="http://schemas.openxmlformats.org/drawingml/2006/table">
            <a:tbl>
              <a:tblPr/>
              <a:tblGrid>
                <a:gridCol w="4433760"/>
                <a:gridCol w="3694320"/>
                <a:gridCol w="4064040"/>
              </a:tblGrid>
              <a:tr h="142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опро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твет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обрый сове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35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чем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5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до л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5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738360" y="2044800"/>
            <a:ext cx="3449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 душах людей так много   накопилось зл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047600" y="356076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отивостоять злу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0" y="4707000"/>
            <a:ext cx="430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может помочь человеку преодолеть искушение   творить зл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872640" y="616104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градить себя от  з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66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817560" y="558720"/>
            <a:ext cx="1032840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bab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63480" y="104616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Удивил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419200" y="104760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биде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 flipH="1">
            <a:off x="4395960" y="1047600"/>
            <a:ext cx="21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терп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6400800" y="1047600"/>
            <a:ext cx="23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сми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8053560" y="1076400"/>
            <a:ext cx="29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про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2549520" y="1906560"/>
            <a:ext cx="27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оскорб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2614680" y="281448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оскорб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2522520" y="3598920"/>
            <a:ext cx="19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злоб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2311560" y="4459320"/>
            <a:ext cx="50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готов мст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2473200" y="5342040"/>
            <a:ext cx="42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ет уб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8717040" y="138744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675480" y="134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87840" y="1325520"/>
            <a:ext cx="27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2575080" y="1341360"/>
            <a:ext cx="16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3475080" y="18288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459240" y="3627360"/>
            <a:ext cx="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475080" y="530388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459240" y="2803680"/>
            <a:ext cx="0" cy="10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459240" y="438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66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47720" y="1176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33"/>
                </a:solidFill>
                <a:latin typeface="Times New Roman"/>
              </a:rPr>
              <a:t>«Я говорю вам: любите врагов ваших, благословляйте проклинающих вас, благотворите ненавидящим вас и молитесь за обижающих вас и гонящих вас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33"/>
                </a:solidFill>
                <a:latin typeface="Times New Roman"/>
              </a:rPr>
              <a:t>(ЛК 6:27-2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c0e4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8040" y="37296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030320" y="1227240"/>
            <a:ext cx="9968040" cy="44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брые совет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66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731880" y="1523880"/>
            <a:ext cx="2373120" cy="36403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4237200" y="520560"/>
            <a:ext cx="756108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«Не  было  у  нас  за  последние  десятилетия   такого художника, который бы столь уверенно и беспощадно врывался во всякую человеческую душу и предлагал ей проверить, что она есть, в каких просторах и далях она заблудилась, какому поддалась соблазну или, напротив, что помогло ей выстоять и остаться в верности и в чистоте.  Читателем и зрителем Василия  Шукшина остаётся  вся  Россия, от самых высоких умов до самых падших, его  талант – это,  прежде  всего,  голос  взыскующей  совест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                                                       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. Распу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"Шукшин сумел задеть нас за живое, пробиться в наши души и заставить нас потрясенно спросить: "Что с нами происходит? Не щадил себя, торопился, чтобы успеть сказать  правду  и  этой  правдой сблизить людей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                            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. Гор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Evgeniy-Svetlanov-Kalina-krasnaya-simfonicheskaya-poema-pamyati-V-M-Shukshina-dlya-orkestra-ch-1(muzofon.com).mp3" descr=""/>
          <p:cNvPicPr/>
          <p:nvPr/>
        </p:nvPicPr>
        <p:blipFill>
          <a:blip r:embed="rId2"/>
          <a:stretch/>
        </p:blipFill>
        <p:spPr>
          <a:xfrm>
            <a:off x="457200" y="588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52203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55220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20:53:07Z</dcterms:created>
  <dc:creator>DNA7 X86</dc:creator>
  <dc:description/>
  <dc:language>en-US</dc:language>
  <cp:lastModifiedBy>данилова татьяна владимировна</cp:lastModifiedBy>
  <dcterms:modified xsi:type="dcterms:W3CDTF">2007-04-30T23:39:33Z</dcterms:modified>
  <cp:revision>55</cp:revision>
  <dc:subject/>
  <dc:title>Презентация PowerPoint</dc:title>
</cp:coreProperties>
</file>