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237F-9099-421A-A50C-27B0128746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3345-B9D6-4C40-8063-887A99A97C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308A-F72C-4451-B568-3012FD6618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AA6B-2479-4A05-AABB-E4CAEC3E832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90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850F-D349-4240-8799-270FA604A1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06F9-B66B-4B4E-B8B7-1074CA0962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txBody>
          <a:bodyPr tIns="-44280" bIns="-90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ahoma"/>
              </a:rPr>
              <a:t>Системно-деятельностный подход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ahoma"/>
              </a:rPr>
              <a:t>служит основой  реализации основной образовательной программы начального общего образования  и предполагает ориентацию на достижение основного результата – развитие личности обучающегося на основе универсальных учебных действий познания и освоения мира, признание  решающей роли содержания образования и способов организации образовательной деятельности и учебного сотрудничества в достижении целей личностного и социального развития обучающих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E4B2-BD61-4707-AAFB-E0A3F9709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EF3E-8DCC-4CFB-8C60-32714AA8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E599-2994-4797-A265-204AD980C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FBAB-A4B0-4FC8-B284-02C5A0AE1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700B-896B-4101-A1AE-46D022B2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E767-70F0-4CF1-81D4-193A7925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0E68-048C-497A-B03C-9FFF746E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51AD-5D26-4AA6-AB7E-46457B62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A6FF-543F-4F47-913E-8C70C946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0437-224E-4326-8373-DA9F55C4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3E95-39E1-4FB4-82F4-B916B34A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3228-9876-4F7B-9056-660F5A69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AF44-6B55-42BB-8835-F216C8AE99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prodalit.ru/images/435000/431176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920" y="981000"/>
            <a:ext cx="7120080" cy="4392720"/>
          </a:xfrm>
          <a:prstGeom prst="rect">
            <a:avLst/>
          </a:prstGeom>
          <a:noFill/>
          <a:ln w="57240">
            <a:solidFill>
              <a:srgbClr val="c3d69b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Системно- деятельностный подход и пути его реализации в условиях введения ФГО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755640" y="717120"/>
            <a:ext cx="7345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Задача учител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введении нового материала заключается не в том, чтобы все наглядно и доступно объяснить, показать и рассказать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Учитель должен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организовать исследовательскую работу детей, чтобы они сами додумались до решения проблемы урока и сами объяснили, как надо действовать в новых услов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900000" y="999720"/>
            <a:ext cx="7417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истемный подход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— универсальный инструмент познавательной деятельности: как система может быть рассмотрено любое явление, хотя, разумеется, не всякий объект научного анализа в этом нуждается. Системный подход выступает как средство формирования целостного мировоззрения, в котором человек чувствует неразрывную связь со всем окружающим ми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Суть системного подход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000" y="2060280"/>
            <a:ext cx="821844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формация, полученная на основе системного подхода, обладает двумя принципиально важными свойствами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о-первых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следователю поступает лишь информация 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необходима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о-вторых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информация,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достаточная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решения поставленной задач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Технология деятельностного метода обучения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000" y="2060280"/>
            <a:ext cx="821844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обучения, при котором ребенок не получает знания в готовом виде, а добывает их сам в процессе собственной учебно-познавательной деятельности называется      деятельностным метод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Картинка 1 из 19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72160" y="4000680"/>
            <a:ext cx="2143080" cy="271440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285840" y="428760"/>
            <a:ext cx="864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дея деятельности и идея системности тесно связаны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428760" y="1285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ваю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готовности личности к саморазвитию и непрерывному образованию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ирование и конструирование социальной среды развития обучающихся в системе образова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ую учебно-познавательную деятельность обучающихс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ие образовательного процесса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ётом индивидуальных возрастны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их и физиологичес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ей обучающих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Стрелка вправо 5"/>
          <p:cNvSpPr/>
          <p:nvPr/>
        </p:nvSpPr>
        <p:spPr>
          <a:xfrm>
            <a:off x="4857840" y="171468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с двумя скругленными противолежащими углами 6"/>
          <p:cNvSpPr/>
          <p:nvPr/>
        </p:nvSpPr>
        <p:spPr>
          <a:xfrm>
            <a:off x="395280" y="404640"/>
            <a:ext cx="8280360" cy="5112000"/>
          </a:xfrm>
          <a:prstGeom prst="pi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e283a"/>
                </a:solidFill>
                <a:latin typeface="Times New Roman"/>
                <a:ea typeface="Times New Roman"/>
              </a:rPr>
              <a:t>Системно-деятельностный подход </a:t>
            </a:r>
            <a:r>
              <a:rPr b="0" lang="ru-RU" sz="3200" spc="-1" strike="noStrike">
                <a:solidFill>
                  <a:srgbClr val="5e283a"/>
                </a:solidFill>
                <a:latin typeface="Times New Roman"/>
                <a:ea typeface="Times New Roman"/>
              </a:rPr>
              <a:t>– это организация учебного процесса, в котором главное место отводится активной и разносторонней, в максимальной степени самостоятельной познавательной деятельности школь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44360"/>
            <a:ext cx="8229600" cy="1401840"/>
          </a:xfrm>
          <a:prstGeom prst="rect">
            <a:avLst/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Японская пословица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5000760" y="1785960"/>
            <a:ext cx="3857400" cy="4483080"/>
          </a:xfrm>
          <a:prstGeom prst="rect">
            <a:avLst/>
          </a:prstGeom>
          <a:solidFill>
            <a:srgbClr val="eaeaea"/>
          </a:solidFill>
          <a:ln w="28440">
            <a:solidFill>
              <a:srgbClr val="e46c0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«Налови мне рыбы — и я буду сыт сегодня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4a1b1a"/>
                </a:solidFill>
                <a:latin typeface="Times New Roman"/>
                <a:ea typeface="Times New Roman"/>
              </a:rPr>
              <a:t>а научи меня ловить рыбу — так я буду сыт до конца жизн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92160" y="1719360"/>
            <a:ext cx="490068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Овал 5"/>
          <p:cNvSpPr/>
          <p:nvPr/>
        </p:nvSpPr>
        <p:spPr>
          <a:xfrm>
            <a:off x="468360" y="2205000"/>
            <a:ext cx="4174920" cy="1728720"/>
          </a:xfrm>
          <a:prstGeom prst="ellips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ровень образованности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17360" y="508680"/>
            <a:ext cx="3003840" cy="12027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адиционный подход 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иентирует на объём зна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4643280" y="76500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м больше знаний приобрёл ученик, тем лучше, тем выше уровень его образова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4716360" y="242100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яется способностью решать проблемы различной сложности на основе имеющихся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826920" y="4437000"/>
            <a:ext cx="777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временное образование предполагает перенос акцента с предметных знаний, умений и навыков как основной цели обучения на формирование общеучебных умений, на развитие самостоятельности учебных дейст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ие качества необходимы современному выпускнику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убокие и прочные зн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питан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ие интеллектуальных и творческих сил детей, их умения учиться, формировании способности к саморазвитию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684360" y="4221000"/>
            <a:ext cx="734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Необходимо помочь каждому ребенку стать счастливы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найти свое место в жизни, приобрести верных друзей, построить семью, самореализоваться в выбранной профе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2"/>
          <p:cNvSpPr/>
          <p:nvPr/>
        </p:nvSpPr>
        <p:spPr>
          <a:xfrm>
            <a:off x="2357280" y="1000080"/>
            <a:ext cx="621540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692d41"/>
                </a:solidFill>
                <a:latin typeface="Times New Roman"/>
                <a:ea typeface="Times New Roman"/>
              </a:rPr>
              <a:t>Сведений науки не следует сообщать учащемуся, но его надо привести к тому, чтобы он сам их находил, самодеятельно ими овладевал. Такой метод обучения наилучший, самый трудный, самый редкий. Трудностью объясняется редкость его применения. Изложение, считывание, диктовка против него детская забав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92d41"/>
                </a:solidFill>
                <a:latin typeface="Times New Roman"/>
                <a:ea typeface="Times New Roman"/>
              </a:rPr>
              <a:t>А. Дистерве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92d41"/>
                </a:solidFill>
                <a:latin typeface="Times New Roman"/>
                <a:ea typeface="Times New Roman"/>
              </a:rPr>
              <a:t>немецкий педагог-демократ </a:t>
            </a:r>
            <a:r>
              <a:rPr b="1" i="1" lang="en-US" sz="2000" spc="-1" strike="noStrike">
                <a:solidFill>
                  <a:srgbClr val="692d41"/>
                </a:solidFill>
                <a:latin typeface="Times New Roman"/>
                <a:ea typeface="Times New Roman"/>
              </a:rPr>
              <a:t>XIX</a:t>
            </a:r>
            <a:r>
              <a:rPr b="1" i="1" lang="ru-RU" sz="2000" spc="-1" strike="noStrike">
                <a:solidFill>
                  <a:srgbClr val="692d41"/>
                </a:solidFill>
                <a:latin typeface="Times New Roman"/>
                <a:ea typeface="Times New Roman"/>
              </a:rPr>
              <a:t> в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92d41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692d41"/>
                </a:solidFill>
                <a:latin typeface="Times New Roman"/>
                <a:ea typeface="Times New Roman"/>
              </a:rPr>
              <a:t>последователь Песталоц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3" descr=""/>
          <p:cNvPicPr/>
          <p:nvPr/>
        </p:nvPicPr>
        <p:blipFill>
          <a:blip r:embed="rId1"/>
          <a:stretch/>
        </p:blipFill>
        <p:spPr>
          <a:xfrm>
            <a:off x="285840" y="357120"/>
            <a:ext cx="1643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1116000" y="1444680"/>
            <a:ext cx="7128000" cy="43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запомин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тольк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%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го, что он чита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%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го, что слыши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0%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го, что види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0-70%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оминается при участии в групповых дискусси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0%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самостоятельном обнаружении и формулировании пробл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лишь когда обучающийся непосредственно участвует в реальной деятельности, в самостоятельной постановке проблем, выработке и принятии решения, формулировке выводов и прогнозов, он запоминает и усваивает материал н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0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395280" y="692280"/>
            <a:ext cx="898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Результаты исследования немецких учены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457200" y="144360"/>
            <a:ext cx="8229600" cy="1401840"/>
          </a:xfrm>
          <a:prstGeom prst="rect">
            <a:avLst/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итайская народная мудрос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700360" y="1785960"/>
            <a:ext cx="6157800" cy="4483080"/>
          </a:xfrm>
          <a:prstGeom prst="rect">
            <a:avLst/>
          </a:prstGeom>
          <a:solidFill>
            <a:srgbClr val="eaeaea"/>
          </a:solidFill>
          <a:ln w="28440">
            <a:solidFill>
              <a:srgbClr val="e46c0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«Я слышу – я забываю, я вижу – я запоминаю, я делаю – я усваиваю»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«Скажи мне, я забуду; покажи мне и я запомню; дай мне действовать самому, и я научусь.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92160" y="1719360"/>
            <a:ext cx="2535120" cy="242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357120" y="500040"/>
            <a:ext cx="857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3152"/>
                </a:solidFill>
                <a:latin typeface="Times New Roman"/>
                <a:ea typeface="Times New Roman"/>
              </a:rPr>
              <a:t>Ученые – основоположники теор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3152"/>
                </a:solidFill>
                <a:latin typeface="Times New Roman"/>
                <a:ea typeface="Times New Roman"/>
              </a:rPr>
              <a:t>системно-деятельностного подх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2" descr=""/>
          <p:cNvPicPr/>
          <p:nvPr/>
        </p:nvPicPr>
        <p:blipFill>
          <a:blip r:embed="rId1"/>
          <a:stretch/>
        </p:blipFill>
        <p:spPr>
          <a:xfrm>
            <a:off x="3643200" y="1857240"/>
            <a:ext cx="1533600" cy="190512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642960" y="3929040"/>
            <a:ext cx="178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.С. Выгот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5" descr=""/>
          <p:cNvPicPr/>
          <p:nvPr/>
        </p:nvPicPr>
        <p:blipFill>
          <a:blip r:embed="rId2"/>
          <a:stretch/>
        </p:blipFill>
        <p:spPr>
          <a:xfrm>
            <a:off x="857160" y="1857240"/>
            <a:ext cx="1390680" cy="1905120"/>
          </a:xfrm>
          <a:prstGeom prst="rect">
            <a:avLst/>
          </a:prstGeom>
          <a:ln w="0">
            <a:noFill/>
          </a:ln>
        </p:spPr>
      </p:pic>
      <p:sp>
        <p:nvSpPr>
          <p:cNvPr id="71" name="TextBox 6"/>
          <p:cNvSpPr/>
          <p:nvPr/>
        </p:nvSpPr>
        <p:spPr>
          <a:xfrm>
            <a:off x="3714840" y="3929040"/>
            <a:ext cx="171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Н. Леонтье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8" descr=""/>
          <p:cNvPicPr/>
          <p:nvPr/>
        </p:nvPicPr>
        <p:blipFill>
          <a:blip r:embed="rId3"/>
          <a:stretch/>
        </p:blipFill>
        <p:spPr>
          <a:xfrm>
            <a:off x="6286680" y="1857240"/>
            <a:ext cx="1500120" cy="1857600"/>
          </a:xfrm>
          <a:prstGeom prst="rect">
            <a:avLst/>
          </a:prstGeom>
          <a:ln w="0">
            <a:noFill/>
          </a:ln>
        </p:spPr>
      </p:pic>
      <p:sp>
        <p:nvSpPr>
          <p:cNvPr id="73" name="TextBox 9"/>
          <p:cNvSpPr/>
          <p:nvPr/>
        </p:nvSpPr>
        <p:spPr>
          <a:xfrm>
            <a:off x="6286680" y="3929040"/>
            <a:ext cx="15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Б. Элькон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10" descr=""/>
          <p:cNvPicPr/>
          <p:nvPr/>
        </p:nvPicPr>
        <p:blipFill>
          <a:blip r:embed="rId4"/>
          <a:stretch/>
        </p:blipFill>
        <p:spPr>
          <a:xfrm>
            <a:off x="2071800" y="4286160"/>
            <a:ext cx="1714320" cy="17859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2" descr=""/>
          <p:cNvPicPr/>
          <p:nvPr/>
        </p:nvPicPr>
        <p:blipFill>
          <a:blip r:embed="rId5"/>
          <a:stretch/>
        </p:blipFill>
        <p:spPr>
          <a:xfrm>
            <a:off x="5072040" y="4357800"/>
            <a:ext cx="1857240" cy="1695240"/>
          </a:xfrm>
          <a:prstGeom prst="rect">
            <a:avLst/>
          </a:prstGeom>
          <a:ln w="0">
            <a:noFill/>
          </a:ln>
        </p:spPr>
      </p:pic>
      <p:sp>
        <p:nvSpPr>
          <p:cNvPr id="76" name="TextBox 13"/>
          <p:cNvSpPr/>
          <p:nvPr/>
        </p:nvSpPr>
        <p:spPr>
          <a:xfrm>
            <a:off x="2000160" y="6215040"/>
            <a:ext cx="17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Я. Гальпер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5000760" y="6215040"/>
            <a:ext cx="185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В. Давы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5"/>
          <p:cNvSpPr/>
          <p:nvPr/>
        </p:nvSpPr>
        <p:spPr>
          <a:xfrm>
            <a:off x="324000" y="260280"/>
            <a:ext cx="8712000" cy="1197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cfc"/>
              </a:gs>
              <a:gs pos="100000">
                <a:srgbClr val="fab4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480a"/>
                </a:solidFill>
                <a:latin typeface="Tw Cen MT"/>
              </a:rPr>
              <a:t>Основные иде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480a"/>
                </a:solidFill>
                <a:latin typeface="Tw Cen MT"/>
              </a:rPr>
              <a:t>системно-деятельностного подх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324000" y="2924280"/>
            <a:ext cx="8431200" cy="3673440"/>
          </a:xfrm>
          <a:prstGeom prst="horizontalScroll">
            <a:avLst>
              <a:gd name="adj" fmla="val 12500"/>
            </a:avLst>
          </a:prstGeom>
          <a:solidFill>
            <a:srgbClr val="aa5e74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8"/>
          <p:cNvSpPr/>
          <p:nvPr/>
        </p:nvSpPr>
        <p:spPr>
          <a:xfrm>
            <a:off x="539640" y="1773360"/>
            <a:ext cx="7993080" cy="115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9"/>
          <p:cNvSpPr/>
          <p:nvPr/>
        </p:nvSpPr>
        <p:spPr>
          <a:xfrm>
            <a:off x="1116000" y="1844640"/>
            <a:ext cx="71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СС УЧЕНИЯ - это процесс деятельности ученика, направленный на становление его сознания и его личности в це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0"/>
          <p:cNvSpPr/>
          <p:nvPr/>
        </p:nvSpPr>
        <p:spPr>
          <a:xfrm>
            <a:off x="1042920" y="3429000"/>
            <a:ext cx="7705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9cde5"/>
                </a:solidFill>
                <a:latin typeface="Arial"/>
              </a:rPr>
              <a:t>Новые знания не даются в готовом виде. Дети «открывают» их сами в процессе самостоятельной исследовательской деятельности. Они становятся маленькими учеными, делающими свое собственное открыт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12:02:14Z</dcterms:created>
  <dc:creator>Кузнецова_М_П</dc:creator>
  <dc:description/>
  <dc:language>en-US</dc:language>
  <cp:lastModifiedBy>User2</cp:lastModifiedBy>
  <dcterms:modified xsi:type="dcterms:W3CDTF">2014-11-23T13:13:51Z</dcterms:modified>
  <cp:revision>60</cp:revision>
  <dc:subject/>
  <dc:title>Урок в начальной школе в аспекте системно-деятельностного подхода</dc:title>
</cp:coreProperties>
</file>