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A79F-7596-4DB4-ABE6-3F18E7A81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84C7-F5CF-4C4B-8DC0-EA8DB6049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9309-5E21-4F51-9CB1-4F49077D7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5AFC-24F3-481A-930E-FD06D1AF5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78FE7-0D4A-4125-9491-99BA808CE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38476-F378-4398-9EAC-708157DD1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93AE4-1D8B-49C6-90BD-BB32BB3A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C7A55-9BAF-4073-944F-51487845D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21F26-325B-4D93-AAD6-7960FD8CB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EC8E5-D910-4D31-8838-9141FB12C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C1913-D74E-4AC0-8276-5CCDB10B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94C5-EBF2-4983-AD92-3DD486EDA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EB414-2D60-46DE-812D-64A194F5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48D07-E60D-43F1-BF91-49BED18E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FB67D-6BA4-49CF-AE69-C13D0245C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9A1B7-964C-4BA9-AB7F-9E165BD6C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B0912-8C8D-4EDD-94EE-A71353330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EA666-7AD8-4BF7-B3E0-EA1F52FAA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E1F31-3F32-475B-BC52-B76E5895E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54F38-CD4C-4797-8487-6D77D93E2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03051-8B2E-4A18-8A15-24729764F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946DB-8C07-4429-8E9F-682648AC6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CDBD-7095-490D-AD02-721D32F7C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7AB2F-05B0-4420-8094-E05BA722D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A0298-45C7-4941-9C76-061D33E9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0A031-8CEC-46FD-9DAF-CCF62AB5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400AE-4598-4669-8C5B-0BC8A51C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3E02A-BD2C-4088-ACEE-91B55F73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5A0AE-63C9-4EDB-9ACD-AA3350F0F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1348C-339A-4478-A9DC-F262E0F9E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8CBC0-B09B-4109-B854-2C3FEBE72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BC272-F508-4352-B743-6C08155F4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6FB9D-CD2D-4439-9F01-441510023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9CFC-AE08-424A-A835-B5FCBF64A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06550-0FDB-4BB6-A8F7-42A448E50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31228-44E0-4E9F-ABA6-8642AE53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F2A2A-A673-4B9D-AEDB-AFD22966A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5CE08-0927-4BA5-A6B5-4FD5D962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EFC68-4B32-4349-AA39-C52F9DD5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9B689-32BD-43C2-BDA7-7D4A922C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9DEBC-9523-41D8-AA6D-C0484217C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865CD-C4EE-47EC-990F-CA46A76E0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EC4B0-DA0C-4BBC-B926-E75739AAE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7B519-DB8A-49C7-BF27-B809A14C3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A788-3761-49F9-91FB-197071389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806D4-A8B3-4A94-84AF-32EA73635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7AADC-9C2E-4826-A0ED-52F5C4400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4E863-39A1-475D-9D3D-A70E7E18A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C16B1-2BC2-44CE-983A-BB9B89ED0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043BA-B190-4949-9447-F0EE1530E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1702C-2C02-43B7-8A4F-C076D152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BC0A8-A18B-4C26-BCC1-509CFCFE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4E7F6-6633-4C92-9CB4-BFDDA25B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D8AA3-DB45-42FA-B10E-F127B64F9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9D165-8257-4468-A0B5-D831085D3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4DC9-AE6C-4625-AF92-C1EC7FB1B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F74E5-08DD-4878-9831-8766838A7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49CE-D018-45D9-A1A1-3B684C6B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E07F-BB69-4FFA-B622-D4217D5A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9023-4F15-4FF1-B987-20AE2408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F1080-14AD-420D-AA86-BD19456BD552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2A74B-D4A2-4C09-B1B1-5E66F8ED79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9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9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A0507-2884-4DF9-AC89-A6CB659E6BB2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4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4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4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4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3A84E-9A01-4F1D-B809-3BDB35FABE04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D5BA0-9455-4253-8830-76D0BCF0409F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7.xml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0" y="0"/>
          <a:ext cx="9144000" cy="6848640"/>
        </p:xfrm>
        <a:graphic>
          <a:graphicData uri="http://schemas.openxmlformats.org/drawingml/2006/table">
            <a:tbl>
              <a:tblPr/>
              <a:tblGrid>
                <a:gridCol w="3203640"/>
                <a:gridCol w="1224000"/>
                <a:gridCol w="1152360"/>
                <a:gridCol w="1152720"/>
                <a:gridCol w="1224000"/>
                <a:gridCol w="1187280"/>
              </a:tblGrid>
              <a:tr h="1712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истори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" action="ppaction://hlinksldjump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2" action="ppaction://hlinksldjump"/>
                        </a:rPr>
                        <a:t>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3" action="ppaction://hlinksldjump"/>
                        </a:rPr>
                        <a:t>3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4" action="ppaction://hlinksldjump"/>
                        </a:rPr>
                        <a:t>4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5" action="ppaction://hlinksldjump"/>
                        </a:rPr>
                        <a:t>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11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р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6" action="ppaction://hlinksldjump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12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менитост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11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чи-20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b8f3"/>
            </a:gs>
            <a:gs pos="100000">
              <a:srgbClr val="dee5f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57200" y="836640"/>
            <a:ext cx="8229600" cy="54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Жаркие. Зимние. Твои. 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Hot. Cool. Yours.</a:t>
            </a: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8721720" y="6315120"/>
            <a:ext cx="420840" cy="54288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1" descr=""/>
          <p:cNvPicPr/>
          <p:nvPr/>
        </p:nvPicPr>
        <p:blipFill>
          <a:blip r:embed="rId2"/>
          <a:stretch/>
        </p:blipFill>
        <p:spPr>
          <a:xfrm>
            <a:off x="2114640" y="3322800"/>
            <a:ext cx="445140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dfa1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704880"/>
            <a:ext cx="9144000" cy="1644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4617b"/>
                </a:solidFill>
                <a:latin typeface="Calibri"/>
              </a:rPr>
              <a:t>Какая страна является родиной Олимпийских игр?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2636640"/>
            <a:ext cx="8229600" cy="368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Египет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Рим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Греция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Управляющая кнопка: домой 3"/>
          <p:cNvSpPr/>
          <p:nvPr/>
        </p:nvSpPr>
        <p:spPr>
          <a:xfrm>
            <a:off x="8748720" y="6453360"/>
            <a:ext cx="395280" cy="39996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399960"/>
              <a:gd name="textAreaBottom" fmla="*/ 374400 h 399960"/>
            </a:gdLst>
            <a:ahLst/>
            <a:rect l="textAreaLeft" t="textAreaTop" r="textAreaRight" b="textAreaBottom"/>
            <a:pathLst>
              <a:path w="21600" h="21856">
                <a:moveTo>
                  <a:pt x="0" y="0"/>
                </a:moveTo>
                <a:lnTo>
                  <a:pt x="21600" y="0"/>
                </a:lnTo>
                <a:lnTo>
                  <a:pt x="21600" y="21856"/>
                </a:lnTo>
                <a:lnTo>
                  <a:pt x="0" y="21856"/>
                </a:lnTo>
                <a:close/>
              </a:path>
              <a:path fill="lightenLess" w="21600" h="218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6">
                <a:moveTo>
                  <a:pt x="21600" y="0"/>
                </a:moveTo>
                <a:lnTo>
                  <a:pt x="21600" y="21856"/>
                </a:lnTo>
                <a:lnTo>
                  <a:pt x="20200" y="20456"/>
                </a:lnTo>
                <a:lnTo>
                  <a:pt x="20200" y="1400"/>
                </a:lnTo>
                <a:close/>
              </a:path>
              <a:path fill="darkenLess" w="21600" h="21856">
                <a:moveTo>
                  <a:pt x="21600" y="21856"/>
                </a:moveTo>
                <a:lnTo>
                  <a:pt x="0" y="21856"/>
                </a:lnTo>
                <a:lnTo>
                  <a:pt x="1400" y="20456"/>
                </a:lnTo>
                <a:lnTo>
                  <a:pt x="20200" y="20456"/>
                </a:lnTo>
                <a:close/>
              </a:path>
              <a:path fill="lighten" w="21600" h="21856">
                <a:moveTo>
                  <a:pt x="0" y="2185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6"/>
                </a:lnTo>
                <a:close/>
              </a:path>
              <a:path fill="darken" w="21600" h="21856">
                <a:moveTo>
                  <a:pt x="10800" y="3965"/>
                </a:moveTo>
                <a:lnTo>
                  <a:pt x="13376" y="6576"/>
                </a:lnTo>
                <a:lnTo>
                  <a:pt x="13376" y="4835"/>
                </a:lnTo>
                <a:lnTo>
                  <a:pt x="15152" y="4835"/>
                </a:lnTo>
                <a:lnTo>
                  <a:pt x="15152" y="8351"/>
                </a:lnTo>
                <a:lnTo>
                  <a:pt x="17763" y="10928"/>
                </a:lnTo>
                <a:lnTo>
                  <a:pt x="16109" y="10928"/>
                </a:lnTo>
                <a:lnTo>
                  <a:pt x="16109" y="18117"/>
                </a:lnTo>
                <a:lnTo>
                  <a:pt x="5491" y="18117"/>
                </a:lnTo>
                <a:lnTo>
                  <a:pt x="5491" y="10928"/>
                </a:lnTo>
                <a:lnTo>
                  <a:pt x="3837" y="10928"/>
                </a:lnTo>
                <a:close/>
              </a:path>
              <a:path fill="darkenLess" w="21600" h="21856">
                <a:moveTo>
                  <a:pt x="13376" y="6576"/>
                </a:moveTo>
                <a:lnTo>
                  <a:pt x="13376" y="4835"/>
                </a:lnTo>
                <a:lnTo>
                  <a:pt x="15152" y="4835"/>
                </a:lnTo>
                <a:lnTo>
                  <a:pt x="15152" y="8351"/>
                </a:lnTo>
                <a:close/>
              </a:path>
              <a:path fill="darkenLess" w="21600" h="21856">
                <a:moveTo>
                  <a:pt x="9877" y="14427"/>
                </a:moveTo>
                <a:lnTo>
                  <a:pt x="11723" y="14427"/>
                </a:lnTo>
                <a:lnTo>
                  <a:pt x="11723" y="18117"/>
                </a:lnTo>
                <a:lnTo>
                  <a:pt x="16109" y="18117"/>
                </a:lnTo>
                <a:lnTo>
                  <a:pt x="16109" y="10928"/>
                </a:lnTo>
                <a:lnTo>
                  <a:pt x="5491" y="10928"/>
                </a:lnTo>
                <a:lnTo>
                  <a:pt x="5491" y="18117"/>
                </a:lnTo>
                <a:lnTo>
                  <a:pt x="9877" y="18117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dfa1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8000" y="704520"/>
            <a:ext cx="8928000" cy="373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ять олимпийских колец представляют пять частей света. Назовите их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5229360"/>
            <a:ext cx="8229600" cy="109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dfa1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57200" y="764640"/>
            <a:ext cx="822960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Америка, Европа, Азия, Африка и Австралия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Европа — голубой, Азия — желтый, Африка — черный, Австралия — зеленый и Америка — красный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Управляющая кнопка: домой 3"/>
          <p:cNvSpPr/>
          <p:nvPr/>
        </p:nvSpPr>
        <p:spPr>
          <a:xfrm>
            <a:off x="8748720" y="6345360"/>
            <a:ext cx="395280" cy="52056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520560"/>
              <a:gd name="textAreaBottom" fmla="*/ 495000 h 520560"/>
            </a:gdLst>
            <a:ahLst/>
            <a:rect l="textAreaLeft" t="textAreaTop" r="textAreaRight" b="textAreaBottom"/>
            <a:pathLst>
              <a:path w="21600" h="28440">
                <a:moveTo>
                  <a:pt x="0" y="0"/>
                </a:moveTo>
                <a:lnTo>
                  <a:pt x="21600" y="0"/>
                </a:lnTo>
                <a:lnTo>
                  <a:pt x="21600" y="28440"/>
                </a:lnTo>
                <a:lnTo>
                  <a:pt x="0" y="28440"/>
                </a:lnTo>
                <a:close/>
              </a:path>
              <a:path fill="lightenLess" w="21600" h="284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440">
                <a:moveTo>
                  <a:pt x="21600" y="0"/>
                </a:moveTo>
                <a:lnTo>
                  <a:pt x="21600" y="28440"/>
                </a:lnTo>
                <a:lnTo>
                  <a:pt x="20200" y="27040"/>
                </a:lnTo>
                <a:lnTo>
                  <a:pt x="20200" y="1400"/>
                </a:lnTo>
                <a:close/>
              </a:path>
              <a:path fill="darkenLess" w="21600" h="28440">
                <a:moveTo>
                  <a:pt x="21600" y="28440"/>
                </a:moveTo>
                <a:lnTo>
                  <a:pt x="0" y="28440"/>
                </a:lnTo>
                <a:lnTo>
                  <a:pt x="1400" y="27040"/>
                </a:lnTo>
                <a:lnTo>
                  <a:pt x="20200" y="27040"/>
                </a:lnTo>
                <a:close/>
              </a:path>
              <a:path fill="lighten" w="21600" h="28440">
                <a:moveTo>
                  <a:pt x="0" y="284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040"/>
                </a:lnTo>
                <a:close/>
              </a:path>
              <a:path fill="darken" w="21600" h="28440">
                <a:moveTo>
                  <a:pt x="10800" y="7257"/>
                </a:moveTo>
                <a:lnTo>
                  <a:pt x="13376" y="9868"/>
                </a:lnTo>
                <a:lnTo>
                  <a:pt x="13376" y="8127"/>
                </a:lnTo>
                <a:lnTo>
                  <a:pt x="15152" y="8127"/>
                </a:lnTo>
                <a:lnTo>
                  <a:pt x="15152" y="11644"/>
                </a:lnTo>
                <a:lnTo>
                  <a:pt x="17763" y="14220"/>
                </a:lnTo>
                <a:lnTo>
                  <a:pt x="16109" y="14220"/>
                </a:lnTo>
                <a:lnTo>
                  <a:pt x="16109" y="21409"/>
                </a:lnTo>
                <a:lnTo>
                  <a:pt x="5491" y="21409"/>
                </a:lnTo>
                <a:lnTo>
                  <a:pt x="5491" y="14220"/>
                </a:lnTo>
                <a:lnTo>
                  <a:pt x="3837" y="14220"/>
                </a:lnTo>
                <a:close/>
              </a:path>
              <a:path fill="darkenLess" w="21600" h="28440">
                <a:moveTo>
                  <a:pt x="13376" y="9868"/>
                </a:moveTo>
                <a:lnTo>
                  <a:pt x="13376" y="8127"/>
                </a:lnTo>
                <a:lnTo>
                  <a:pt x="15152" y="8127"/>
                </a:lnTo>
                <a:lnTo>
                  <a:pt x="15152" y="11644"/>
                </a:lnTo>
                <a:close/>
              </a:path>
              <a:path fill="darkenLess" w="21600" h="28440">
                <a:moveTo>
                  <a:pt x="9877" y="17719"/>
                </a:moveTo>
                <a:lnTo>
                  <a:pt x="11723" y="17719"/>
                </a:lnTo>
                <a:lnTo>
                  <a:pt x="11723" y="21409"/>
                </a:lnTo>
                <a:lnTo>
                  <a:pt x="16109" y="21409"/>
                </a:lnTo>
                <a:lnTo>
                  <a:pt x="16109" y="14220"/>
                </a:lnTo>
                <a:lnTo>
                  <a:pt x="5491" y="14220"/>
                </a:lnTo>
                <a:lnTo>
                  <a:pt x="5491" y="21409"/>
                </a:lnTo>
                <a:lnTo>
                  <a:pt x="9877" y="21409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4" name="Рисунок 1" descr=""/>
          <p:cNvPicPr/>
          <p:nvPr/>
        </p:nvPicPr>
        <p:blipFill>
          <a:blip r:embed="rId1"/>
          <a:stretch/>
        </p:blipFill>
        <p:spPr>
          <a:xfrm>
            <a:off x="4284720" y="4608360"/>
            <a:ext cx="3981240" cy="19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b8f3"/>
            </a:gs>
            <a:gs pos="100000">
              <a:srgbClr val="dee5f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704880"/>
            <a:ext cx="9144000" cy="2363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4617b"/>
                </a:solidFill>
                <a:latin typeface="Calibri"/>
              </a:rPr>
              <a:t>Олимпийская чемпионка по конькобежному спорту на 500 м. </a:t>
            </a:r>
            <a:br>
              <a:rPr sz="4800"/>
            </a:br>
            <a:r>
              <a:rPr b="0" lang="ru-RU" sz="4800" spc="-1" strike="noStrike">
                <a:solidFill>
                  <a:srgbClr val="04617b"/>
                </a:solidFill>
                <a:latin typeface="Calibri"/>
              </a:rPr>
              <a:t>в Турине, 2006 год.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3499920"/>
            <a:ext cx="8229600" cy="28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Татьяна Нафка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Светлана Журова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Юлия Чепалова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b8f3"/>
            </a:gs>
            <a:gs pos="100000">
              <a:srgbClr val="dee5f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457200" y="134136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Светлана Журова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8" name="Рисунок 3" descr=""/>
          <p:cNvPicPr/>
          <p:nvPr/>
        </p:nvPicPr>
        <p:blipFill>
          <a:blip r:embed="rId1"/>
          <a:stretch/>
        </p:blipFill>
        <p:spPr>
          <a:xfrm>
            <a:off x="2444760" y="2719440"/>
            <a:ext cx="3949560" cy="5778360"/>
          </a:xfrm>
          <a:prstGeom prst="rect">
            <a:avLst/>
          </a:prstGeom>
          <a:ln w="0">
            <a:noFill/>
          </a:ln>
        </p:spPr>
      </p:pic>
      <p:sp>
        <p:nvSpPr>
          <p:cNvPr id="249" name="Управляющая кнопка: домой 4"/>
          <p:cNvSpPr/>
          <p:nvPr/>
        </p:nvSpPr>
        <p:spPr>
          <a:xfrm>
            <a:off x="8820000" y="6381720"/>
            <a:ext cx="324000" cy="48564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485640"/>
              <a:gd name="textAreaBottom" fmla="*/ 464760 h 485640"/>
            </a:gdLst>
            <a:ahLst/>
            <a:rect l="textAreaLeft" t="textAreaTop" r="textAreaRight" b="textAreaBottom"/>
            <a:pathLst>
              <a:path w="21600" h="32364">
                <a:moveTo>
                  <a:pt x="0" y="0"/>
                </a:moveTo>
                <a:lnTo>
                  <a:pt x="21600" y="0"/>
                </a:lnTo>
                <a:lnTo>
                  <a:pt x="21600" y="32364"/>
                </a:lnTo>
                <a:lnTo>
                  <a:pt x="0" y="32364"/>
                </a:lnTo>
                <a:close/>
              </a:path>
              <a:path fill="lightenLess" w="21600" h="323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64">
                <a:moveTo>
                  <a:pt x="21600" y="0"/>
                </a:moveTo>
                <a:lnTo>
                  <a:pt x="21600" y="32364"/>
                </a:lnTo>
                <a:lnTo>
                  <a:pt x="20200" y="30964"/>
                </a:lnTo>
                <a:lnTo>
                  <a:pt x="20200" y="1400"/>
                </a:lnTo>
                <a:close/>
              </a:path>
              <a:path fill="darkenLess" w="21600" h="32364">
                <a:moveTo>
                  <a:pt x="21600" y="32364"/>
                </a:moveTo>
                <a:lnTo>
                  <a:pt x="0" y="32364"/>
                </a:lnTo>
                <a:lnTo>
                  <a:pt x="1400" y="30964"/>
                </a:lnTo>
                <a:lnTo>
                  <a:pt x="20200" y="30964"/>
                </a:lnTo>
                <a:close/>
              </a:path>
              <a:path fill="lighten" w="21600" h="32364">
                <a:moveTo>
                  <a:pt x="0" y="32364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64"/>
                </a:lnTo>
                <a:close/>
              </a:path>
              <a:path fill="darken" w="21600" h="32364">
                <a:moveTo>
                  <a:pt x="10800" y="9219"/>
                </a:moveTo>
                <a:lnTo>
                  <a:pt x="13376" y="11830"/>
                </a:lnTo>
                <a:lnTo>
                  <a:pt x="13376" y="10089"/>
                </a:lnTo>
                <a:lnTo>
                  <a:pt x="15152" y="10089"/>
                </a:lnTo>
                <a:lnTo>
                  <a:pt x="15152" y="13606"/>
                </a:lnTo>
                <a:lnTo>
                  <a:pt x="17763" y="16182"/>
                </a:lnTo>
                <a:lnTo>
                  <a:pt x="16109" y="16182"/>
                </a:lnTo>
                <a:lnTo>
                  <a:pt x="16109" y="23371"/>
                </a:lnTo>
                <a:lnTo>
                  <a:pt x="5491" y="23371"/>
                </a:lnTo>
                <a:lnTo>
                  <a:pt x="5491" y="16182"/>
                </a:lnTo>
                <a:lnTo>
                  <a:pt x="3837" y="16182"/>
                </a:lnTo>
                <a:close/>
              </a:path>
              <a:path fill="darkenLess" w="21600" h="32364">
                <a:moveTo>
                  <a:pt x="13376" y="11830"/>
                </a:moveTo>
                <a:lnTo>
                  <a:pt x="13376" y="10089"/>
                </a:lnTo>
                <a:lnTo>
                  <a:pt x="15152" y="10089"/>
                </a:lnTo>
                <a:lnTo>
                  <a:pt x="15152" y="13606"/>
                </a:lnTo>
                <a:close/>
              </a:path>
              <a:path fill="darkenLess" w="21600" h="32364">
                <a:moveTo>
                  <a:pt x="9877" y="19681"/>
                </a:moveTo>
                <a:lnTo>
                  <a:pt x="11723" y="19681"/>
                </a:lnTo>
                <a:lnTo>
                  <a:pt x="11723" y="23371"/>
                </a:lnTo>
                <a:lnTo>
                  <a:pt x="16109" y="23371"/>
                </a:lnTo>
                <a:lnTo>
                  <a:pt x="16109" y="16182"/>
                </a:lnTo>
                <a:lnTo>
                  <a:pt x="5491" y="16182"/>
                </a:lnTo>
                <a:lnTo>
                  <a:pt x="5491" y="23371"/>
                </a:lnTo>
                <a:lnTo>
                  <a:pt x="9877" y="23371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b8f3"/>
            </a:gs>
            <a:gs pos="100000">
              <a:srgbClr val="dee5f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4617b"/>
                </a:solidFill>
                <a:latin typeface="Calibri"/>
              </a:rPr>
              <a:t>Эта фигуристка парного катания выиграла трижды олимпийские игры: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34286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Елена Бережная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Людмила Белоусова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Ирина Роднина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b8f3"/>
            </a:gs>
            <a:gs pos="100000">
              <a:srgbClr val="dee5f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7200" y="620640"/>
            <a:ext cx="8229600" cy="57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Ирина Роднина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(1972, 1976, 1980 года)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3" name="Рисунок 3" descr=""/>
          <p:cNvPicPr/>
          <p:nvPr/>
        </p:nvPicPr>
        <p:blipFill>
          <a:blip r:embed="rId1"/>
          <a:stretch/>
        </p:blipFill>
        <p:spPr>
          <a:xfrm>
            <a:off x="4376880" y="3408480"/>
            <a:ext cx="3279600" cy="223020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4" descr=""/>
          <p:cNvPicPr/>
          <p:nvPr/>
        </p:nvPicPr>
        <p:blipFill>
          <a:blip r:embed="rId2"/>
          <a:stretch/>
        </p:blipFill>
        <p:spPr>
          <a:xfrm>
            <a:off x="878040" y="2773440"/>
            <a:ext cx="2377800" cy="3524040"/>
          </a:xfrm>
          <a:prstGeom prst="rect">
            <a:avLst/>
          </a:prstGeom>
          <a:ln w="0">
            <a:noFill/>
          </a:ln>
        </p:spPr>
      </p:pic>
      <p:sp>
        <p:nvSpPr>
          <p:cNvPr id="255" name="Управляющая кнопка: домой 5"/>
          <p:cNvSpPr/>
          <p:nvPr/>
        </p:nvSpPr>
        <p:spPr>
          <a:xfrm>
            <a:off x="8675640" y="6381720"/>
            <a:ext cx="457200" cy="4856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85640"/>
              <a:gd name="textAreaBottom" fmla="*/ 456120 h 485640"/>
            </a:gdLst>
            <a:ahLst/>
            <a:rect l="textAreaLeft" t="textAreaTop" r="textAreaRight" b="textAreaBottom"/>
            <a:pathLst>
              <a:path w="21600" h="22943">
                <a:moveTo>
                  <a:pt x="0" y="0"/>
                </a:moveTo>
                <a:lnTo>
                  <a:pt x="21600" y="0"/>
                </a:lnTo>
                <a:lnTo>
                  <a:pt x="21600" y="22943"/>
                </a:lnTo>
                <a:lnTo>
                  <a:pt x="0" y="22943"/>
                </a:lnTo>
                <a:close/>
              </a:path>
              <a:path fill="lightenLess" w="21600" h="229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43">
                <a:moveTo>
                  <a:pt x="21600" y="0"/>
                </a:moveTo>
                <a:lnTo>
                  <a:pt x="21600" y="22943"/>
                </a:lnTo>
                <a:lnTo>
                  <a:pt x="20200" y="21543"/>
                </a:lnTo>
                <a:lnTo>
                  <a:pt x="20200" y="1400"/>
                </a:lnTo>
                <a:close/>
              </a:path>
              <a:path fill="darkenLess" w="21600" h="22943">
                <a:moveTo>
                  <a:pt x="21600" y="22943"/>
                </a:moveTo>
                <a:lnTo>
                  <a:pt x="0" y="22943"/>
                </a:lnTo>
                <a:lnTo>
                  <a:pt x="1400" y="21543"/>
                </a:lnTo>
                <a:lnTo>
                  <a:pt x="20200" y="21543"/>
                </a:lnTo>
                <a:close/>
              </a:path>
              <a:path fill="lighten" w="21600" h="22943">
                <a:moveTo>
                  <a:pt x="0" y="229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43"/>
                </a:lnTo>
                <a:close/>
              </a:path>
              <a:path fill="darken" w="21600" h="22943">
                <a:moveTo>
                  <a:pt x="10800" y="4508"/>
                </a:moveTo>
                <a:lnTo>
                  <a:pt x="13376" y="7119"/>
                </a:lnTo>
                <a:lnTo>
                  <a:pt x="13376" y="5379"/>
                </a:lnTo>
                <a:lnTo>
                  <a:pt x="15152" y="5379"/>
                </a:lnTo>
                <a:lnTo>
                  <a:pt x="15152" y="8895"/>
                </a:lnTo>
                <a:lnTo>
                  <a:pt x="17763" y="11471"/>
                </a:lnTo>
                <a:lnTo>
                  <a:pt x="16109" y="11471"/>
                </a:lnTo>
                <a:lnTo>
                  <a:pt x="16109" y="18661"/>
                </a:lnTo>
                <a:lnTo>
                  <a:pt x="5491" y="18661"/>
                </a:lnTo>
                <a:lnTo>
                  <a:pt x="5491" y="11471"/>
                </a:lnTo>
                <a:lnTo>
                  <a:pt x="3837" y="11471"/>
                </a:lnTo>
                <a:close/>
              </a:path>
              <a:path fill="darkenLess" w="21600" h="22943">
                <a:moveTo>
                  <a:pt x="13376" y="7119"/>
                </a:moveTo>
                <a:lnTo>
                  <a:pt x="13376" y="5379"/>
                </a:lnTo>
                <a:lnTo>
                  <a:pt x="15152" y="5379"/>
                </a:lnTo>
                <a:lnTo>
                  <a:pt x="15152" y="8895"/>
                </a:lnTo>
                <a:close/>
              </a:path>
              <a:path fill="darkenLess" w="21600" h="22943">
                <a:moveTo>
                  <a:pt x="9877" y="14970"/>
                </a:moveTo>
                <a:lnTo>
                  <a:pt x="11723" y="14970"/>
                </a:lnTo>
                <a:lnTo>
                  <a:pt x="11723" y="18661"/>
                </a:lnTo>
                <a:lnTo>
                  <a:pt x="16109" y="18661"/>
                </a:lnTo>
                <a:lnTo>
                  <a:pt x="16109" y="11471"/>
                </a:lnTo>
                <a:lnTo>
                  <a:pt x="5491" y="11471"/>
                </a:lnTo>
                <a:lnTo>
                  <a:pt x="5491" y="18661"/>
                </a:lnTo>
                <a:lnTo>
                  <a:pt x="9877" y="18661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b8f3"/>
            </a:gs>
            <a:gs pos="100000">
              <a:srgbClr val="dee5f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0920" y="704520"/>
            <a:ext cx="8642160" cy="4668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За 500 дней до начала Олимпийских игр Оргкомитет «Сочи 2014» огласил слоган предстоящей Олимпиады. Назовите его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6T14:21:40Z</dcterms:created>
  <dc:creator>Сандра</dc:creator>
  <dc:description/>
  <dc:language>en-US</dc:language>
  <cp:lastModifiedBy>sandra</cp:lastModifiedBy>
  <dcterms:modified xsi:type="dcterms:W3CDTF">2015-03-03T08:39:41Z</dcterms:modified>
  <cp:revision>27</cp:revision>
  <dc:subject/>
  <dc:title>Викторина «Зимние олимпийские игры.  Сочи – 2014»</dc:title>
</cp:coreProperties>
</file>