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CFB-CD97-4065-8F54-31B4219F6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1C44-E8AE-4523-A873-EA86386735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8A1B-FCC2-44E2-AE03-5FFD10D0DE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24E1-E05A-40D0-AFFB-EAA4627501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205-70FC-4E68-9FA9-2CD1C4700F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D41F-6AEA-4DD5-B912-A446C74FE6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96CF-4911-4D7B-95C8-26B941D4A6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3BD4-7908-4B96-95FD-BD40E78237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0479-0C64-49C8-B117-BC1C3F1F55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6912-0857-4CF1-BCA3-DF33E0EBBC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129-2457-4643-823A-FA425A9684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DAF-02B1-44E6-BC52-029275880F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F0BD-CF0C-44E5-8A2A-F04B5EA8C6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1BF-632C-4822-B5F9-DBD777E0D2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0AF1-089A-4599-A499-5AC9EC22C8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0D8-38DF-4784-878D-2EEA323486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436F-01AB-405D-B269-66C9A0A595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B0C-D5FC-427B-80FC-A91971ED1E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3D6-318D-4F78-963F-A357A872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21C-54E4-4928-9AD7-AFC7DF4D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8B0-F314-4E27-852B-47E34835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679-70C8-46D7-B4BF-349CD2DD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2952-4D20-40CD-BDA4-BF4BAA71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5978-1044-44C9-BB4B-3DF6D5D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3ABF-AF67-4660-AC22-F7684D22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E43-FEE0-492D-B105-DCA8E5C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0D06-97C2-49FC-97B9-F216DBC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B3D1-9FEA-41FC-B439-4E255038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C029-8EED-46E3-8DBD-76870E8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DA2-1181-4C1E-8247-1D5BF955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68EA-04C0-4E0D-844F-830F126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0779-8DD5-443A-9B39-ADD7D31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856-6858-4439-A6BB-08D25958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9417-E593-4A72-808A-8A13DA70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E170-C27C-4790-8C02-47F23C1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AF77-AB40-4BF8-9AB4-7B705D8D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8A8D-86A3-4F18-9810-225475E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0C99-384D-4EB5-BAB4-1E8A84F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35C89-8EEF-4FF1-A4F7-4A215572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D271-FB3E-4A3B-805F-DF00C22A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DC0-1401-4698-AF1E-731994A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0C74-E6BE-4D8D-BADE-4C5B1A0E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ED27-DAF7-446E-BAEA-26B2776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9A73-8B24-488C-83B9-4AD17C8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CB6C-66C7-42F2-971F-E0279D5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AC88-F8C7-4CC3-813A-F8ED9332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6638-0E09-48FE-865A-5FF292AE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5191-0279-48FB-A8B9-AB92DFA8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27C9B-D104-42CE-A0F4-F41F5C5E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C6CF-1C64-43B7-8C32-9002A37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5732-A876-4E22-B0C3-1A361D1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C0B-6833-4A40-B666-06DD7A91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AA73-7F39-4A15-815B-741F855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EB05-502F-4A6C-99F8-100F093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D0BA-2CA1-4D2E-AB30-53B454E6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3C1C-36C6-4BA8-A94C-BD1CFAA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B2CE-7CF9-4A1C-9937-B88E6E3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F76B-FD5A-4CB2-9943-FFADF4D6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5002-D186-4CE9-973F-26EE5ACA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CB87-17DF-4B6D-8F39-6BD7BA15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B327-66D4-4754-9040-E27BE439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53A4-1A10-4032-80A2-E3D3FD40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8EB-06CE-4510-9493-976CF59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A8A24-8081-42AB-BEE2-95F2E3C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C28D-F671-4C91-B8B2-A7B47FC6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41E2E-1B60-4B8E-ABEC-7B399DAF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FD08-32D1-4DE2-B1E3-EC90F459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61EF-0725-4979-A393-EB22065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7BFA-84D2-47E4-8EA3-CDC4DE2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3E8BF-A9A2-4B7B-B502-DE5B858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A9F8-F6EB-4F49-893E-FB3BE270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DCB2-216C-471F-9C9A-E86054E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86D2-9497-45ED-9594-6A29B010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633-78FA-4584-ACBE-95CF3BA8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9439-C244-4C18-994B-0E36BF3D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DF35-5C27-4C7A-8B52-BECC6445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BB111-3A49-483B-9856-961628E6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CCF42-7E01-4D4D-B358-3BFD64E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83A9-BE63-492D-9C46-8C26856F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9968-967B-4E2F-96A0-39B7901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00E7F-2698-41A2-A1CF-59B3A994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AF9DB-0547-440B-BE52-C2024D8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1F57-FEB6-45C3-946D-90A302C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F56F-5051-4D09-8BBF-4E11654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BDE-8386-4B18-90E9-86C92AE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B59A-7212-4484-A21F-4B0BEDB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6799-D459-489E-9541-7281BECA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E6FD0-16D1-4360-8F3B-1E30771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FF1-AD92-457B-96A5-FF1050F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F05-5C8C-4067-A09C-EF35043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6906-6AD7-40F8-856A-44A6887C54C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DF9-7C84-4410-BEE8-05CAB8E9627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E4A-B492-4401-8280-AC0C14BDAB1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8EE2-AD0D-45B8-9E19-33BAFDAD67B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364-15C5-46EB-A05E-E7AE8E2A62A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44C2-32FF-488A-B13C-0A18E22C7FB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1036800" y="1494000"/>
            <a:ext cx="73515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БЫВАЮТ ПРОЕКТЫ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6760" y="2143080"/>
            <a:ext cx="857268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количеству учащихся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индивидуальны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групповые (парные, звеньевые, бригадные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одержанию и привязке к учебным дисциплинам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монопредмет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жпредмет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надпредмет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продолжительности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краткосрочные  (мини-проекты: от 1 до 3 уроков - неделя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реднесрочные (от 1 до 4 недель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долгосрочные (от 4 недель до 1 года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Заголовок 1"/>
          <p:cNvSpPr/>
          <p:nvPr/>
        </p:nvSpPr>
        <p:spPr>
          <a:xfrm>
            <a:off x="357120" y="214200"/>
            <a:ext cx="8572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ы классифицируют по определенным призна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 доминирующему виду деятельности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информацион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полагают сбор, обработку и анализ информации к какой-либо учебной проблеме; поиск информации, ее  обобщение, ранжирование, структурирование и представление в виде реферата, доклада, таблицы, логической схемы, графиков и видеоматериал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исследователь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делирование ситуаций реального научного поиска на основе его логики и структуры; определение проблемы,  темы, объекта, цели, задач, гипотезы, методов, этапов, новизны, практической значимости исследования; представление результата в виде отчета исследовательской работ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твор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ситуаций для развития творческих способностей; представление результатов в виде сценария, выпуска газеты, радиопередачи, видеофильма, выставк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характеру контактов: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нутрикласс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внутришколь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региональные (в пределах одной страны)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международны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нностно-ориентированные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эколог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оциальны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культурологически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эконом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) полит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) технологические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) смешанны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ОТЛИЧАЕТСЯ ТЕХНОЛОГИЯ ПРОЕКТНОГО ОБУЧЕНИЯ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929800" cy="171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формирование личностно значимых способ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учебной работы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овладение способами самообразован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обеспечение перевода обучающегося в реж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саморазвит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тимулирование самостоятельной работы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уча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приобретение опыта социального взаимодействи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развитие коммуникативных способност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уча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) приобретение инициативност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57120" y="64296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е отличительные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13880" y="3071880"/>
            <a:ext cx="7658280" cy="171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деятельност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личностно ориентирован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компетентностны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гуманистически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культурологически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ценностный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1285920" y="15717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ческие подход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ОВАТЬ ТЕМУ ПРОЕКТА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999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учитывается содержание школьных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ограмм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учитывается возраст и уровень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учащихся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учитываются интересы и потреб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учащихся (познавательные, прикладны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творческие, ценностные и др.)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учитываются особенности своей личности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учитывается практическая значим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ожидаемых результатов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214200" y="28584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выбирается и формулируется с учетом определенных обстоятель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2714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заранее формулироваться специалистами различных отраслей наук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выдвигаться учителями с учетом учебной ситуации по своему  предмету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предлагаться самими учащимися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142920" y="64296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формулирования 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214200" y="521496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ировка темы должна быть краткой, понятной, проблемной, смыслосодержаще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642960"/>
            <a:ext cx="8429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ектного обучения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никла в начале прошлого столетия в США. Первоначально она была известна под название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од проектов»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 (или)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тод проблем»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Автором этого метода был американский философ и педагог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о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ью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дальнейшем метод разрабатывался его ученико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ильямом Хердом Килпатриком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формулироваться в рамках одного или нескольких школьных предметов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отражать социальные, культурологические, экономические, экологические, политические и другие проблемы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емы могут иметь комплексный характер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3654360" y="10000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ОВАТЬ ЦЕЛИ И ЗАДАЧИ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5786280"/>
            <a:ext cx="8501040" cy="85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всегда формулируется в соотношен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емой проект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428760" y="142920"/>
            <a:ext cx="828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отное формулирование цели - особое умение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о иметь в виду, что по отношению к выбранной теме лучше сформулировать одну цель и несколько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3"/>
          <p:cNvSpPr/>
          <p:nvPr/>
        </p:nvSpPr>
        <p:spPr>
          <a:xfrm>
            <a:off x="285840" y="19288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обоснованное представление об общих, конечных результатах совместных действий участников проек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4"/>
          <p:cNvSpPr/>
          <p:nvPr/>
        </p:nvSpPr>
        <p:spPr>
          <a:xfrm>
            <a:off x="214200" y="392904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и, по существу, формулируется общий замысел исследования. Поэтому необходимо стремиться к  лаконичному и предельно точному в смысловом отношении формулированию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ты хочешь создать в результате проектирования?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357120" y="214200"/>
            <a:ext cx="8572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428760" y="3571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ути организаторам и участникам проектирования необходимо ответить на  вопрос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57120" y="428616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и созданиями могут быть: описание и характеристика объектов и явлений, логическая схема, модель, чертежи, текст любого документа, план создания чего-либо (парка, дендрария), компьютерная программа, макет,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4240" y="2786040"/>
            <a:ext cx="392904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выясни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сформулир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обосн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созд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разработать…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57120" y="142884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лучше формулировать, начиная с глагол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4572000" y="285768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) организоват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) провести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) оказать помощь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) апробировать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1320" y="278568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ЫРАЖАТЬ ЗАДАЧИ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37148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о знать об основных категориях задач. Лучше их соотносить с основными видами деятельности учащихся, которые реализуютс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ходе выполнения проекта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285840" y="11430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развертывается в совокупности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2920" y="242892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- это, как правило, конкретизированные или более частные ц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категории задач проектирова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14200" y="2044800"/>
          <a:ext cx="8715600" cy="36525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: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деятельнос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  <a:tr h="31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а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лит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но-ориент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3000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О СОДЕРЖАНИЕ ОБОЗНАЧЕННЫХ ЗАДАЧ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5480" y="521460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работать в парах, группе, ориентированных на совместное достижение ожидаемого результата проектирования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214200" y="142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14200" y="7142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знаватель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285840" y="121428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изучением особенностей объектов (предметов) окружающего мира, способов (методов) решения проблем; овладением умениями работы с источниками; постановкой эксперимента (организация и проведение опы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14200" y="271476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оммуникатив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214200" y="321480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ознакомлением и усвоением способов речевого взаимодействия между участниками проекта (анализ, аргументация, преобразование информации, ее грамотное выражение, культура речи и отношений между партнер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214200" y="471492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ооператив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жон Дьюи предлагал обучать школьников на активной основе, через целесообразную деятельность, учитывая его личный  интерес в определенном знании. При этом важным являлось отрица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знакомой и значимой для ребенка, при решении которой требовалось приложение полученных знаний. Возникало объективное условие для «движения» обучаемого от теории к практике, соединение академических знаний с практическими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жон Дьюи определил этот метод как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учение через делание»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480" y="5143680"/>
            <a:ext cx="864396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самоорганизации: грамотной постановки задач, определения методов их решения, планирования собственной работы, определения своей роли при групповой деятельности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214200" y="142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14200" y="5716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еобразователь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214200" y="10000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умений практического характера, направленных на улучшение состояния объектов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214200" y="20718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 самообразовани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6"/>
          <p:cNvSpPr/>
          <p:nvPr/>
        </p:nvSpPr>
        <p:spPr>
          <a:xfrm>
            <a:off x="214200" y="2500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усвоением знаний и умений для самостоятельного решения возникающих учебных и друг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214200" y="32148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ворчески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8"/>
          <p:cNvSpPr/>
          <p:nvPr/>
        </p:nvSpPr>
        <p:spPr>
          <a:xfrm>
            <a:off x="214200" y="364320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язаны с реализацией потенциала личности учащихся, необходимого для создания оригинальных  результатов проектирования - сочинения, схемы, конструкции, мод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9"/>
          <p:cNvSpPr/>
          <p:nvPr/>
        </p:nvSpPr>
        <p:spPr>
          <a:xfrm>
            <a:off x="214200" y="46432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рганизационные задач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зучить литературу по теме и выясни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пределить категори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знакомиться с методам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оздать модель (методику)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вести серию опытов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пробировать модель (методику)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разработать рекомендации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формулировать …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едложить способы решения …</a:t>
            </a:r>
            <a:br>
              <a:rPr sz="3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214200" y="50004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выражения задач как и в случае целей лучше использовать глагол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ЛУЧШЕ ОБОСНОВАТЬ АКТУАЛЬНОСТЬ ПРОЕКТА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364320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кольных условиях актуальность выполнения проекта полезно рассматривать с позиции практического значения ожидаемых результатов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357120" y="85716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 связывается с доказательством важности выполнения проекта в настоящее время. Убедительным  основанием, определяющим ее,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й заказ, отражающий острые, общественно значимые проблемы,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ующие безотлагательного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чему выбрана данная, а не другая тема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Почему тема действительно интересна дл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актики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Каково новые знание, которое предлагаетс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олучить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Каков замысел проекта в целом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Что сделано до Вас, и что предстоит сдела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Вам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285840" y="100008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босновании актуальности темы проекта важно ответить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УЕТСЯ ПРОБЛЕМА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3840" y="3786120"/>
            <a:ext cx="865836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ачестве одного из наиболее значимых показателей существования проблемы следует рассматривать наличие объективно проявляющихся противоречий. Логично предположить, что если существует какое-то противоречие, значит имеетс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блема, которая  подлежит изучению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Прямоугольник 2"/>
          <p:cNvSpPr/>
          <p:nvPr/>
        </p:nvSpPr>
        <p:spPr>
          <a:xfrm>
            <a:off x="285840" y="200016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- это вопрос, ответ на который не содержится в накопленном обществом научном зн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285840" y="28584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сути, ставя проблему, любой из нас задается вопросом, что надо изучить из того, что раньше не было изуч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4200" y="3786120"/>
            <a:ext cx="87156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отиворечии одно явление (мысль, высказывания) исключает другое, несовместимое с ним (к примеру, противоречие в сфере образования, политики, культуры, воспитания; в науках - биологии, географии, литературе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иворечия выражаются до проблемы. При этом используются суждения, начиная со слова «межд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214200" y="1857240"/>
            <a:ext cx="871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ие - это взаимодействие между взаимоисключающими друг друга противоположностями внутри единого объекта и его состоя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 потребностью современного общества в личности, обладающей высокой нравственной культурой, основанной на осмыслении национальных (русских) традиций, и слабой разработанностью технологий формирования этой культуры с учетом современной социальной действительност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Прямоугольник 2"/>
          <p:cNvSpPr/>
          <p:nvPr/>
        </p:nvSpPr>
        <p:spPr>
          <a:xfrm>
            <a:off x="357120" y="157176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 противореч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39290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проблемы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ковы формы и методы, необходимые и достаточные для формирования нравственной культуры учащихся на основе использования национальных (русских) традици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285840" y="10000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у лучше формулировать в виде воп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285840" y="19288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логически вытекает из установленных противоречий и переводится исследователями в плоскость позн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65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 проектов использовался в России параллельно с разработками американских педагогов. Под руководством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Т. Шацкого в 1905 г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ла группа  специалистов, которая внедряла  проектный метод в практику обучения школьников  различным предметам. В 1931 г. метод был исключен из способов работы педагогов. «Возвращение» этого метода в образовательные учреждения наблюдается в настоящее время, ибо новые стандарты общего образования  ориентированы на самостоятельную деятельность учащихся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метода проектов у нас связана с имена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. П. Блонского, М. В.  Крупениной,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. Игнатьева, В. Н. Шульгина.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ФОРМУЛИРУЕТСЯ ГИПОТЕЗА?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жный мыслительный прием, включающий процесс выдвижения предположения и его последующего обоснования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заключение, в форме которого происходит выдвижение предположения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ипотез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ернутое и неочевидное предположение, в котором максимально подробно изложена модель будущего научного знани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Прямоугольник 2"/>
          <p:cNvSpPr/>
          <p:nvPr/>
        </p:nvSpPr>
        <p:spPr>
          <a:xfrm>
            <a:off x="142920" y="1429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учной литературе имеются несколько определений гипотезы, делающих акценты на различных формах и сторонах ее осущест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9680" y="2285640"/>
            <a:ext cx="828684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Как предположение о той или иной форме связ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между наблюдаемыми явлениям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Как предположение о связи между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наблюдаемыми явлениями и внутренн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производящей основой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285840" y="464328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 должна быть проверяемой и, по возможности, простой, но, самое главное, содержать нечто н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214200" y="78588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ая гипотеза может выступать в двоякой р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7120" y="371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описательной гипотезы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остояние окружающей среды зависит не сколько от концентраций выбрасываемых предприятиями химических веществ, сколько от того, что мы не смогли обеспечить качественную их очистку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214200" y="12142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первом проявлени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тельным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во втором 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итель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851544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мер объяснительной гипотезы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" name="Таблица 3" descr=""/>
          <p:cNvPicPr/>
          <p:nvPr/>
        </p:nvPicPr>
        <p:blipFill>
          <a:blip r:embed="rId1"/>
          <a:stretch/>
        </p:blipFill>
        <p:spPr>
          <a:xfrm>
            <a:off x="139680" y="2000160"/>
            <a:ext cx="88646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42920" y="1643040"/>
          <a:ext cx="8858160" cy="4419720"/>
        </p:xfrm>
        <a:graphic>
          <a:graphicData uri="http://schemas.openxmlformats.org/drawingml/2006/table">
            <a:tbl>
              <a:tblPr/>
              <a:tblGrid>
                <a:gridCol w="1714320"/>
                <a:gridCol w="2571840"/>
                <a:gridCol w="2143080"/>
                <a:gridCol w="242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ыдвижение идеи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формул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и основных целей выполнения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ют идею, собирают информацию, выдвигают свои формулировки 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яет смысл проектирования, участвует в обсуждении идеи, помогает формулировать тему и ц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</a:tr>
              <a:tr h="22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ставление письменного плана выпол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источников информации, выбор методов выполнения и формы представления отчета, распределение обязанностей между участниками проекта, составление плана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ют конкретный план индивидуальных и совместных действий, формулируют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яет смысл планирования, корректирует планы работы, помогает сформулировать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d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142920" y="1357200"/>
          <a:ext cx="8858160" cy="4084920"/>
        </p:xfrm>
        <a:graphic>
          <a:graphicData uri="http://schemas.openxmlformats.org/drawingml/2006/table">
            <a:tbl>
              <a:tblPr/>
              <a:tblGrid>
                <a:gridCol w="1785960"/>
                <a:gridCol w="2071800"/>
                <a:gridCol w="2428560"/>
                <a:gridCol w="257184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Выполне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действий по сбору необходим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исследовательскую, информационную, практико-ориентированную работу по проекту, советуются между собой и учителем, накапливают матер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ют за работой и косвенно руководит (корректирует действ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вершение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анализ полученной информации, или оценка созданного объек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ирует информацию, выясняют ее недостатки,  оценивают созданный собственным трудом объ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выполнить анализ, участвует в оценке созданного объекта как рядовой участ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42920" y="1571760"/>
          <a:ext cx="8858160" cy="3840120"/>
        </p:xfrm>
        <a:graphic>
          <a:graphicData uri="http://schemas.openxmlformats.org/drawingml/2006/table">
            <a:tbl>
              <a:tblPr/>
              <a:tblGrid>
                <a:gridCol w="1801800"/>
                <a:gridCol w="2252520"/>
                <a:gridCol w="2446560"/>
                <a:gridCol w="2357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готовка отче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оформлению отчета в соответствии с выбранной фор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отчетом- читают, считают, анализируют, пишут, составляют литературу, оформляют отчет, готовят выступ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составлять отчет, корректирует окончательный вариант отчета и выступ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48d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едставление отчета и его 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нности выполненного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тся о результатах своей работы, обсуждают, оценивают достоинства и недостатки проек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ет, задает вопросы, оценивает усилия учащихся, креативность и качество использования источников, выступления, проект в цел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9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036800" y="1494000"/>
            <a:ext cx="73515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2071440"/>
            <a:ext cx="850104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совокупность документов  (расчетов, чертежей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для создания какого-либо объекта (сооружения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изделия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предварительный текст какого-либо документ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замысел, план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357120" y="71424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оект»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ч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от лат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jectu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 букв. - брошенный вперед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357120" y="47149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ирование - процесс создания проекта -  прообраза предполагаемого или возможного объ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ность метода проекто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решение какой-либо проблемы (задачи) на основе самостоятельной деятельности учащихся при использовании соответствующих  способов, средств, знаний, включая  межпредметные и надпредметные,  интеллектуальных и практических умений, а также  реализации творческого  потенциала для получения конкретного результата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2920" y="3143160"/>
            <a:ext cx="8858160" cy="3571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ами педагогической технологии являютс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проблема, цель, задачи, содержание, методы, ресурсы, результат, оценка. Следовательно,  метод проектов можно представлять как педагогическую технологию, ибо его реализация соответствует целевому, содержательному, процессуальному, технологическому и результативно-оценочному аспекту педаг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142920" y="14292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основе реализации метода проектов в обучении предметам лежи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чески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142920" y="107172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- целенаправленный, алгоритмический процес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обеспечивает получение точного,  ожидаемого резуль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3857400"/>
            <a:ext cx="88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пределение проблемы (задачи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формулирование цели (конкретных задач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связанных с решением проблемы)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бор методов и средств решения проблем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ведение исследовательской или иной работ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по решению проблемы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лучение и анализ данных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формление данных в виде текста (схемы, рисунка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суждение и корректировка данных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ыражение ожидаемого результата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42920" y="14292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 образом, проектная техн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ует последовательного поиска решения проблемы (зада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142920" y="15717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сть действий так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даемый результ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краткое описание любого объекта; разработки каких-либо механизмов,  макетов, схем, компьютерных программ; характеристика конкретной деятельности по благоустройству окружающей среды, обслуживанию отдельных специальных групп населения, сохранению и рациональному использованию природных ресурсов и др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6:09:50Z</dcterms:created>
  <dc:creator>PC</dc:creator>
  <dc:description/>
  <dc:language>en-US</dc:language>
  <cp:lastModifiedBy>школа</cp:lastModifiedBy>
  <dcterms:modified xsi:type="dcterms:W3CDTF">2011-11-12T10:01:26Z</dcterms:modified>
  <cp:revision>64</cp:revision>
  <dc:subject/>
  <dc:title>Технология проектного обучения </dc:title>
</cp:coreProperties>
</file>