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B0B-3944-43AB-957D-F99D14B7B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D0E-A883-4811-BB95-AAD660B168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CA7-7431-441E-8E1D-8A84B8ED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6C2-3A5D-4A78-A318-A26D6C3E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9E3-E168-4C12-BD99-10A4F2EA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852-2AA6-42A2-BC24-55F6CD9D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8552-1FA0-41E0-A8B5-F9FBE63B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DCF3-F84F-4EFA-A980-DCB7C49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DFA-392C-4F3F-82CF-9B1FE5B0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773-78F6-4434-9D4C-1722D46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838F-FAB5-407C-BA64-B59228B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C006-D369-4648-8965-0024C56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D86-7CF4-4AC6-AD17-46AC8D0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9AC-4CBD-4CB6-8F91-3E87965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344A-085B-47C3-AD21-5D043BD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057-696C-485E-AB55-A60A6385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30C4-ECED-4381-840D-B8F84FA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25F2-DE8C-4A35-9186-41102E40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4196-13D7-4B89-8CE1-029CEF04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F01-C21B-42EA-AC25-9F9EE3B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85F-432B-4F9F-87F0-4BE9CE9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026-F504-4ABE-BAEF-F2276E2E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D9D-4FBC-4130-9563-9FA648C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BE7-FA01-47F0-9EA3-F931ECB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157-47C8-457B-823B-7795EFC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990-05F1-4A7F-BE12-220869AD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7D9-5970-4725-A1A5-8852A492F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977-1081-4BA6-8094-C0B72CD2EE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АЛЕНКИ-русское чуд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Содержимое 19" descr="6G1B1631-1.jpg"/>
          <p:cNvPicPr/>
          <p:nvPr/>
        </p:nvPicPr>
        <p:blipFill>
          <a:blip r:embed="rId1"/>
          <a:stretch/>
        </p:blipFill>
        <p:spPr>
          <a:xfrm>
            <a:off x="1357200" y="1214280"/>
            <a:ext cx="6286680" cy="5357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755640" y="47052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ашем классе прошел конкурс «Что за прелесть эти валенки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49640" y="2205000"/>
            <a:ext cx="582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енки Кузнецовой Наталь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 Попова П.П., 2009г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849680" y="4724280"/>
            <a:ext cx="60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енки Кузьминой Свет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 Попова П.П.,2009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47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400" y="11426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ую обувь выбрать для зим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ечно теплую, легкую, прочную,непромокаему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разве такая существует? Попробуем ответить на этот вопрос. Проведем исследование: что носят наши девчонки и мальчишки ,а что носили наши родители, бабушки и дедушки…Заглянем в далекое прошлое .Может там найдем что-то интересное для себ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и данной работ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ыяснить, какую зимнюю обувь предпочитают мои однокласс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овать поиск информации о появлении в составе русской национальной обуви валенок, их значении для русского народа, технологии их изготовл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- пропаганда здорового образа жизн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ы исследова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бота с различными источниками информации: книги, СМИ, журналы и газеты, компьютерные ресурсы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циологический опрос на тему « Какую обувь предпочитаете носить зимой и почему?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жидаемый результа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зработать  систему мероприятий для использования данного материала на классных час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здать мультимедийную презентацию для рекламы русской национальной обуви – вален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вести среди одноклассников конкурс на лучшее оформление своей зимней обув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много истор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енки (они же валенцы, валеники, волнушечки, выходки, сапоги валяные, пимы) - обувь для русского народа не такая уж древняя, как многие считают: всего три века с хвостиком. Обувь из шерстяного войлока появилась в Сибири в середине XVIII столетия, а в Европейской части России - в начале XIX века. Поскольку российский климат мягкостью никогда не отличался, пра-валенки очень быстро прижились среди разных сослов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642960"/>
            <a:ext cx="88581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ревенский богатей надевал черные чесанки; крестьянин победнее с трудом обзаводился твердыми серыми вал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валенках ходили царские особы.Пет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сле бурного веселья первым делом влезал в валенки, императрица Анна Иоановна позволяля фрейлинам надевать валенки к парадному пла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ских солдат обували зимой только в валенки. Говорят, именно из-за дефицита валяных изделий мы проиграли финскую войну. Зато Наполеона и Гитлера победили, как раз благодаря обилию ценной обув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роковые - роковые для фронта, для победы было изготовлено около 100 миллионов пар валенок. Немцы считали валенки лучшим трофеем и готовы были обменять их на любую ценность, даже на золотые часы. Русский валенок прошел от Москвы до Бреста и победил немецкий сапог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и постоянных "носителей" валенок - подразделения МО, МВД, МЧС, ГТК, ФПС РФ, а также охранные структуры, рыболовные и охотничьи хозяйства. Так что валенки - вещь хоть и анекдотичная, но совершенно незаменим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чем польза валенок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794376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нки - вещь полезная во всех отношениях. А все благодаря овечьей шерсти. Она не только надежно греет, но и лечит. Состригают ее исключительно с живых овец. Такая шерсть буквально "пропитана" целительной энергией солнца. Поэтому валенки получаются мягкие, легкие и практичные. Они хорошо пропускают воздух 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новременно согревают ноги, улучшают кровообращение, способствуют расширению кровеносных сосудов, спасают от ревматизма, успокаивают своим теплом нервную систему, поднимая настроение даже в лютые сибирские моро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1"/>
          <p:cNvSpPr/>
          <p:nvPr/>
        </p:nvSpPr>
        <p:spPr>
          <a:xfrm>
            <a:off x="993240" y="122760"/>
            <a:ext cx="770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обувь предпочитаете носить зимо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вален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сапоги (ботинк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вод : как показал опрос, мнения разделились следующим образо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85920" y="2214720"/>
          <a:ext cx="6357960" cy="2438280"/>
        </p:xfrm>
        <a:graphic>
          <a:graphicData uri="http://schemas.openxmlformats.org/drawingml/2006/table">
            <a:tbl>
              <a:tblPr/>
              <a:tblGrid>
                <a:gridCol w="1589040"/>
                <a:gridCol w="1590840"/>
                <a:gridCol w="1589040"/>
                <a:gridCol w="1589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растные груп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пог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и от 7 до 13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13 до 25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25 до 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е 50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277"/>
          <p:cNvSpPr/>
          <p:nvPr/>
        </p:nvSpPr>
        <p:spPr>
          <a:xfrm>
            <a:off x="1055520" y="3656520"/>
            <a:ext cx="58910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ли в вашей семье хотя бы одна пара валено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вод : все опрошенные ответили единогласно – 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музее «Русские валенк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Содержимое 6" descr="09122014658.jpg"/>
          <p:cNvPicPr/>
          <p:nvPr/>
        </p:nvPicPr>
        <p:blipFill>
          <a:blip r:embed="rId1"/>
          <a:stretch/>
        </p:blipFill>
        <p:spPr>
          <a:xfrm>
            <a:off x="214200" y="1857240"/>
            <a:ext cx="4286520" cy="4714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09122014661.jpg"/>
          <p:cNvPicPr/>
          <p:nvPr/>
        </p:nvPicPr>
        <p:blipFill>
          <a:blip r:embed="rId2"/>
          <a:stretch/>
        </p:blipFill>
        <p:spPr>
          <a:xfrm>
            <a:off x="4786200" y="1857240"/>
            <a:ext cx="4143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1:44:32Z</dcterms:created>
  <dc:creator>777</dc:creator>
  <dc:description/>
  <dc:language>en-US</dc:language>
  <cp:lastModifiedBy>Макарова</cp:lastModifiedBy>
  <dcterms:modified xsi:type="dcterms:W3CDTF">2015-03-03T07:29:23Z</dcterms:modified>
  <cp:revision>48</cp:revision>
  <dc:subject/>
  <dc:title> ВАЛЕНКИ</dc:title>
</cp:coreProperties>
</file>