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809-ECDE-441D-B596-B38230FB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4C4-A88F-47E9-BFE6-C15D5F96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97B-1E6A-4A3A-BF1D-2315429A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04D-5B36-49B6-9069-DC521625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686F-DEE9-42AB-847C-79B6E90B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9230-D4A1-4F52-AC3E-090C1334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28CE-ECDC-42D0-BC93-993B0C30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2BE4-E36E-464E-8820-A0CE3174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32DB-039F-44BF-AE45-7334A4B5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2B0D-352B-4D54-B3B1-203C6889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465B-9D73-4B7F-A2B8-A9F95481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922-B77D-4F91-A9D3-59C7D2D4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27C8-C60E-4B0D-A958-02369AB4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9291-7BD1-4B0B-A121-36307C8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E63F-BA44-463A-AC38-91BDC487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9BDC-FE91-43DE-B611-B28192E8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93C5-F11B-445E-99DA-AE6BF111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316-347F-415F-A71B-50EEB878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EB0-B906-4B99-AAC7-C5651086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CFE-3BAF-4592-B567-895719A2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60F-62DC-4D6E-BE1F-C1DD75AA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479-7A78-42D1-95DC-640F3016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56A-2C7F-45B9-8B53-F694090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60B-F54F-4E75-A386-681D55BF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B569-751F-410C-B53D-D326C591F2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0645-DAA5-4874-BDBD-FD96A320F2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Monotype Corsiva"/>
              </a:rPr>
              <a:t>Алтайские</a:t>
            </a:r>
            <a:r>
              <a:rPr b="0" lang="en-US" sz="8800" spc="-1" strike="noStrike">
                <a:solidFill>
                  <a:srgbClr val="ffcf01"/>
                </a:solidFill>
                <a:latin typeface="Monotype Corsiva"/>
              </a:rPr>
              <a:t> чудеса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14800" y="464832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e4a8"/>
                </a:solidFill>
                <a:latin typeface="Monotype Corsiva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1-29T04:28:5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