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339-93BE-4AD5-928B-B59DDDDF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7CD-40C2-404F-8AC7-4A9AB9D4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A99E-6857-443D-9149-18C8A385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8B0E-BCED-4941-A402-8E052609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8BC9-89BB-4475-88BD-C8151367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6D45-7DE2-43BA-BA9C-397FD5C6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B873-18F3-4362-A800-9690958C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2CC3-7BA5-471D-AC04-B891F60E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A9CA-BE1B-4251-80A6-1A44A084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E42B-9297-4C7B-A2C5-5CDA47D6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8C3E-F514-4D85-B322-96E020DB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0112-A864-4C4C-A7C0-97C9189E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B0C6-BAF5-42B0-8401-44E70687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A823-F575-4635-A3EC-CC53D19E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98B8-5CFE-4B10-9CBC-72F2CEE2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FD20-8928-4235-B8C4-FCA66E68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8868-CA59-4421-98E0-3B24E098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FFCE-7A90-4430-A620-CE37A1EC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4CD-C4A3-43F8-8E27-A167A4E8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272F-84BC-4B3C-83BE-CF54FE68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C851-CE41-41C7-AEB4-74D3396D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593-32BF-4A9D-90C8-721B2463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9442-0221-4144-91AC-C8566CEA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48E-6D27-4619-908A-6DD7B32F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4C85-3437-42E2-B2B7-1E3921DC6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DA1F-AEE1-4594-AC4B-BEC738F353D1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9" descr="64063350-zoluka_avi_image3 - копия3"/>
          <p:cNvPicPr/>
          <p:nvPr/>
        </p:nvPicPr>
        <p:blipFill>
          <a:blip r:embed="rId1"/>
          <a:stretch/>
        </p:blipFill>
        <p:spPr>
          <a:xfrm>
            <a:off x="611280" y="2060640"/>
            <a:ext cx="2301840" cy="3456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121440" cy="24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Расскажем Золушке о кухонных бытовых </a:t>
            </a:r>
            <a:br>
              <a:rPr sz="4800"/>
            </a:b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приборах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9" name="Picture 10" descr="hqdefault - копия2"/>
          <p:cNvPicPr/>
          <p:nvPr/>
        </p:nvPicPr>
        <p:blipFill>
          <a:blip r:embed="rId2"/>
          <a:stretch/>
        </p:blipFill>
        <p:spPr>
          <a:xfrm>
            <a:off x="6372360" y="2924280"/>
            <a:ext cx="2346120" cy="324000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11"/>
          <p:cNvSpPr/>
          <p:nvPr/>
        </p:nvSpPr>
        <p:spPr>
          <a:xfrm rot="3570000">
            <a:off x="1510920" y="5841720"/>
            <a:ext cx="792360" cy="719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AutoShape 12"/>
          <p:cNvSpPr/>
          <p:nvPr/>
        </p:nvSpPr>
        <p:spPr>
          <a:xfrm rot="3570000">
            <a:off x="647280" y="1233720"/>
            <a:ext cx="792000" cy="7189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AutoShape 13"/>
          <p:cNvSpPr/>
          <p:nvPr/>
        </p:nvSpPr>
        <p:spPr>
          <a:xfrm rot="3570000">
            <a:off x="8388000" y="5841720"/>
            <a:ext cx="792360" cy="719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3" name="AutoShape 14"/>
          <p:cNvSpPr/>
          <p:nvPr/>
        </p:nvSpPr>
        <p:spPr>
          <a:xfrm rot="5119200">
            <a:off x="1402200" y="1484640"/>
            <a:ext cx="50472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AutoShape 15"/>
          <p:cNvSpPr/>
          <p:nvPr/>
        </p:nvSpPr>
        <p:spPr>
          <a:xfrm rot="3564000">
            <a:off x="8026920" y="6166440"/>
            <a:ext cx="50508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миксер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0" y="1844280"/>
            <a:ext cx="41148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Две вертлявые сестрички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С молоком взобьют клубнички.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И получится коктейль –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На здоровье его пей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1" name="Picture 4" descr="img_24275"/>
          <p:cNvPicPr/>
          <p:nvPr/>
        </p:nvPicPr>
        <p:blipFill>
          <a:blip r:embed="rId1"/>
          <a:stretch/>
        </p:blipFill>
        <p:spPr>
          <a:xfrm>
            <a:off x="1619280" y="2060640"/>
            <a:ext cx="3744720" cy="335448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5"/>
          <p:cNvSpPr/>
          <p:nvPr/>
        </p:nvSpPr>
        <p:spPr>
          <a:xfrm rot="3564000">
            <a:off x="1258200" y="1197720"/>
            <a:ext cx="50472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3" name="AutoShape 6"/>
          <p:cNvSpPr/>
          <p:nvPr/>
        </p:nvSpPr>
        <p:spPr>
          <a:xfrm rot="3564000">
            <a:off x="467280" y="4582080"/>
            <a:ext cx="50508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AutoShape 7"/>
          <p:cNvSpPr/>
          <p:nvPr/>
        </p:nvSpPr>
        <p:spPr>
          <a:xfrm rot="8464800">
            <a:off x="4715640" y="5013360"/>
            <a:ext cx="792360" cy="719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тостер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148000" y="1341360"/>
            <a:ext cx="3609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Маленький волшебный ящик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Гренок сделает хрустящих.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Хлеб скорей в него клади,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Нажимай и подожди!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В две минуты быстро, просто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Вкусно хлеб поджарит …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7" name="Picture 4" descr="1680163_kenyerpirito"/>
          <p:cNvPicPr/>
          <p:nvPr/>
        </p:nvPicPr>
        <p:blipFill>
          <a:blip r:embed="rId1"/>
          <a:stretch/>
        </p:blipFill>
        <p:spPr>
          <a:xfrm>
            <a:off x="1763640" y="2133720"/>
            <a:ext cx="3529080" cy="30970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6"/>
          <p:cNvSpPr/>
          <p:nvPr/>
        </p:nvSpPr>
        <p:spPr>
          <a:xfrm rot="3570000">
            <a:off x="5759280" y="5841720"/>
            <a:ext cx="792360" cy="719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" name="AutoShape 7"/>
          <p:cNvSpPr/>
          <p:nvPr/>
        </p:nvSpPr>
        <p:spPr>
          <a:xfrm rot="5200200">
            <a:off x="1366560" y="5841720"/>
            <a:ext cx="792360" cy="719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0" name="AutoShape 8"/>
          <p:cNvSpPr/>
          <p:nvPr/>
        </p:nvSpPr>
        <p:spPr>
          <a:xfrm rot="3564000">
            <a:off x="1115280" y="1413720"/>
            <a:ext cx="50472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imes New Roman"/>
              </a:rPr>
              <a:t>мультиварка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0" y="2133360"/>
            <a:ext cx="4176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Хочешь суп, а хочешь, плов через полчаса готов! 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И гарниры, и котлеты, даже может хлеб испечь…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Отдыхай, читай газеты - пусть готовит чудо – печь!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3" name="Picture 5" descr="157500 - копия"/>
          <p:cNvPicPr/>
          <p:nvPr/>
        </p:nvPicPr>
        <p:blipFill>
          <a:blip r:embed="rId1"/>
          <a:stretch/>
        </p:blipFill>
        <p:spPr>
          <a:xfrm>
            <a:off x="1619280" y="2492280"/>
            <a:ext cx="3014640" cy="248148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6"/>
          <p:cNvSpPr/>
          <p:nvPr/>
        </p:nvSpPr>
        <p:spPr>
          <a:xfrm rot="5200200">
            <a:off x="1222200" y="1593720"/>
            <a:ext cx="792000" cy="719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5" name="AutoShape 7"/>
          <p:cNvSpPr/>
          <p:nvPr/>
        </p:nvSpPr>
        <p:spPr>
          <a:xfrm rot="21340200">
            <a:off x="826920" y="5013360"/>
            <a:ext cx="792360" cy="719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imes New Roman"/>
              </a:rPr>
              <a:t>блендер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03280" y="1484280"/>
            <a:ext cx="3745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Этот помощник, как повар на кухне,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Все приготовит, кнопку нажми,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Все измельчит, даже не спросит,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Вовремя только притормози.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8" name="Picture 4" descr="b2f21b441f88"/>
          <p:cNvPicPr/>
          <p:nvPr/>
        </p:nvPicPr>
        <p:blipFill>
          <a:blip r:embed="rId1"/>
          <a:stretch/>
        </p:blipFill>
        <p:spPr>
          <a:xfrm>
            <a:off x="1908000" y="1628640"/>
            <a:ext cx="2776680" cy="43196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5"/>
          <p:cNvSpPr/>
          <p:nvPr/>
        </p:nvSpPr>
        <p:spPr>
          <a:xfrm rot="3570000">
            <a:off x="5759280" y="5841720"/>
            <a:ext cx="792360" cy="719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0" name="AutoShape 6"/>
          <p:cNvSpPr/>
          <p:nvPr/>
        </p:nvSpPr>
        <p:spPr>
          <a:xfrm rot="5200200">
            <a:off x="934560" y="1736640"/>
            <a:ext cx="792000" cy="7189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6800" y="-360"/>
            <a:ext cx="8377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Помогите доставить электрочайник Золушке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32000" y="4797000"/>
            <a:ext cx="13683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43" name="Picture 8" descr="bee2a16db2b87bc3910ffadd20378e98п"/>
          <p:cNvPicPr/>
          <p:nvPr/>
        </p:nvPicPr>
        <p:blipFill>
          <a:blip r:embed="rId1"/>
          <a:stretch/>
        </p:blipFill>
        <p:spPr>
          <a:xfrm>
            <a:off x="2916360" y="1484280"/>
            <a:ext cx="4029120" cy="4824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hqdefault - копия2"/>
          <p:cNvPicPr/>
          <p:nvPr/>
        </p:nvPicPr>
        <p:blipFill>
          <a:blip r:embed="rId2"/>
          <a:stretch/>
        </p:blipFill>
        <p:spPr>
          <a:xfrm>
            <a:off x="7164360" y="3284640"/>
            <a:ext cx="1824120" cy="2519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i - копия2"/>
          <p:cNvPicPr/>
          <p:nvPr/>
        </p:nvPicPr>
        <p:blipFill>
          <a:blip r:embed="rId3"/>
          <a:stretch/>
        </p:blipFill>
        <p:spPr>
          <a:xfrm>
            <a:off x="1357200" y="4000680"/>
            <a:ext cx="1516320" cy="172692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14"/>
          <p:cNvSpPr/>
          <p:nvPr/>
        </p:nvSpPr>
        <p:spPr>
          <a:xfrm rot="2316600">
            <a:off x="899640" y="1988640"/>
            <a:ext cx="50508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7" name="AutoShape 15"/>
          <p:cNvSpPr/>
          <p:nvPr/>
        </p:nvSpPr>
        <p:spPr>
          <a:xfrm rot="19870800">
            <a:off x="1979640" y="333360"/>
            <a:ext cx="50472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AutoShape 16"/>
          <p:cNvSpPr/>
          <p:nvPr/>
        </p:nvSpPr>
        <p:spPr>
          <a:xfrm rot="3564000">
            <a:off x="7092360" y="5950800"/>
            <a:ext cx="50472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9" name="AutoShape 17"/>
          <p:cNvSpPr/>
          <p:nvPr/>
        </p:nvSpPr>
        <p:spPr>
          <a:xfrm rot="3570000">
            <a:off x="7630920" y="1161720"/>
            <a:ext cx="792360" cy="719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435280" y="259920"/>
            <a:ext cx="3708360" cy="23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Помогите найти Золушке включенный электроприбор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51" name="Picture 4" descr="9602772d53f84448e1fee3068238405b"/>
          <p:cNvPicPr/>
          <p:nvPr/>
        </p:nvPicPr>
        <p:blipFill>
          <a:blip r:embed="rId1"/>
          <a:stretch/>
        </p:blipFill>
        <p:spPr>
          <a:xfrm>
            <a:off x="142920" y="214200"/>
            <a:ext cx="5332320" cy="6408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64063350-zoluka_avi_image3 - копия3"/>
          <p:cNvPicPr/>
          <p:nvPr/>
        </p:nvPicPr>
        <p:blipFill>
          <a:blip r:embed="rId2"/>
          <a:stretch/>
        </p:blipFill>
        <p:spPr>
          <a:xfrm>
            <a:off x="6227640" y="3068640"/>
            <a:ext cx="1917720" cy="287964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7"/>
          <p:cNvSpPr/>
          <p:nvPr/>
        </p:nvSpPr>
        <p:spPr>
          <a:xfrm rot="3570000">
            <a:off x="5759280" y="5841720"/>
            <a:ext cx="792360" cy="719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4" name="AutoShape 8"/>
          <p:cNvSpPr/>
          <p:nvPr/>
        </p:nvSpPr>
        <p:spPr>
          <a:xfrm rot="1468200">
            <a:off x="8459640" y="3715920"/>
            <a:ext cx="50508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36720" y="1125360"/>
            <a:ext cx="3706920" cy="338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Найдите Золушке на нижнем рисунке предмет, которого нет на верхнем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4076280"/>
            <a:ext cx="35384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57" name="Picture 4" descr="1d67506966cb02a8f8b5eb63e9d7c12f"/>
          <p:cNvPicPr/>
          <p:nvPr/>
        </p:nvPicPr>
        <p:blipFill>
          <a:blip r:embed="rId1"/>
          <a:stretch/>
        </p:blipFill>
        <p:spPr>
          <a:xfrm>
            <a:off x="119160" y="189000"/>
            <a:ext cx="5419800" cy="640872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5"/>
          <p:cNvSpPr/>
          <p:nvPr/>
        </p:nvSpPr>
        <p:spPr>
          <a:xfrm rot="20371200">
            <a:off x="6300720" y="5876640"/>
            <a:ext cx="50472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9" name="AutoShape 6"/>
          <p:cNvSpPr/>
          <p:nvPr/>
        </p:nvSpPr>
        <p:spPr>
          <a:xfrm rot="2485200">
            <a:off x="8172360" y="333360"/>
            <a:ext cx="50508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0" name="AutoShape 7"/>
          <p:cNvSpPr/>
          <p:nvPr/>
        </p:nvSpPr>
        <p:spPr>
          <a:xfrm rot="1548000">
            <a:off x="6659280" y="5445000"/>
            <a:ext cx="792000" cy="719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7"/>
          <p:cNvSpPr/>
          <p:nvPr/>
        </p:nvSpPr>
        <p:spPr>
          <a:xfrm rot="10800000">
            <a:off x="1403280" y="4581360"/>
            <a:ext cx="4897440" cy="1943280"/>
          </a:xfrm>
          <a:prstGeom prst="wedgeEllipseCallout">
            <a:avLst>
              <a:gd name="adj1" fmla="val -51787"/>
              <a:gd name="adj2" fmla="val 73773"/>
            </a:avLst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03280" y="5516280"/>
            <a:ext cx="5122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Ребята, большое спасибо!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63" name="Picture 5" descr="1371966140_1qvsmjb93vhj"/>
          <p:cNvPicPr/>
          <p:nvPr/>
        </p:nvPicPr>
        <p:blipFill>
          <a:blip r:embed="rId1"/>
          <a:stretch/>
        </p:blipFill>
        <p:spPr>
          <a:xfrm>
            <a:off x="5883120" y="260280"/>
            <a:ext cx="2703600" cy="381636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10"/>
          <p:cNvSpPr/>
          <p:nvPr/>
        </p:nvSpPr>
        <p:spPr>
          <a:xfrm>
            <a:off x="4500720" y="4365720"/>
            <a:ext cx="50472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5" name="AutoShape 11"/>
          <p:cNvSpPr/>
          <p:nvPr/>
        </p:nvSpPr>
        <p:spPr>
          <a:xfrm>
            <a:off x="1116000" y="1916280"/>
            <a:ext cx="504720" cy="5029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6" name="AutoShape 14"/>
          <p:cNvSpPr/>
          <p:nvPr/>
        </p:nvSpPr>
        <p:spPr>
          <a:xfrm>
            <a:off x="7956720" y="4076640"/>
            <a:ext cx="50472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7" name="AutoShape 15"/>
          <p:cNvSpPr/>
          <p:nvPr/>
        </p:nvSpPr>
        <p:spPr>
          <a:xfrm>
            <a:off x="5508720" y="333360"/>
            <a:ext cx="50472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8" name="AutoShape 16"/>
          <p:cNvSpPr/>
          <p:nvPr/>
        </p:nvSpPr>
        <p:spPr>
          <a:xfrm rot="19743000">
            <a:off x="1547640" y="0"/>
            <a:ext cx="1513080" cy="13669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9" name="AutoShape 17"/>
          <p:cNvSpPr/>
          <p:nvPr/>
        </p:nvSpPr>
        <p:spPr>
          <a:xfrm>
            <a:off x="1332000" y="5805360"/>
            <a:ext cx="792000" cy="719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8244000" cy="73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ХОЛОДИЛЬНИК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140360" y="2276640"/>
            <a:ext cx="475272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Пусть на улице жара –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В этом доме холод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Заглянуть в него пора,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Если мучит голод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7" name="Picture 11" descr="nabor_holodilnik_orion-808-1-500x5002"/>
          <p:cNvPicPr/>
          <p:nvPr/>
        </p:nvPicPr>
        <p:blipFill>
          <a:blip r:embed="rId1"/>
          <a:stretch/>
        </p:blipFill>
        <p:spPr>
          <a:xfrm>
            <a:off x="1692360" y="1628640"/>
            <a:ext cx="2735280" cy="48247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12"/>
          <p:cNvSpPr/>
          <p:nvPr/>
        </p:nvSpPr>
        <p:spPr>
          <a:xfrm rot="3570000">
            <a:off x="647280" y="4618080"/>
            <a:ext cx="792360" cy="7189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AutoShape 13"/>
          <p:cNvSpPr/>
          <p:nvPr/>
        </p:nvSpPr>
        <p:spPr>
          <a:xfrm rot="3564000">
            <a:off x="1115280" y="1413720"/>
            <a:ext cx="50472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ЭЛЕКТРОЧАЙНИК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48000" y="2420640"/>
            <a:ext cx="39956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 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Закипает изнутри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И пускает пузыри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2" name="Picture 11" descr="i - копия2"/>
          <p:cNvPicPr/>
          <p:nvPr/>
        </p:nvPicPr>
        <p:blipFill>
          <a:blip r:embed="rId1"/>
          <a:stretch/>
        </p:blipFill>
        <p:spPr>
          <a:xfrm>
            <a:off x="1928880" y="1857240"/>
            <a:ext cx="3478320" cy="39610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2"/>
          <p:cNvSpPr/>
          <p:nvPr/>
        </p:nvSpPr>
        <p:spPr>
          <a:xfrm rot="3570000">
            <a:off x="1150560" y="1377720"/>
            <a:ext cx="792360" cy="719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AutoShape 13"/>
          <p:cNvSpPr/>
          <p:nvPr/>
        </p:nvSpPr>
        <p:spPr>
          <a:xfrm rot="3564000">
            <a:off x="538560" y="4582080"/>
            <a:ext cx="50508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AutoShape 14"/>
          <p:cNvSpPr/>
          <p:nvPr/>
        </p:nvSpPr>
        <p:spPr>
          <a:xfrm rot="3564000">
            <a:off x="1258200" y="6093720"/>
            <a:ext cx="50472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СОКОВЫЖИМАЛКА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32000" y="1916280"/>
            <a:ext cx="42116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Этот чудо аппара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Овощам и фруктам рад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Их прокормит, измельчит и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соком вкусным угости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8" name="Picture 7" descr="1287221942_129414708_1----Rotel-Juice-Master-1287221942"/>
          <p:cNvPicPr/>
          <p:nvPr/>
        </p:nvPicPr>
        <p:blipFill>
          <a:blip r:embed="rId1"/>
          <a:stretch/>
        </p:blipFill>
        <p:spPr>
          <a:xfrm>
            <a:off x="1619280" y="2133720"/>
            <a:ext cx="3672000" cy="3324240"/>
          </a:xfrm>
          <a:prstGeom prst="rect">
            <a:avLst/>
          </a:prstGeom>
          <a:ln w="19080">
            <a:solidFill>
              <a:srgbClr val="9999ff"/>
            </a:solidFill>
            <a:miter/>
          </a:ln>
        </p:spPr>
      </p:pic>
      <p:sp>
        <p:nvSpPr>
          <p:cNvPr id="189" name="AutoShape 8"/>
          <p:cNvSpPr/>
          <p:nvPr/>
        </p:nvSpPr>
        <p:spPr>
          <a:xfrm rot="3570000">
            <a:off x="142560" y="4185720"/>
            <a:ext cx="792000" cy="719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0" name="AutoShape 9"/>
          <p:cNvSpPr/>
          <p:nvPr/>
        </p:nvSpPr>
        <p:spPr>
          <a:xfrm rot="3564000">
            <a:off x="1331280" y="5950800"/>
            <a:ext cx="50472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AutoShape 10"/>
          <p:cNvSpPr/>
          <p:nvPr/>
        </p:nvSpPr>
        <p:spPr>
          <a:xfrm rot="3564000">
            <a:off x="1115280" y="1413720"/>
            <a:ext cx="50472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ЭЛЕКТРОПЛИТА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148360" y="2204640"/>
            <a:ext cx="368280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Жарит мясо, варит суп,</a:t>
            </a:r>
            <a:br>
              <a:rPr sz="2800"/>
            </a:b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Пироги печет. </a:t>
            </a:r>
            <a:br>
              <a:rPr sz="2800"/>
            </a:b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У нее и там и тут </a:t>
            </a:r>
            <a:br>
              <a:rPr sz="2800"/>
            </a:b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Очень горячо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4" name="Picture 9" descr="123636_613191"/>
          <p:cNvPicPr/>
          <p:nvPr/>
        </p:nvPicPr>
        <p:blipFill>
          <a:blip r:embed="rId1"/>
          <a:stretch/>
        </p:blipFill>
        <p:spPr>
          <a:xfrm>
            <a:off x="1692360" y="1700280"/>
            <a:ext cx="3684600" cy="453708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10"/>
          <p:cNvSpPr/>
          <p:nvPr/>
        </p:nvSpPr>
        <p:spPr>
          <a:xfrm rot="3570000">
            <a:off x="1006200" y="6102000"/>
            <a:ext cx="792000" cy="719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6" name="AutoShape 11"/>
          <p:cNvSpPr/>
          <p:nvPr/>
        </p:nvSpPr>
        <p:spPr>
          <a:xfrm rot="3564000">
            <a:off x="1115280" y="1413720"/>
            <a:ext cx="50472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МЯСОРУБКА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8000" y="2060640"/>
            <a:ext cx="39956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Ей набили мясом рот, </a:t>
            </a:r>
            <a:br>
              <a:rPr sz="2800"/>
            </a:b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И она его жует, </a:t>
            </a:r>
            <a:br>
              <a:rPr sz="2800"/>
            </a:b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Жует, жует и не глотает – </a:t>
            </a:r>
            <a:br>
              <a:rPr sz="2800"/>
            </a:b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В тарелку отправляет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9" name="Picture 11" descr="MG1506MRR-1-42"/>
          <p:cNvPicPr/>
          <p:nvPr/>
        </p:nvPicPr>
        <p:blipFill>
          <a:blip r:embed="rId1"/>
          <a:stretch/>
        </p:blipFill>
        <p:spPr>
          <a:xfrm>
            <a:off x="1692360" y="1844640"/>
            <a:ext cx="3852720" cy="44053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12"/>
          <p:cNvSpPr/>
          <p:nvPr/>
        </p:nvSpPr>
        <p:spPr>
          <a:xfrm rot="3570000">
            <a:off x="1294920" y="1162080"/>
            <a:ext cx="792360" cy="7189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1" name="AutoShape 13"/>
          <p:cNvSpPr/>
          <p:nvPr/>
        </p:nvSpPr>
        <p:spPr>
          <a:xfrm rot="3564000">
            <a:off x="825840" y="4582080"/>
            <a:ext cx="50508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82440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микроволновая печь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6432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Она очень помогает,</a:t>
            </a:r>
            <a:br>
              <a:rPr sz="2800"/>
            </a:b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Плиту в доме дополняет,</a:t>
            </a:r>
            <a:br>
              <a:rPr sz="2800"/>
            </a:b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Еду быстро разогреет,</a:t>
            </a:r>
            <a:br>
              <a:rPr sz="2800"/>
            </a:b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Жарить и варить умеет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Мясо, рыбу разморозит</a:t>
            </a:r>
            <a:br>
              <a:rPr sz="2800"/>
            </a:b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И продукты вынуть просит,</a:t>
            </a:r>
            <a:br>
              <a:rPr sz="2800"/>
            </a:b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Подаёт звонок-сигнал,</a:t>
            </a:r>
            <a:br>
              <a:rPr sz="2800"/>
            </a:b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Что же это? Кто узнал?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4" name="Picture 4" descr="l1"/>
          <p:cNvPicPr/>
          <p:nvPr/>
        </p:nvPicPr>
        <p:blipFill>
          <a:blip r:embed="rId1"/>
          <a:stretch/>
        </p:blipFill>
        <p:spPr>
          <a:xfrm>
            <a:off x="1476360" y="2276640"/>
            <a:ext cx="3240000" cy="235404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5"/>
          <p:cNvSpPr/>
          <p:nvPr/>
        </p:nvSpPr>
        <p:spPr>
          <a:xfrm rot="3570000">
            <a:off x="1294920" y="5842080"/>
            <a:ext cx="792360" cy="7189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6" name="AutoShape 6"/>
          <p:cNvSpPr/>
          <p:nvPr/>
        </p:nvSpPr>
        <p:spPr>
          <a:xfrm rot="3564000">
            <a:off x="1115280" y="1413720"/>
            <a:ext cx="50472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87280" y="476280"/>
            <a:ext cx="82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посудомоечная машина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95280" y="2276640"/>
            <a:ext cx="496908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Этот ящик – просто чудо!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В нём  вся  грязная  посуда,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Не пройдёт и полчаса,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Вновь становится чиста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9" name="Picture 4" descr="3198-3"/>
          <p:cNvPicPr/>
          <p:nvPr/>
        </p:nvPicPr>
        <p:blipFill>
          <a:blip r:embed="rId1"/>
          <a:stretch/>
        </p:blipFill>
        <p:spPr>
          <a:xfrm>
            <a:off x="1332000" y="2133720"/>
            <a:ext cx="2940120" cy="38178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/>
          <p:cNvSpPr/>
          <p:nvPr/>
        </p:nvSpPr>
        <p:spPr>
          <a:xfrm rot="3564000">
            <a:off x="1115280" y="6093720"/>
            <a:ext cx="50472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AutoShape 6"/>
          <p:cNvSpPr/>
          <p:nvPr/>
        </p:nvSpPr>
        <p:spPr>
          <a:xfrm rot="3564000">
            <a:off x="1114920" y="1342080"/>
            <a:ext cx="50508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AutoShape 7"/>
          <p:cNvSpPr/>
          <p:nvPr/>
        </p:nvSpPr>
        <p:spPr>
          <a:xfrm rot="3570000">
            <a:off x="7991280" y="4905000"/>
            <a:ext cx="792000" cy="719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кофеварка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4" name="Picture 4" descr="kofevarka_Krups_00047234_large"/>
          <p:cNvPicPr/>
          <p:nvPr/>
        </p:nvPicPr>
        <p:blipFill>
          <a:blip r:embed="rId1"/>
          <a:stretch/>
        </p:blipFill>
        <p:spPr>
          <a:xfrm>
            <a:off x="2000160" y="2143080"/>
            <a:ext cx="2394000" cy="31323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4859280" y="1989720"/>
            <a:ext cx="399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Кофе крепкий, ароматный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Поутру тебя взбодрит,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Коль начало дня приятно,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То весь день счастливый вид!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6" name="AutoShape 6"/>
          <p:cNvSpPr/>
          <p:nvPr/>
        </p:nvSpPr>
        <p:spPr>
          <a:xfrm rot="2316600">
            <a:off x="1115640" y="1483920"/>
            <a:ext cx="50472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7" name="AutoShape 7"/>
          <p:cNvSpPr/>
          <p:nvPr/>
        </p:nvSpPr>
        <p:spPr>
          <a:xfrm rot="2316600">
            <a:off x="323640" y="4365360"/>
            <a:ext cx="504720" cy="503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8" name="AutoShape 8"/>
          <p:cNvSpPr/>
          <p:nvPr/>
        </p:nvSpPr>
        <p:spPr>
          <a:xfrm rot="8464800">
            <a:off x="1258560" y="5805000"/>
            <a:ext cx="792000" cy="7192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9:06:11Z</dcterms:created>
  <dc:creator>Андрей</dc:creator>
  <dc:description/>
  <dc:language>en-US</dc:language>
  <cp:lastModifiedBy>Орлова</cp:lastModifiedBy>
  <dcterms:modified xsi:type="dcterms:W3CDTF">2015-02-11T18:52:49Z</dcterms:modified>
  <cp:revision>26</cp:revision>
  <dc:subject/>
  <dc:title>бытовые приборы</dc:title>
</cp:coreProperties>
</file>