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hammer.wav" ContentType="audio/x-wav"/>
  <Override PartName="/ppt/media/image7.png" ContentType="image/png"/>
  <Override PartName="/ppt/media/image12.png" ContentType="image/png"/>
  <Override PartName="/ppt/media/image6.jpeg" ContentType="image/jpeg"/>
  <Override PartName="/ppt/media/image8.png" ContentType="image/png"/>
  <Override PartName="/ppt/media/image9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B35-2107-42C5-8E55-3247C356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98F-D1A9-485D-A85B-70887DA0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92E4A-9603-450C-B72F-AB69F60F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898-EA9D-4DF9-A62A-CF0CCC7F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9CFD2-4068-45E3-8685-A59C84A6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C8C71-C6AA-4D10-AFAE-68077A07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DE880-8429-42B8-8EEA-2D920D15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134CB-2470-49A9-B2E3-2C88E139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A68B-2755-4E9F-8D26-1F0E889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C825-B8B4-4B0C-B1E0-798EB9C0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D755-EA5D-4D49-A300-672A1D78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E688D-025C-4D66-B103-89A65169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EC0AD-CD26-4763-A016-0D1F461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7687D-11D0-4EF9-863E-142A0E8E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288-BE05-4C82-9F20-DAA654B4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FDCC-7645-43A2-93A6-C267D130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00C-2215-47BF-B708-DF55FFEE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144-18C5-4331-802B-213414B1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C3D6-2B26-4774-AFCC-C34F8DBA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59A1-2C4C-489C-9CD6-41113FE9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3857-1F0E-4CD9-815E-602FE05D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2A8-3D29-477C-8AFC-B2E0071E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8A8D-5308-43A4-B4B1-F38A0BBE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6BB6-448A-46C4-8CB8-4B388286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C4F7-3A57-45FA-878F-31932EF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EDC0-EB2C-41C4-9D5E-8C4284F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878B-1622-4CE4-9409-57C6E94A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298F-8A02-48C5-A6FE-FE32D78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A378-F65F-41FC-B871-3C147E35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1B04-B6DC-4BD7-BCD0-D334339B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592E-AFA9-403E-8412-D06951EB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3DA-23A9-4B02-A09A-D01DF42E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720-88E9-4FED-A44D-5C992941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66E0-30D0-45E5-83F1-716E32F3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71BF-4316-4095-8323-321E4593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2C39-5029-4C0A-89D7-972F500C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CB04-7B22-4573-8C2A-24918E85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4898-E768-4F86-93A1-C53FC6AC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C459-AB81-430D-99A6-63E026D1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AFD1-9E58-449E-B292-4F6EFD06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84EF-16E2-4277-BC63-DD1B7BAC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A242-E746-4BC1-B4CD-3AC9060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23E-74C5-4ACD-AFE5-842627E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9EC2-5CAA-4261-BB33-DB5D953A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1027-0B9F-4389-80FA-B501CB22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4908-AD05-4970-97C0-737593C5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EB016-D01A-4C0A-919D-A3EDF083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5AD8-F689-4214-8FF6-D3244360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A786C-5A92-42C6-AC35-481D39B7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8840-BD4F-41C6-B5DD-E8790798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EE22-9C01-471A-8756-67BBF8C7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2600-FDD2-437C-B545-223E3975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C0715-BA5E-4EF7-A12C-D39C3CD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9D3-4471-43F0-A14B-3539ACAB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B15F-52F2-4D86-8412-8D8C9BC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50F1F-22CD-4568-A06F-7F48E1A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80FA0-FA32-406A-A2E5-76A47EF7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AEDA4-1761-4C7A-A6A5-E813FD35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52A3-3588-42BD-A1D3-A98A9B9F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6996-F433-41DC-8BD1-040443AB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CB9F-82F3-47B6-9D62-523FF27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5ED6B-4F80-43F0-BA13-310853AC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7003-4765-4BBE-8D7E-DC44EFF9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51E0-71B4-4730-9ABF-EE44CD11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EC4-24D1-477A-83E5-859F78DF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BD0D-809D-4D75-91EA-2680E24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71ECA-0320-496B-AE7C-E93C6CD5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E75B0-BB00-4CDB-95A9-E0351D98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86E5-F28B-4517-BAE1-7E302AA3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4E2E-F080-4AFC-9CE1-ECDB455B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0216-5499-418F-8D8F-8173D15E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6434-2E9A-4735-A1FA-CB8F813C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6573-ED8C-4FAB-A53C-FD5CF56F92C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2400" y="503640"/>
                  <a:ext cx="4312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8920" y="266040"/>
                  <a:ext cx="809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8760" y="140652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1440"/>
                  <a:ext cx="2901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2560" y="196200"/>
                  <a:ext cx="2869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1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1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2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2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092B-3A38-4D5A-A811-822A95B72F4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9745-880C-45BD-A930-C8F99DB3CB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1e86a6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1e86a6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e86a6"/>
                </a:gs>
                <a:gs pos="50000">
                  <a:srgbClr val="19728d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86a83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e86a6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e8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e8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e86a6"/>
                </a:gs>
                <a:gs pos="50000">
                  <a:srgbClr val="1d82a1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86a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e86a6"/>
                </a:gs>
                <a:gs pos="50000">
                  <a:srgbClr val="00cc99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e86a6"/>
                </a:gs>
                <a:gs pos="50000">
                  <a:srgbClr val="1d82a1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1e86a6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1e86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7A3C-52C6-4ACB-9A21-A78FED8DBD9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2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EF38-3924-4C6A-8FED-7232184F25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380" name="Rectangle 3"/>
            <p:cNvSpPr/>
            <p:nvPr/>
          </p:nvSpPr>
          <p:spPr>
            <a:xfrm>
              <a:off x="0" y="6645960"/>
              <a:ext cx="8078760" cy="22428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"/>
            <p:cNvSpPr/>
            <p:nvPr/>
          </p:nvSpPr>
          <p:spPr>
            <a:xfrm>
              <a:off x="0" y="29880"/>
              <a:ext cx="8078760" cy="199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7953480" y="29880"/>
              <a:ext cx="1203120" cy="6827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6"/>
            <p:cNvGrpSpPr/>
            <p:nvPr/>
          </p:nvGrpSpPr>
          <p:grpSpPr>
            <a:xfrm>
              <a:off x="7848720" y="0"/>
              <a:ext cx="1295280" cy="6311880"/>
              <a:chOff x="7848720" y="0"/>
              <a:chExt cx="1295280" cy="6311880"/>
            </a:xfrm>
          </p:grpSpPr>
          <p:grpSp>
            <p:nvGrpSpPr>
              <p:cNvPr id="384" name="Group 7"/>
              <p:cNvGrpSpPr/>
              <p:nvPr/>
            </p:nvGrpSpPr>
            <p:grpSpPr>
              <a:xfrm>
                <a:off x="8381880" y="0"/>
                <a:ext cx="762120" cy="2291040"/>
                <a:chOff x="8381880" y="0"/>
                <a:chExt cx="762120" cy="2291040"/>
              </a:xfrm>
            </p:grpSpPr>
            <p:grpSp>
              <p:nvGrpSpPr>
                <p:cNvPr id="385" name="Group 8"/>
                <p:cNvGrpSpPr/>
                <p:nvPr/>
              </p:nvGrpSpPr>
              <p:grpSpPr>
                <a:xfrm>
                  <a:off x="8736120" y="0"/>
                  <a:ext cx="279360" cy="275040"/>
                  <a:chOff x="8736120" y="0"/>
                  <a:chExt cx="279360" cy="275040"/>
                </a:xfrm>
              </p:grpSpPr>
              <p:grpSp>
                <p:nvGrpSpPr>
                  <p:cNvPr id="386" name="Group 9"/>
                  <p:cNvGrpSpPr/>
                  <p:nvPr/>
                </p:nvGrpSpPr>
                <p:grpSpPr>
                  <a:xfrm>
                    <a:off x="8736120" y="0"/>
                    <a:ext cx="279360" cy="275040"/>
                    <a:chOff x="8736120" y="0"/>
                    <a:chExt cx="279360" cy="275040"/>
                  </a:xfrm>
                </p:grpSpPr>
                <p:sp>
                  <p:nvSpPr>
                    <p:cNvPr id="387" name="Freeform 10"/>
                    <p:cNvSpPr/>
                    <p:nvPr/>
                  </p:nvSpPr>
                  <p:spPr>
                    <a:xfrm rot="16200000">
                      <a:off x="8775360" y="-39240"/>
                      <a:ext cx="20088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11"/>
                    <p:cNvSpPr/>
                    <p:nvPr/>
                  </p:nvSpPr>
                  <p:spPr>
                    <a:xfrm rot="16200000">
                      <a:off x="878436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Oval 12"/>
                  <p:cNvSpPr/>
                  <p:nvPr/>
                </p:nvSpPr>
                <p:spPr>
                  <a:xfrm rot="16200000">
                    <a:off x="8855640" y="1573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13"/>
                  <p:cNvSpPr/>
                  <p:nvPr/>
                </p:nvSpPr>
                <p:spPr>
                  <a:xfrm rot="16200000">
                    <a:off x="878940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14"/>
                  <p:cNvSpPr/>
                  <p:nvPr/>
                </p:nvSpPr>
                <p:spPr>
                  <a:xfrm rot="16200000">
                    <a:off x="886032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15"/>
                  <p:cNvSpPr/>
                  <p:nvPr/>
                </p:nvSpPr>
                <p:spPr>
                  <a:xfrm rot="16200000">
                    <a:off x="89298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6"/>
                  <p:cNvSpPr/>
                  <p:nvPr/>
                </p:nvSpPr>
                <p:spPr>
                  <a:xfrm rot="16200000">
                    <a:off x="8855640" y="21924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17"/>
                  <p:cNvSpPr/>
                  <p:nvPr/>
                </p:nvSpPr>
                <p:spPr>
                  <a:xfrm rot="16200000">
                    <a:off x="8804160" y="1944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574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5740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6088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403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643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4380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228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0019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3" name="Group 26"/>
              <p:cNvGrpSpPr/>
              <p:nvPr/>
            </p:nvGrpSpPr>
            <p:grpSpPr>
              <a:xfrm>
                <a:off x="7848720" y="1622880"/>
                <a:ext cx="828720" cy="4689000"/>
                <a:chOff x="7848720" y="1622880"/>
                <a:chExt cx="828720" cy="4689000"/>
              </a:xfrm>
            </p:grpSpPr>
            <p:pic>
              <p:nvPicPr>
                <p:cNvPr id="40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2288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263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3296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6048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1240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158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918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68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936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84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632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94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5384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48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392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584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336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2800"/>
                  <a:ext cx="2955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70880"/>
                  <a:ext cx="2952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3" name="Freeform 46"/>
            <p:cNvSpPr/>
            <p:nvPr/>
          </p:nvSpPr>
          <p:spPr>
            <a:xfrm>
              <a:off x="7953480" y="4916880"/>
              <a:ext cx="1190520" cy="19314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7"/>
            <p:cNvSpPr/>
            <p:nvPr/>
          </p:nvSpPr>
          <p:spPr>
            <a:xfrm>
              <a:off x="7939080" y="4866480"/>
              <a:ext cx="1219320" cy="1991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8"/>
            <p:cNvSpPr/>
            <p:nvPr/>
          </p:nvSpPr>
          <p:spPr>
            <a:xfrm>
              <a:off x="7927920" y="2835360"/>
              <a:ext cx="1231920" cy="4019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9"/>
            <p:cNvSpPr/>
            <p:nvPr/>
          </p:nvSpPr>
          <p:spPr>
            <a:xfrm>
              <a:off x="8010360" y="3552840"/>
              <a:ext cx="979560" cy="2174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0"/>
            <p:cNvSpPr/>
            <p:nvPr/>
          </p:nvSpPr>
          <p:spPr>
            <a:xfrm>
              <a:off x="8244000" y="455040"/>
              <a:ext cx="914400" cy="50259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1"/>
            <p:cNvSpPr/>
            <p:nvPr/>
          </p:nvSpPr>
          <p:spPr>
            <a:xfrm>
              <a:off x="8250120" y="290880"/>
              <a:ext cx="909720" cy="3057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2"/>
            <p:cNvSpPr/>
            <p:nvPr/>
          </p:nvSpPr>
          <p:spPr>
            <a:xfrm>
              <a:off x="7943760" y="29880"/>
              <a:ext cx="576360" cy="33379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53"/>
            <p:cNvSpPr/>
            <p:nvPr/>
          </p:nvSpPr>
          <p:spPr>
            <a:xfrm>
              <a:off x="7943760" y="31320"/>
              <a:ext cx="300240" cy="33382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54"/>
            <p:cNvSpPr/>
            <p:nvPr/>
          </p:nvSpPr>
          <p:spPr>
            <a:xfrm>
              <a:off x="7866000" y="31320"/>
              <a:ext cx="88920" cy="6827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5"/>
            <p:cNvSpPr/>
            <p:nvPr/>
          </p:nvSpPr>
          <p:spPr>
            <a:xfrm>
              <a:off x="7958160" y="6231960"/>
              <a:ext cx="1165320" cy="6163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56"/>
            <p:cNvSpPr/>
            <p:nvPr/>
          </p:nvSpPr>
          <p:spPr>
            <a:xfrm rot="5400000">
              <a:off x="4339080" y="3331080"/>
              <a:ext cx="68277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f1311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2f131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2f131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2f131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2f131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2f1311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2f1311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2f1311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DDDD-8883-4A19-8377-59FE0BE43B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univer.omsk.su/omsk/Edu/Math/sstevin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niver.omsk.su/omsk/Edu/Math/sstevi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-493560" y="-19080"/>
            <a:ext cx="8540640" cy="132408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2743200"/>
            <a:ext cx="7162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Прямоугольник 7" descr=""/>
          <p:cNvPicPr/>
          <p:nvPr/>
        </p:nvPicPr>
        <p:blipFill>
          <a:blip r:embed="rId2"/>
          <a:stretch/>
        </p:blipFill>
        <p:spPr>
          <a:xfrm>
            <a:off x="3505320" y="1719360"/>
            <a:ext cx="3597120" cy="1225440"/>
          </a:xfrm>
          <a:prstGeom prst="rect">
            <a:avLst/>
          </a:prstGeom>
          <a:ln w="0">
            <a:noFill/>
          </a:ln>
        </p:spPr>
      </p:pic>
      <p:sp>
        <p:nvSpPr>
          <p:cNvPr id="581" name="TextBox 8"/>
          <p:cNvSpPr/>
          <p:nvPr/>
        </p:nvSpPr>
        <p:spPr>
          <a:xfrm>
            <a:off x="5867280" y="48769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акова Н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ОШ №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Ханты-Манси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4157-D283-4534-9BCC-8172407593E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"/>
          <p:cNvSpPr/>
          <p:nvPr/>
        </p:nvSpPr>
        <p:spPr>
          <a:xfrm>
            <a:off x="5411880" y="1855800"/>
            <a:ext cx="401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ая соединительная линия 5"/>
          <p:cNvSpPr/>
          <p:nvPr/>
        </p:nvSpPr>
        <p:spPr>
          <a:xfrm>
            <a:off x="5500800" y="3213000"/>
            <a:ext cx="229536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9"/>
          <p:cNvSpPr/>
          <p:nvPr/>
        </p:nvSpPr>
        <p:spPr>
          <a:xfrm>
            <a:off x="4572000" y="2212920"/>
            <a:ext cx="290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7"/>
          <p:cNvSpPr/>
          <p:nvPr/>
        </p:nvSpPr>
        <p:spPr>
          <a:xfrm>
            <a:off x="6324480" y="2438280"/>
            <a:ext cx="9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152280" y="2819520"/>
            <a:ext cx="53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1676520" y="1752480"/>
            <a:ext cx="401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15 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ая соединительная линия 10"/>
          <p:cNvSpPr/>
          <p:nvPr/>
        </p:nvSpPr>
        <p:spPr>
          <a:xfrm>
            <a:off x="1785960" y="3213000"/>
            <a:ext cx="19288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23"/>
          <p:cNvSpPr/>
          <p:nvPr/>
        </p:nvSpPr>
        <p:spPr>
          <a:xfrm>
            <a:off x="857160" y="2212920"/>
            <a:ext cx="128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Прямоугольник 13" descr=""/>
          <p:cNvPicPr/>
          <p:nvPr/>
        </p:nvPicPr>
        <p:blipFill>
          <a:blip r:embed="rId1"/>
          <a:stretch/>
        </p:blipFill>
        <p:spPr>
          <a:xfrm>
            <a:off x="493560" y="3279600"/>
            <a:ext cx="3571920" cy="1590840"/>
          </a:xfrm>
          <a:prstGeom prst="rect">
            <a:avLst/>
          </a:prstGeom>
          <a:ln w="0">
            <a:noFill/>
          </a:ln>
        </p:spPr>
      </p:pic>
      <p:pic>
        <p:nvPicPr>
          <p:cNvPr id="638" name="Прямоугольник 14" descr=""/>
          <p:cNvPicPr/>
          <p:nvPr/>
        </p:nvPicPr>
        <p:blipFill>
          <a:blip r:embed="rId2"/>
          <a:stretch/>
        </p:blipFill>
        <p:spPr>
          <a:xfrm>
            <a:off x="4035600" y="878040"/>
            <a:ext cx="3670200" cy="34318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3840" y="92160"/>
            <a:ext cx="1406520" cy="17082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18"/>
          <p:cNvSpPr/>
          <p:nvPr/>
        </p:nvSpPr>
        <p:spPr>
          <a:xfrm>
            <a:off x="1800360" y="539640"/>
            <a:ext cx="2160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Симон Ст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84793E-006 L -2.77778E-007 0.09128 E">
                                      <p:cBhvr>
                                        <p:cTn id="230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7D87-CE60-41E2-BD6B-C9E9E399815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Заголовок 1"/>
          <p:cNvSpPr/>
          <p:nvPr/>
        </p:nvSpPr>
        <p:spPr>
          <a:xfrm>
            <a:off x="9144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В десятичной дроби после запятой должно быть столько же цифр, сколько нулей в записи знаменателя обыкновенной дроб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Содержимое 4"/>
              <p:cNvSpPr txBox="1"/>
              <p:nvPr/>
            </p:nvSpPr>
            <p:spPr>
              <a:xfrm>
                <a:off x="449280" y="357120"/>
                <a:ext cx="317664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TextBox 6"/>
          <p:cNvSpPr/>
          <p:nvPr/>
        </p:nvSpPr>
        <p:spPr>
          <a:xfrm>
            <a:off x="571680" y="1987560"/>
            <a:ext cx="3643200" cy="82548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уля  и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циф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7"/>
          <p:cNvSpPr/>
          <p:nvPr/>
        </p:nvSpPr>
        <p:spPr>
          <a:xfrm>
            <a:off x="1214280" y="1285920"/>
            <a:ext cx="714600" cy="71424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8"/>
          <p:cNvSpPr/>
          <p:nvPr/>
        </p:nvSpPr>
        <p:spPr>
          <a:xfrm>
            <a:off x="2928960" y="785880"/>
            <a:ext cx="714240" cy="121428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3"/>
              <p:cNvSpPr txBox="1"/>
              <p:nvPr/>
            </p:nvSpPr>
            <p:spPr>
              <a:xfrm>
                <a:off x="4473720" y="336600"/>
                <a:ext cx="384480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8" name="TextBox 10"/>
          <p:cNvSpPr/>
          <p:nvPr/>
        </p:nvSpPr>
        <p:spPr>
          <a:xfrm>
            <a:off x="4929120" y="1967040"/>
            <a:ext cx="3643560" cy="82548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уля  и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циф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5286240" y="1265400"/>
            <a:ext cx="1000440" cy="71424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7286760" y="765000"/>
            <a:ext cx="928440" cy="121464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Object 4"/>
              <p:cNvSpPr txBox="1"/>
              <p:nvPr/>
            </p:nvSpPr>
            <p:spPr>
              <a:xfrm>
                <a:off x="460440" y="2693880"/>
                <a:ext cx="35812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2" name="TextBox 14"/>
          <p:cNvSpPr/>
          <p:nvPr/>
        </p:nvSpPr>
        <p:spPr>
          <a:xfrm>
            <a:off x="723960" y="4324320"/>
            <a:ext cx="3348000" cy="82548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уля  и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иф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1143000" y="3622680"/>
            <a:ext cx="1071720" cy="71424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000240" y="3122640"/>
            <a:ext cx="1071720" cy="121428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4365720" y="2714760"/>
                <a:ext cx="45608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TextBox 18"/>
          <p:cNvSpPr/>
          <p:nvPr/>
        </p:nvSpPr>
        <p:spPr>
          <a:xfrm>
            <a:off x="4929120" y="4273560"/>
            <a:ext cx="3786120" cy="82548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нулей  и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циф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72040" y="3571920"/>
            <a:ext cx="1357200" cy="71424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7429680" y="3071880"/>
            <a:ext cx="1285560" cy="121428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6326-BD8B-4303-8CF1-32A3F92E549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Таблица 4" descr=""/>
          <p:cNvPicPr/>
          <p:nvPr/>
        </p:nvPicPr>
        <p:blipFill>
          <a:blip r:embed="rId1"/>
          <a:stretch/>
        </p:blipFill>
        <p:spPr>
          <a:xfrm>
            <a:off x="500040" y="1298520"/>
            <a:ext cx="814392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0FA1-D483-44F9-AFBB-7B361D1FD92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Таблица 4" descr=""/>
          <p:cNvPicPr/>
          <p:nvPr/>
        </p:nvPicPr>
        <p:blipFill>
          <a:blip r:embed="rId1"/>
          <a:stretch/>
        </p:blipFill>
        <p:spPr>
          <a:xfrm>
            <a:off x="500040" y="1298520"/>
            <a:ext cx="814392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4" name="Содержимое 4" descr="0001-001-Fizminutka-na-uroke-eto-radost-na-ves-den.png"/>
          <p:cNvPicPr/>
          <p:nvPr/>
        </p:nvPicPr>
        <p:blipFill>
          <a:blip r:embed="rId1"/>
          <a:stretch/>
        </p:blipFill>
        <p:spPr>
          <a:xfrm>
            <a:off x="3886200" y="1447920"/>
            <a:ext cx="3124080" cy="46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Представьте  в  виде  десятичной  дроб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4"/>
              <p:cNvSpPr txBox="1"/>
              <p:nvPr/>
            </p:nvSpPr>
            <p:spPr>
              <a:xfrm>
                <a:off x="2362320" y="1828800"/>
                <a:ext cx="1600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7"/>
              <p:cNvSpPr txBox="1"/>
              <p:nvPr/>
            </p:nvSpPr>
            <p:spPr>
              <a:xfrm>
                <a:off x="2192400" y="3505320"/>
                <a:ext cx="16351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0"/>
              <p:cNvSpPr txBox="1"/>
              <p:nvPr/>
            </p:nvSpPr>
            <p:spPr>
              <a:xfrm>
                <a:off x="2536920" y="5029200"/>
                <a:ext cx="14018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13"/>
              <p:cNvSpPr txBox="1"/>
              <p:nvPr/>
            </p:nvSpPr>
            <p:spPr>
              <a:xfrm>
                <a:off x="5638680" y="3809880"/>
                <a:ext cx="175284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16"/>
              <p:cNvSpPr txBox="1"/>
              <p:nvPr/>
            </p:nvSpPr>
            <p:spPr>
              <a:xfrm>
                <a:off x="5537160" y="1981080"/>
                <a:ext cx="18036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Rectangle 1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4"/>
              <p:cNvSpPr txBox="1"/>
              <p:nvPr/>
            </p:nvSpPr>
            <p:spPr>
              <a:xfrm>
                <a:off x="3276720" y="1295280"/>
                <a:ext cx="1447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6"/>
              <p:cNvSpPr txBox="1"/>
              <p:nvPr/>
            </p:nvSpPr>
            <p:spPr>
              <a:xfrm>
                <a:off x="3187800" y="2819520"/>
                <a:ext cx="1547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8"/>
              <p:cNvSpPr txBox="1"/>
              <p:nvPr/>
            </p:nvSpPr>
            <p:spPr>
              <a:xfrm>
                <a:off x="3559320" y="4724280"/>
                <a:ext cx="13395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4"/>
              <p:cNvSpPr txBox="1"/>
              <p:nvPr/>
            </p:nvSpPr>
            <p:spPr>
              <a:xfrm>
                <a:off x="4902120" y="1295280"/>
                <a:ext cx="13971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5"/>
              <p:cNvSpPr txBox="1"/>
              <p:nvPr/>
            </p:nvSpPr>
            <p:spPr>
              <a:xfrm>
                <a:off x="4983120" y="3048120"/>
                <a:ext cx="2378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17"/>
              <p:cNvSpPr txBox="1"/>
              <p:nvPr/>
            </p:nvSpPr>
            <p:spPr>
              <a:xfrm>
                <a:off x="4944960" y="4952880"/>
                <a:ext cx="19209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9" name="Object 4"/>
              <p:cNvSpPr txBox="1"/>
              <p:nvPr/>
            </p:nvSpPr>
            <p:spPr>
              <a:xfrm>
                <a:off x="1066680" y="685800"/>
                <a:ext cx="24256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0"/>
              <p:cNvSpPr txBox="1"/>
              <p:nvPr/>
            </p:nvSpPr>
            <p:spPr>
              <a:xfrm>
                <a:off x="1143000" y="3048120"/>
                <a:ext cx="22096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13"/>
              <p:cNvSpPr txBox="1"/>
              <p:nvPr/>
            </p:nvSpPr>
            <p:spPr>
              <a:xfrm>
                <a:off x="3929040" y="1066680"/>
                <a:ext cx="23526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16"/>
              <p:cNvSpPr txBox="1"/>
              <p:nvPr/>
            </p:nvSpPr>
            <p:spPr>
              <a:xfrm>
                <a:off x="3505320" y="3276720"/>
                <a:ext cx="2743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8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Text Box 19"/>
          <p:cNvSpPr/>
          <p:nvPr/>
        </p:nvSpPr>
        <p:spPr>
          <a:xfrm>
            <a:off x="2057400" y="487692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Прочитайте  десятичные дроб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D7BB-C9AE-4FCF-A7CB-75708AA1518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Содержимое 2"/>
          <p:cNvSpPr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,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0,1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256,7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,01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3,009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,021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7"/>
          <p:cNvSpPr/>
          <p:nvPr/>
        </p:nvSpPr>
        <p:spPr>
          <a:xfrm>
            <a:off x="1828800" y="5335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Представьте в виде обыкновенной др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55CD-236E-4B34-8D4C-F32C3B5F51C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Содержимое 4"/>
              <p:cNvSpPr txBox="1"/>
              <p:nvPr/>
            </p:nvSpPr>
            <p:spPr>
              <a:xfrm>
                <a:off x="428760" y="2000160"/>
                <a:ext cx="15541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3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3"/>
              <p:cNvSpPr txBox="1"/>
              <p:nvPr/>
            </p:nvSpPr>
            <p:spPr>
              <a:xfrm>
                <a:off x="2786040" y="2000160"/>
                <a:ext cx="1874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4"/>
              <p:cNvSpPr txBox="1"/>
              <p:nvPr/>
            </p:nvSpPr>
            <p:spPr>
              <a:xfrm>
                <a:off x="5500800" y="2000160"/>
                <a:ext cx="3314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1" name="Прямоугольник 7" descr=""/>
          <p:cNvPicPr/>
          <p:nvPr/>
        </p:nvPicPr>
        <p:blipFill>
          <a:blip r:embed="rId1"/>
          <a:stretch/>
        </p:blipFill>
        <p:spPr>
          <a:xfrm>
            <a:off x="1206360" y="560520"/>
            <a:ext cx="3730680" cy="123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2" name="Object 5"/>
              <p:cNvSpPr txBox="1"/>
              <p:nvPr/>
            </p:nvSpPr>
            <p:spPr>
              <a:xfrm>
                <a:off x="214200" y="3929040"/>
                <a:ext cx="19843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6"/>
              <p:cNvSpPr txBox="1"/>
              <p:nvPr/>
            </p:nvSpPr>
            <p:spPr>
              <a:xfrm>
                <a:off x="2697120" y="3929040"/>
                <a:ext cx="2544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9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7"/>
              <p:cNvSpPr txBox="1"/>
              <p:nvPr/>
            </p:nvSpPr>
            <p:spPr>
              <a:xfrm>
                <a:off x="6018120" y="3929040"/>
                <a:ext cx="24116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1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Математический  диктан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пишите  в  тетради (в столбик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ешанные  чи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Три целых  пять  десят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Восемнадцать  целых  тридцать семь сот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Три  целых  одна  сот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на уроке я узнал…               Я научился…                               Было трудно…                                   Я смог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Домашнее</a:t>
            </a: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stellar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stellar"/>
              </a:rPr>
              <a:t>Творческий уровень:  Написать сочине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stellar"/>
              </a:rPr>
              <a:t>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stellar"/>
              </a:rPr>
              <a:t>или сообщение на тему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«Для чег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нужны десятичные дроб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astellar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astellar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Две  целых восемьсот тридцать две  тысяч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Семь целых одна тысяч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Шесть целых шестьдесят одна десятитысяч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Проверь и оцени себя. Чем «похожи»эти числ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6"/>
              <p:cNvSpPr txBox="1"/>
              <p:nvPr/>
            </p:nvSpPr>
            <p:spPr>
              <a:xfrm>
                <a:off x="1981080" y="1600200"/>
                <a:ext cx="12826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10"/>
              <p:cNvSpPr txBox="1"/>
              <p:nvPr/>
            </p:nvSpPr>
            <p:spPr>
              <a:xfrm>
                <a:off x="1873080" y="3352680"/>
                <a:ext cx="151164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13"/>
              <p:cNvSpPr txBox="1"/>
              <p:nvPr/>
            </p:nvSpPr>
            <p:spPr>
              <a:xfrm>
                <a:off x="2025720" y="4876920"/>
                <a:ext cx="135396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15"/>
              <p:cNvSpPr txBox="1"/>
              <p:nvPr/>
            </p:nvSpPr>
            <p:spPr>
              <a:xfrm>
                <a:off x="5541840" y="1523880"/>
                <a:ext cx="1476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6"/>
              <p:cNvSpPr txBox="1"/>
              <p:nvPr/>
            </p:nvSpPr>
            <p:spPr>
              <a:xfrm>
                <a:off x="5538960" y="3124080"/>
                <a:ext cx="1711080" cy="14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7"/>
              <p:cNvSpPr txBox="1"/>
              <p:nvPr/>
            </p:nvSpPr>
            <p:spPr>
              <a:xfrm>
                <a:off x="5486400" y="4876920"/>
                <a:ext cx="182880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Числа  со  знаменателем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10;  100; 1000 и т.д.  можно записать без знаменател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6"/>
              <p:cNvSpPr txBox="1"/>
              <p:nvPr/>
            </p:nvSpPr>
            <p:spPr>
              <a:xfrm>
                <a:off x="457200" y="1822320"/>
                <a:ext cx="214632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10"/>
              <p:cNvSpPr txBox="1"/>
              <p:nvPr/>
            </p:nvSpPr>
            <p:spPr>
              <a:xfrm>
                <a:off x="838080" y="3552840"/>
                <a:ext cx="15638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3"/>
              <p:cNvSpPr txBox="1"/>
              <p:nvPr/>
            </p:nvSpPr>
            <p:spPr>
              <a:xfrm>
                <a:off x="2743200" y="4876920"/>
                <a:ext cx="1712880" cy="18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5"/>
              <p:cNvSpPr txBox="1"/>
              <p:nvPr/>
            </p:nvSpPr>
            <p:spPr>
              <a:xfrm>
                <a:off x="6095880" y="2282760"/>
                <a:ext cx="172080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6"/>
              <p:cNvSpPr txBox="1"/>
              <p:nvPr/>
            </p:nvSpPr>
            <p:spPr>
              <a:xfrm>
                <a:off x="3352680" y="2438280"/>
                <a:ext cx="223704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17"/>
              <p:cNvSpPr txBox="1"/>
              <p:nvPr/>
            </p:nvSpPr>
            <p:spPr>
              <a:xfrm>
                <a:off x="5486400" y="4876920"/>
                <a:ext cx="182880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ff"/>
                </a:solidFill>
                <a:latin typeface="Comic Sans MS"/>
              </a:rPr>
              <a:t>                 </a:t>
            </a:r>
            <a:r>
              <a:rPr b="0" i="1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i="1" lang="ru-RU" sz="4800" spc="-1" strike="noStrike">
                <a:solidFill>
                  <a:srgbClr val="7030a0"/>
                </a:solidFill>
                <a:latin typeface="Comic Sans MS"/>
              </a:rPr>
              <a:t>Десятичные  дроби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1447920" y="4191120"/>
            <a:ext cx="1752480" cy="1218960"/>
          </a:xfrm>
          <a:prstGeom prst="ellipse">
            <a:avLst/>
          </a:prstGeom>
          <a:solidFill>
            <a:srgbClr val="008080"/>
          </a:soli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 ДЕСЯТИЧНЫМИ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РОБ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2"/>
          <p:cNvSpPr/>
          <p:nvPr/>
        </p:nvSpPr>
        <p:spPr>
          <a:xfrm>
            <a:off x="3352680" y="3048120"/>
            <a:ext cx="2819520" cy="1752480"/>
          </a:xfrm>
          <a:prstGeom prst="ellipse">
            <a:avLst/>
          </a:prstGeom>
          <a:solidFill>
            <a:srgbClr val="008080"/>
          </a:soli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сятич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43"/>
          <p:cNvSpPr/>
          <p:nvPr/>
        </p:nvSpPr>
        <p:spPr>
          <a:xfrm>
            <a:off x="3809880" y="5029200"/>
            <a:ext cx="1828800" cy="1219320"/>
          </a:xfrm>
          <a:prstGeom prst="ellipse">
            <a:avLst/>
          </a:prstGeom>
          <a:solidFill>
            <a:srgbClr val="008080"/>
          </a:soli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АВН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44"/>
          <p:cNvSpPr/>
          <p:nvPr/>
        </p:nvSpPr>
        <p:spPr>
          <a:xfrm>
            <a:off x="6172200" y="2514600"/>
            <a:ext cx="1828800" cy="1219320"/>
          </a:xfrm>
          <a:prstGeom prst="ellipse">
            <a:avLst/>
          </a:prstGeom>
          <a:solidFill>
            <a:srgbClr val="008080"/>
          </a:soli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2"/>
          <p:cNvSpPr/>
          <p:nvPr/>
        </p:nvSpPr>
        <p:spPr>
          <a:xfrm>
            <a:off x="6095880" y="4343400"/>
            <a:ext cx="1828800" cy="1219320"/>
          </a:xfrm>
          <a:prstGeom prst="ellipse">
            <a:avLst/>
          </a:prstGeom>
          <a:solidFill>
            <a:srgbClr val="008080"/>
          </a:soli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ТОР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НИКНОВ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3"/>
          <p:cNvSpPr/>
          <p:nvPr/>
        </p:nvSpPr>
        <p:spPr>
          <a:xfrm>
            <a:off x="1219320" y="2514600"/>
            <a:ext cx="1904760" cy="1143000"/>
          </a:xfrm>
          <a:prstGeom prst="ellipse">
            <a:avLst/>
          </a:prstGeom>
          <a:solidFill>
            <a:srgbClr val="008080"/>
          </a:soli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 Ч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54"/>
          <p:cNvSpPr/>
          <p:nvPr/>
        </p:nvSpPr>
        <p:spPr>
          <a:xfrm>
            <a:off x="3733920" y="1752480"/>
            <a:ext cx="1904760" cy="1143000"/>
          </a:xfrm>
          <a:prstGeom prst="ellipse">
            <a:avLst/>
          </a:prstGeom>
          <a:solidFill>
            <a:srgbClr val="008080"/>
          </a:solidFill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ПИС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5"/>
          <p:cNvSpPr/>
          <p:nvPr/>
        </p:nvSpPr>
        <p:spPr>
          <a:xfrm>
            <a:off x="3048120" y="3200400"/>
            <a:ext cx="457200" cy="30492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56"/>
          <p:cNvSpPr/>
          <p:nvPr/>
        </p:nvSpPr>
        <p:spPr>
          <a:xfrm flipV="1">
            <a:off x="3200400" y="4419720"/>
            <a:ext cx="457200" cy="30456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57"/>
          <p:cNvSpPr/>
          <p:nvPr/>
        </p:nvSpPr>
        <p:spPr>
          <a:xfrm>
            <a:off x="4724280" y="2819520"/>
            <a:ext cx="0" cy="22860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58"/>
          <p:cNvSpPr/>
          <p:nvPr/>
        </p:nvSpPr>
        <p:spPr>
          <a:xfrm flipV="1">
            <a:off x="5943600" y="3276360"/>
            <a:ext cx="304920" cy="22860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59"/>
          <p:cNvSpPr/>
          <p:nvPr/>
        </p:nvSpPr>
        <p:spPr>
          <a:xfrm flipH="1">
            <a:off x="4647960" y="4800600"/>
            <a:ext cx="75960" cy="22860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60"/>
          <p:cNvSpPr/>
          <p:nvPr/>
        </p:nvSpPr>
        <p:spPr>
          <a:xfrm>
            <a:off x="5867280" y="4419720"/>
            <a:ext cx="381240" cy="228600"/>
          </a:xfrm>
          <a:prstGeom prst="line">
            <a:avLst/>
          </a:prstGeom>
          <a:ln w="63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Девиз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ЗНАНИЯ ИМЕЙ ОТЛИЧНЫ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ПО ТЕМЕ: «ДРОБИ ДЕСЯТИЧНЫЕ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E904-FEB7-4626-B03D-A4A2F084EEB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457200" y="692280"/>
            <a:ext cx="5843520" cy="56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1585 г. фламандский ученый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имон Стевин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1548-1620) сделал важное открытие, о чем написал в своей книге "Десятая" Эта маленькая работа (всего 7 страниц) содержала объяснение записи и правил действий с десятичными дробями. Он писал цифры дробного числа в одну строку с цифрами целого числа, при этом нумеруя их. Например, число 12,761 записывалось так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207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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ли число 0,3752 записывалось так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менно Стевина и считают изобретателем десятичных дроб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5" descr="Картинка 1 из 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828800"/>
            <a:ext cx="26668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лгоритм записи десятичных дроб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6"/>
              <p:cNvSpPr txBox="1"/>
              <p:nvPr/>
            </p:nvSpPr>
            <p:spPr>
              <a:xfrm>
                <a:off x="1371600" y="1828800"/>
                <a:ext cx="838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TextBox 4"/>
          <p:cNvSpPr/>
          <p:nvPr/>
        </p:nvSpPr>
        <p:spPr>
          <a:xfrm>
            <a:off x="2743200" y="18288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писываем целую часть 5 и ставим запят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5"/>
              <p:cNvSpPr txBox="1"/>
              <p:nvPr/>
            </p:nvSpPr>
            <p:spPr>
              <a:xfrm>
                <a:off x="1371600" y="2514600"/>
                <a:ext cx="1266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4"/>
              <p:cNvSpPr txBox="1"/>
              <p:nvPr/>
            </p:nvSpPr>
            <p:spPr>
              <a:xfrm>
                <a:off x="1341360" y="3124080"/>
                <a:ext cx="1492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3" name="TextBox 7"/>
          <p:cNvSpPr/>
          <p:nvPr/>
        </p:nvSpPr>
        <p:spPr>
          <a:xfrm>
            <a:off x="3048120" y="31240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сле запятой ставим столько точек, сколько нулей в знаменателе дробной ч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7"/>
              <p:cNvSpPr txBox="1"/>
              <p:nvPr/>
            </p:nvSpPr>
            <p:spPr>
              <a:xfrm>
                <a:off x="1300320" y="3809880"/>
                <a:ext cx="1635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5" name="TextBox 9"/>
          <p:cNvSpPr/>
          <p:nvPr/>
        </p:nvSpPr>
        <p:spPr>
          <a:xfrm>
            <a:off x="3048120" y="3809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 последней точки записываем числитель, начиная с последнего зна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8"/>
              <p:cNvSpPr txBox="1"/>
              <p:nvPr/>
            </p:nvSpPr>
            <p:spPr>
              <a:xfrm>
                <a:off x="1295280" y="4419720"/>
                <a:ext cx="17575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TextBox 11"/>
          <p:cNvSpPr/>
          <p:nvPr/>
        </p:nvSpPr>
        <p:spPr>
          <a:xfrm>
            <a:off x="3048120" y="44956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пустые места записываем н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ugeniy</dc:creator>
  <dc:description/>
  <dc:language>en-US</dc:language>
  <cp:lastModifiedBy>Eugeniy</cp:lastModifiedBy>
  <dcterms:modified xsi:type="dcterms:W3CDTF">2015-03-04T07:31:49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