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9C6-9F0B-4677-913C-32EFE610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65A-704A-40F8-8A16-41DE191F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1B5-F784-44BC-954A-52A0AD38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DAA-F8D7-45A1-A663-83889570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9C71-E75E-4BA9-B51B-45E6084F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4BBE-58D7-4EA3-A717-8AD77DB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D9BC-F350-4D30-BABF-9874B49D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DEA-03C4-4100-A752-780DB260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92F7-456F-4C74-BCC0-6D353C7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1422-EBBB-42BC-B02B-292B3D78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173-1E1C-4DCA-9F3D-3F8468B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BB7-217A-49E3-85A3-D59CA4E2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0288-C797-4AB1-AA99-5ACCB93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415-CF96-4E11-AB04-90CDD486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87CD-D592-4F6B-9BB6-0D683F6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20D4-51B0-4EC0-919F-B95C2FE0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06B-7623-414D-BBA8-570D9EE3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9C4-D6B1-4730-8983-CB758369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103-AB7A-4697-8482-7E13CCB8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119-682D-4548-B1FC-352B495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1A3-88FE-4249-97A1-CD5C385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D2C-A80B-4F60-BF51-58C018D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810-1CAB-430C-85C1-9B76828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780-97EF-4B20-A5FB-BDA3C46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0FF-2601-44A3-B065-F245E322F6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62A-8DCC-408C-898F-238C7C9A5C6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Чем больше мы узнаем о космосе, тем ближе наша встреча с инопланетянам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 rot="20121000">
            <a:off x="609120" y="380880"/>
            <a:ext cx="4724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Г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из космо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Picture 7" descr="зеленые"/>
          <p:cNvPicPr/>
          <p:nvPr/>
        </p:nvPicPr>
        <p:blipFill>
          <a:blip r:embed="rId1"/>
          <a:stretch/>
        </p:blipFill>
        <p:spPr>
          <a:xfrm>
            <a:off x="6248520" y="228600"/>
            <a:ext cx="2665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дям хочется верить, что они не одиноки во вселенной… Но до второй половины ХХ века о существовании иных миров можно было прочесть только в научно-фантастических рома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globe1"/>
          <p:cNvPicPr/>
          <p:nvPr/>
        </p:nvPicPr>
        <p:blipFill>
          <a:blip r:embed="rId1"/>
          <a:stretch/>
        </p:blipFill>
        <p:spPr>
          <a:xfrm>
            <a:off x="457200" y="1495440"/>
            <a:ext cx="4419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ко в июне 1947 года американский летчик Кеннет Арнольд заявил, что видел в небе 9 светящихся шаров непонятного происхождения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276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сса окрестила их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летающими тарелками»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ли неопознанными летающими объектам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НЛ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тех пор все необъяснимое, что появляется в зем-ной атмосфере, называют именно т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Звезды"/>
          <p:cNvPicPr/>
          <p:nvPr/>
        </p:nvPicPr>
        <p:blipFill>
          <a:blip r:embed="rId1"/>
          <a:stretch/>
        </p:blipFill>
        <p:spPr>
          <a:xfrm>
            <a:off x="3657600" y="1676520"/>
            <a:ext cx="52578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5070240"/>
            <a:ext cx="830592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ение наскальных рисунков с изображением таинственных человекоподобных существ в долине Наска (Перу) ученые объясняют по-разному, но самая распространенная из версий – инопланет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33"/>
                </a:solidFill>
                <a:latin typeface="Times New Roman"/>
              </a:rPr>
              <a:t>Знаки и сигнал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7" descr="наска"/>
          <p:cNvPicPr/>
          <p:nvPr/>
        </p:nvPicPr>
        <p:blipFill>
          <a:blip r:embed="rId1"/>
          <a:stretch/>
        </p:blipFill>
        <p:spPr>
          <a:xfrm>
            <a:off x="1752480" y="1295280"/>
            <a:ext cx="59436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8769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ные круги на пшеничных полях тоже приписываются инопланетянам. Чаще всего это явление наблюдают в Великобритании. По мнению ученых, 20% кругов образуется в результате вихревых возмущений магнитного поля Земли, а остальные созданы руками человек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круги"/>
          <p:cNvPicPr/>
          <p:nvPr/>
        </p:nvPicPr>
        <p:blipFill>
          <a:blip r:embed="rId1"/>
          <a:stretch/>
        </p:blipFill>
        <p:spPr>
          <a:xfrm>
            <a:off x="304920" y="304920"/>
            <a:ext cx="4647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33"/>
                </a:solidFill>
                <a:latin typeface="Times New Roman"/>
              </a:rPr>
              <a:t>Есть контакт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опланетян стал для многих жителей Земли любимым развлечением. Существует даже наука уфология – об инопланетянах и обо всем, с ними связанном. Человечество пытается выйти на связь с внеземными цивилизациями, но это огромная работа: в нашей Галактике сто миллиардов звез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dish1"/>
          <p:cNvPicPr/>
          <p:nvPr/>
        </p:nvPicPr>
        <p:blipFill>
          <a:blip r:embed="rId1"/>
          <a:stretch/>
        </p:blipFill>
        <p:spPr>
          <a:xfrm>
            <a:off x="4648320" y="206676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33"/>
                </a:solidFill>
                <a:latin typeface="Times New Roman"/>
              </a:rPr>
              <a:t>Обсерватория на Лун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енные спутники земли и передатчики на поверхности планеты создают радиопомехи в околоземном пространстве, которые могут помешать принять инопланетный сигнал. Поэтому несколько лет назад французский астроном Жан Хайдманн задумал построить обсерваторию на обратной стороне Лу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KPT41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33"/>
                </a:solidFill>
                <a:latin typeface="Times New Roman"/>
              </a:rPr>
              <a:t>Какие они, инопланетяне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ришельцы с далеких планет, о которых так любят рассказывать уфологи, очень похожи на нас. Между тем, по словам ученых, они могут быть настолько непохожими на людей, что нам будет нелегко признать в них живых существ. Но несмотря на это мы, земляне, не теряем надежды на установление конта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инопл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33"/>
                </a:solidFill>
                <a:latin typeface="Times New Roman"/>
              </a:rPr>
              <a:t>Космос молчит…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сих пор ни одного инопланетного сигнала ученым зарегистрировать не удалось. Космос молчит, но это не значит, что инопланетян не существует. Возможно, что мы просто еще не определили, в какую сторону направить антенны наших телескоп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уск</cp:lastModifiedBy>
  <dcterms:modified xsi:type="dcterms:W3CDTF">2015-03-04T10:11:3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