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4.jpeg" ContentType="image/jpeg"/>
  <Override PartName="/ppt/media/image2.png" ContentType="image/png"/>
  <Override PartName="/ppt/media/image9.jpeg" ContentType="image/jpeg"/>
  <Override PartName="/ppt/media/image11.jpeg" ContentType="image/jpeg"/>
  <Override PartName="/ppt/media/image6.jpeg" ContentType="image/jpeg"/>
  <Override PartName="/ppt/media/image28.png" ContentType="image/png"/>
  <Override PartName="/ppt/media/image7.jpeg" ContentType="image/jpeg"/>
  <Override PartName="/ppt/media/image12.jpeg" ContentType="image/jpeg"/>
  <Override PartName="/ppt/media/image5.jpeg" ContentType="image/jpeg"/>
  <Override PartName="/ppt/media/image13.jpeg" ContentType="image/jpeg"/>
  <Override PartName="/ppt/media/image30.png" ContentType="image/png"/>
  <Override PartName="/ppt/media/image3.jpeg" ContentType="image/jpeg"/>
  <Override PartName="/ppt/media/image24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26.png" ContentType="image/png"/>
  <Override PartName="/ppt/media/image18.jpeg" ContentType="image/jpeg"/>
  <Override PartName="/ppt/media/image25.png" ContentType="image/png"/>
  <Override PartName="/ppt/media/image19.jpeg" ContentType="image/jpeg"/>
  <Override PartName="/ppt/media/image20.jpeg" ContentType="image/jpeg"/>
  <Override PartName="/ppt/media/image23.jpeg" ContentType="image/jpeg"/>
  <Override PartName="/ppt/media/image27.png" ContentType="image/png"/>
  <Override PartName="/ppt/media/image29.png" ContentType="image/png"/>
  <Override PartName="/ppt/media/image2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BF399-2924-4918-A237-15F340DDE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14ED1-492C-40CD-BF29-579D6B327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09AC7-4E4B-4B6B-9790-5BC8D9CB8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8169C-3FAE-4648-9885-D336D6D02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6DE143-B844-4C86-B1D0-5F3DADEF1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B5A549-DF0E-404C-BCFB-37D420EC9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42D097-9F21-4004-BAF9-844E43511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BAE900-608F-4929-99C3-5CB620D79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A7BE5E-701B-491D-A24A-A50DE464A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73F124-11D1-483F-AAE0-2853CF216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B4EA71-7450-4ED0-945B-20CF9F486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33178-DB3B-456D-BA5C-E6CC571F2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A6F7FA-4384-4EB7-B1FB-C3B90667D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A58A50-A563-42C9-AD21-E7262FA19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0ECB36-F4BC-49D0-AFDC-2086979EA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093D6F-DFE9-411D-852A-6AAE274FC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C0ABC1-E7B1-415E-98A2-51EEC7F49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60C52-C781-4DAD-A02D-6BF7613C6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3D0BD-4075-4EFF-ABF2-7460F565A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4BE5B-7A3D-4EF2-9109-DF5932888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7E4DB-A7E5-4EE0-A264-6D3E03DFA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99020-9AB7-4BCB-A13E-5A6AFEE9D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A521E-1171-4C7A-AC3E-534E847A8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28EE0-5FB5-4348-87A5-CC8139B3B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D5605-9E48-4D0C-BCFE-E51C4E674BB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>
              <a:gd name="textAreaLeft" fmla="*/ 0 w 1440"/>
              <a:gd name="textAreaRight" fmla="*/ 1800 w 1440"/>
              <a:gd name="textAreaTop" fmla="*/ 0 h 3035160"/>
              <a:gd name="textAreaBottom" fmla="*/ 3035520 h 3035160"/>
            </a:gdLst>
            <a:ahLst/>
            <a:rect l="textAreaLeft" t="textAreaTop" r="textAreaRight" b="textAreaBottom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E0634-BA33-4226-AF4E-83135B816775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54"/>
          <p:cNvPicPr/>
          <p:nvPr/>
        </p:nvPicPr>
        <p:blipFill>
          <a:blip r:embed="rId1"/>
          <a:stretch/>
        </p:blipFill>
        <p:spPr>
          <a:xfrm>
            <a:off x="468360" y="260280"/>
            <a:ext cx="3959280" cy="633744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347640" y="259920"/>
            <a:ext cx="5327640" cy="13683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66ff"/>
                </a:solidFill>
                <a:latin typeface="Tahoma"/>
              </a:rPr>
              <a:t>История</a:t>
            </a:r>
            <a:br>
              <a:rPr sz="4400"/>
            </a:br>
            <a:r>
              <a:rPr b="1" i="1" lang="ru-RU" sz="4400" spc="-1" strike="noStrike">
                <a:solidFill>
                  <a:srgbClr val="0066ff"/>
                </a:solidFill>
                <a:latin typeface="Tahoma"/>
              </a:rPr>
              <a:t>Олимпиады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787640" y="2276280"/>
            <a:ext cx="3887640" cy="38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ff"/>
                </a:solidFill>
                <a:latin typeface="Tahoma"/>
              </a:rPr>
              <a:t>Цель:  </a:t>
            </a:r>
            <a:r>
              <a:rPr b="0" lang="ru-RU" sz="2400" spc="-1" strike="noStrike">
                <a:solidFill>
                  <a:srgbClr val="003366"/>
                </a:solidFill>
                <a:latin typeface="Tahoma"/>
              </a:rPr>
              <a:t>ознакомление младших  школьников с первоначальными сведениями об истории олимпийского движения древности и современности как достижения общечеловеческой культур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83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66ff"/>
                </a:solidFill>
                <a:latin typeface="Tahoma"/>
              </a:rPr>
              <a:t>Олимпиад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Девушка поднимает факел над головой и замирает. Её подруги опускают правые руки к земле, принося торжественную клятву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Picture 4" descr="11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1332000" y="1125360"/>
            <a:ext cx="633564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97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66ff"/>
                </a:solidFill>
                <a:latin typeface="Tahoma"/>
              </a:rPr>
              <a:t>Олимпиад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К девушке подходит атлет. Юноша принимает факел и в сопровождении группы бегунов отправляется в путь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Picture 4" descr="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1763640" y="1125360"/>
            <a:ext cx="532944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90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66ff"/>
                </a:solidFill>
                <a:latin typeface="Tahoma"/>
              </a:rPr>
              <a:t>О спорт! Ты – наслаждение</a:t>
            </a:r>
            <a:r>
              <a:rPr b="1" i="1" lang="ru-RU" sz="3200" spc="-1" strike="noStrike">
                <a:solidFill>
                  <a:srgbClr val="0066ff"/>
                </a:solidFill>
                <a:latin typeface="Tahoma"/>
              </a:rPr>
              <a:t>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о всем дорогам Греции люди спешили на празднества в Олимпию. Некоторые ехали верхом или на повозках, но большинство народа шло просто пешком.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7" name="Picture 4" descr="ц"/>
          <p:cNvPicPr/>
          <p:nvPr/>
        </p:nvPicPr>
        <p:blipFill>
          <a:blip r:embed="rId1"/>
          <a:stretch/>
        </p:blipFill>
        <p:spPr>
          <a:xfrm>
            <a:off x="1619280" y="1214280"/>
            <a:ext cx="5689440" cy="379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104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66ff"/>
                </a:solidFill>
                <a:latin typeface="Tahoma"/>
              </a:rPr>
              <a:t>О спорт! Ты – зодчий!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50752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Хотя в празднествах принимали участие и присутствовали только мужчины, все равно число гостей измерялось многими тысячами. Олимпийский стадион, где происходил бег и другие гимнастические упражнения, вмещал 40 тысяч человек и был всегда переполнен.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" name="Picture 4" descr="13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1908000" y="1268280"/>
            <a:ext cx="5328000" cy="30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97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66ff"/>
                </a:solidFill>
                <a:latin typeface="Tahoma"/>
              </a:rPr>
              <a:t>О спорт! Ты – справедливость</a:t>
            </a:r>
            <a:r>
              <a:rPr b="1" i="1" lang="ru-RU" sz="3200" spc="-1" strike="noStrike">
                <a:solidFill>
                  <a:srgbClr val="0066ff"/>
                </a:solidFill>
                <a:latin typeface="Tahoma"/>
              </a:rPr>
              <a:t>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утник, попавший в Олимпию после долгих дней пути, оглушен шумом многотысячной толпы, наполняющей священную рощу и достопримечательные места: храмы, жертвенники, стадион, ипподромы.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3" name="Picture 4" descr="2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1538280" y="1143000"/>
            <a:ext cx="6067440" cy="41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90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66ff"/>
                </a:solidFill>
                <a:latin typeface="Tahoma"/>
              </a:rPr>
              <a:t>О спорт! Ты – вызов</a:t>
            </a:r>
            <a:r>
              <a:rPr b="1" i="1" lang="ru-RU" sz="3200" spc="-1" strike="noStrike">
                <a:solidFill>
                  <a:srgbClr val="0066ff"/>
                </a:solidFill>
                <a:latin typeface="Tahoma"/>
              </a:rPr>
              <a:t>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196640"/>
            <a:ext cx="843588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Наступает первый день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игр. Он открывается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остязаниями в беге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ри восходе солнца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раздаемся звук трубы.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удьи и руководители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остязаний в пурпуровых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деяниях переходят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через все поле на глазах у тысяч зрителей и занимают специально отведенные для них места возле старта.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6" name="Picture 4" descr="бег"/>
          <p:cNvPicPr/>
          <p:nvPr/>
        </p:nvPicPr>
        <p:blipFill>
          <a:blip r:embed="rId1"/>
          <a:stretch/>
        </p:blipFill>
        <p:spPr>
          <a:xfrm>
            <a:off x="179280" y="1268280"/>
            <a:ext cx="489600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104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66ff"/>
                </a:solidFill>
                <a:latin typeface="Tahoma"/>
              </a:rPr>
              <a:t>О спорт! Ты – благородство</a:t>
            </a:r>
            <a:r>
              <a:rPr b="1" i="1" lang="ru-RU" sz="3200" spc="-1" strike="noStrike">
                <a:solidFill>
                  <a:srgbClr val="0066ff"/>
                </a:solidFill>
                <a:latin typeface="Tahoma"/>
              </a:rPr>
              <a:t>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осле бега начинается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борьба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уществовало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несколько видов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борьбы: самый простой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из них заключался в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том, что противники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ыходили друг против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друга с голыми руками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9" name="Picture 4" descr="20"/>
          <p:cNvPicPr/>
          <p:nvPr/>
        </p:nvPicPr>
        <p:blipFill>
          <a:blip r:embed="rId1"/>
          <a:stretch/>
        </p:blipFill>
        <p:spPr>
          <a:xfrm>
            <a:off x="539640" y="1341360"/>
            <a:ext cx="4319640" cy="51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104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66ff"/>
                </a:solidFill>
                <a:latin typeface="Tahoma"/>
              </a:rPr>
              <a:t>О спорт! Ты – радость</a:t>
            </a:r>
            <a:r>
              <a:rPr b="1" i="1" lang="ru-RU" sz="3200" spc="-1" strike="noStrike">
                <a:solidFill>
                  <a:srgbClr val="0066ff"/>
                </a:solidFill>
                <a:latin typeface="Tahoma"/>
              </a:rPr>
              <a:t>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торой день состязаний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начинается с пятиборья. В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него входят, кроме бега и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борьбы, метание диска, копья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и прыжки.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2" name="Picture 4" descr="21"/>
          <p:cNvPicPr/>
          <p:nvPr/>
        </p:nvPicPr>
        <p:blipFill>
          <a:blip r:embed="rId1"/>
          <a:stretch/>
        </p:blipFill>
        <p:spPr>
          <a:xfrm>
            <a:off x="539640" y="1268280"/>
            <a:ext cx="3195720" cy="52117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5" descr="28"/>
          <p:cNvPicPr/>
          <p:nvPr/>
        </p:nvPicPr>
        <p:blipFill>
          <a:blip r:embed="rId2"/>
          <a:stretch/>
        </p:blipFill>
        <p:spPr>
          <a:xfrm>
            <a:off x="5724360" y="2997360"/>
            <a:ext cx="31654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97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66ff"/>
                </a:solidFill>
                <a:latin typeface="Tahoma"/>
              </a:rPr>
              <a:t>О спорт! Ты – плодотворность</a:t>
            </a:r>
            <a:r>
              <a:rPr b="1" i="1" lang="ru-RU" sz="2800" spc="-1" strike="noStrike">
                <a:solidFill>
                  <a:srgbClr val="0066ff"/>
                </a:solidFill>
                <a:latin typeface="Tahoma"/>
              </a:rPr>
              <a:t>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оследний день игр посвящается состязаниям на ипподроме. Самым старинным и излюбленным видом этих состязании были бега колесниц, запряженных четверкой лошадей.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6" name="Picture 4" descr="в"/>
          <p:cNvPicPr/>
          <p:nvPr/>
        </p:nvPicPr>
        <p:blipFill>
          <a:blip r:embed="rId1"/>
          <a:stretch/>
        </p:blipFill>
        <p:spPr>
          <a:xfrm>
            <a:off x="1619280" y="1197000"/>
            <a:ext cx="568944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83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66ff"/>
                </a:solidFill>
                <a:latin typeface="Tahoma"/>
              </a:rPr>
              <a:t>О спорт! Ты – прогресс!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Теперь состязания окончены.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днако празднество этим не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завершается, наступает один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из самых торжественных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моментов — раздача наград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Глашатаи снова торжественно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бъявляют имена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обедителей в отдельных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оревнованиях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Раздача наград происходит у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храма Зевса.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9" name="Picture 4" descr="22"/>
          <p:cNvPicPr/>
          <p:nvPr/>
        </p:nvPicPr>
        <p:blipFill>
          <a:blip r:embed="rId1"/>
          <a:stretch/>
        </p:blipFill>
        <p:spPr>
          <a:xfrm>
            <a:off x="250920" y="1268280"/>
            <a:ext cx="3809880" cy="530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104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66ff"/>
                </a:solidFill>
                <a:latin typeface="Tahoma"/>
              </a:rPr>
              <a:t>История Олимпиады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ff"/>
                </a:solidFill>
                <a:latin typeface="Tahoma"/>
              </a:rPr>
              <a:t>Задачи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ahoma"/>
              </a:rPr>
              <a:t>Создать у детей представления об олимпийских играх как мирного соревнования в целях физического совершенствования людей, в котором участвуют народы всего мир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ahoma"/>
              </a:rPr>
              <a:t>Ознакомить школьников с доступными для детей этого возраста сведения из истории олимпийского движени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ahoma"/>
              </a:rPr>
              <a:t>Способствовать формированию у детей интереса к занятиям физическими упражнениями через нравственный и эстетический опыт олимпизм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97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66ff"/>
                </a:solidFill>
                <a:latin typeface="Tahoma"/>
              </a:rPr>
              <a:t>О спорт! Ты – мир!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3628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Начинается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торжественное шествие.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переди идут судьи,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затем новые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лимпионики в ярких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цветных одеждах, с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енками на головах, в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руках они держат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альмовые ветви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обедитель олимпийских игр всю жизнь оставался почитаемым человеком.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2" name="Picture 4" descr="og8"/>
          <p:cNvPicPr/>
          <p:nvPr/>
        </p:nvPicPr>
        <p:blipFill>
          <a:blip r:embed="rId1"/>
          <a:stretch/>
        </p:blipFill>
        <p:spPr>
          <a:xfrm>
            <a:off x="468360" y="1341360"/>
            <a:ext cx="453528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83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66ff"/>
                </a:solidFill>
                <a:latin typeface="Tahoma"/>
              </a:rPr>
              <a:t>Олимпиад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На пятнадцать столетий Олимпия вообще как бы исчезла с лица земл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Даже само её название было забыто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И всё же Олимпийские игры яркой звездой горели в памяти человечества. Свет этой звезды прошел сквозь века и вспыхнул с новой сило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5" name="Picture 4" descr="15"/>
          <p:cNvPicPr/>
          <p:nvPr/>
        </p:nvPicPr>
        <p:blipFill>
          <a:blip r:embed="rId1"/>
          <a:stretch/>
        </p:blipFill>
        <p:spPr>
          <a:xfrm>
            <a:off x="1332000" y="1197000"/>
            <a:ext cx="6350040" cy="29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90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66ff"/>
                </a:solidFill>
                <a:latin typeface="Tahoma"/>
              </a:rPr>
              <a:t>Олимпиад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Нужен был человек, который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был бы предан идее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лимпизм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И такой человек нашелс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Его звали Пьер де Кубертен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н был совсем молодым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человеком, когда высказал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мнение о возрождении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лимпийских игр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рошли столетия, и Олимпийские игры теперь благодаря ему – самый яркий праздник человечеств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8" name="Picture 4" descr="27"/>
          <p:cNvPicPr/>
          <p:nvPr/>
        </p:nvPicPr>
        <p:blipFill>
          <a:blip r:embed="rId1"/>
          <a:stretch/>
        </p:blipFill>
        <p:spPr>
          <a:xfrm>
            <a:off x="468360" y="1125360"/>
            <a:ext cx="359892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83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66ff"/>
                </a:solidFill>
                <a:latin typeface="Tahoma"/>
              </a:rPr>
              <a:t>Олимпиад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50920" y="1125000"/>
            <a:ext cx="864216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ремена меняются, и мы меняемся вместе с ними, как говорили древние римляне… Каков же он, современный олимпийский символ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Да ведь его знает всякий: </a:t>
            </a:r>
            <a:r>
              <a:rPr b="0" i="1" lang="ru-RU" sz="2400" spc="-1" strike="noStrike">
                <a:solidFill>
                  <a:srgbClr val="000000"/>
                </a:solidFill>
                <a:latin typeface="Tahoma"/>
              </a:rPr>
              <a:t>пять переплетенных колец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1" name="Picture 4" descr="йц"/>
          <p:cNvPicPr/>
          <p:nvPr/>
        </p:nvPicPr>
        <p:blipFill>
          <a:blip r:embed="rId1"/>
          <a:stretch/>
        </p:blipFill>
        <p:spPr>
          <a:xfrm>
            <a:off x="1403280" y="1052640"/>
            <a:ext cx="6337440" cy="36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66ff"/>
                </a:solidFill>
                <a:latin typeface="Tahoma"/>
              </a:rPr>
              <a:t>Олимпиад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WordArt 4"/>
          <p:cNvSpPr txBox="1"/>
          <p:nvPr/>
        </p:nvSpPr>
        <p:spPr>
          <a:xfrm>
            <a:off x="1116000" y="1773360"/>
            <a:ext cx="6743880" cy="446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На планете, в нашем мире,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ять жилых материков.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Шлют спортивные отряды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На призыв Олимпиады.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83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66ff"/>
                </a:solidFill>
                <a:latin typeface="Tahoma"/>
              </a:rPr>
              <a:t>Олимпиад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Цвет травы, зеленый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цвет 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Из Австралии привет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6" name="Picture 4" descr="Безимени-1"/>
          <p:cNvPicPr/>
          <p:nvPr/>
        </p:nvPicPr>
        <p:blipFill>
          <a:blip r:embed="rId1"/>
          <a:stretch/>
        </p:blipFill>
        <p:spPr>
          <a:xfrm>
            <a:off x="468360" y="1484280"/>
            <a:ext cx="4751280" cy="48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97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66ff"/>
                </a:solidFill>
                <a:latin typeface="Tahoma"/>
              </a:rPr>
              <a:t>Олимпиад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267920"/>
            <a:ext cx="84358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На востоке рано-ран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олнце окна золотит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отому-то желтый цвет 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Это Азии привет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9" name="Picture 4" descr="Безимени-2"/>
          <p:cNvPicPr/>
          <p:nvPr/>
        </p:nvPicPr>
        <p:blipFill>
          <a:blip r:embed="rId1"/>
          <a:stretch/>
        </p:blipFill>
        <p:spPr>
          <a:xfrm>
            <a:off x="324000" y="1341360"/>
            <a:ext cx="4797360" cy="51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83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66ff"/>
                </a:solidFill>
                <a:latin typeface="Tahoma"/>
              </a:rPr>
              <a:t>Олимпиад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Знают все, что черный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цвет 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Знойной Африки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ривет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2" name="Picture 4" descr="Безимени-3-gif"/>
          <p:cNvPicPr/>
          <p:nvPr/>
        </p:nvPicPr>
        <p:blipFill>
          <a:blip r:embed="rId1"/>
          <a:stretch/>
        </p:blipFill>
        <p:spPr>
          <a:xfrm>
            <a:off x="468360" y="1413000"/>
            <a:ext cx="4680000" cy="524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90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66ff"/>
                </a:solidFill>
                <a:latin typeface="Tahoma"/>
              </a:rPr>
              <a:t>Олимпиад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5075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И Америке негож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Быть без собственных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римет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Красный цвет – вам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     шлет привет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5" name="Picture 4" descr="Безимени-4"/>
          <p:cNvPicPr/>
          <p:nvPr/>
        </p:nvPicPr>
        <p:blipFill>
          <a:blip r:embed="rId1"/>
          <a:stretch/>
        </p:blipFill>
        <p:spPr>
          <a:xfrm>
            <a:off x="468360" y="1197000"/>
            <a:ext cx="4892760" cy="518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97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66ff"/>
                </a:solidFill>
                <a:latin typeface="Tahoma"/>
              </a:rPr>
              <a:t>Олимпиад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5075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Из Европы дружбы троп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К нам спешат – препятствий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нет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А какой же цвет Европы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Голубой Европы цвет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8" name="Picture 4" descr="Безимени-5"/>
          <p:cNvPicPr/>
          <p:nvPr/>
        </p:nvPicPr>
        <p:blipFill>
          <a:blip r:embed="rId1"/>
          <a:stretch/>
        </p:blipFill>
        <p:spPr>
          <a:xfrm>
            <a:off x="179280" y="1197000"/>
            <a:ext cx="460872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66ff"/>
                </a:solidFill>
                <a:latin typeface="Tahoma"/>
              </a:rPr>
              <a:t>Олимпиад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95280" y="1267920"/>
            <a:ext cx="85694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 истории возникновения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лимпийских игр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древности немало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неясностей, а порой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легенд и мифов. Но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бесспорно, что родиной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лимпийских игр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является Древняя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Греция, а именно почитаемое греками святилище Олимпия. Здесь у подножия горы Кронос, в дали реки Алфей, до сих пор зажигается олимпийской огонь современных Игр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тсюда начинается факельная эстафета…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Picture 7" descr="1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395280" y="1268280"/>
            <a:ext cx="460836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4" descr="52"/>
          <p:cNvPicPr/>
          <p:nvPr/>
        </p:nvPicPr>
        <p:blipFill>
          <a:blip r:embed="rId1"/>
          <a:stretch/>
        </p:blipFill>
        <p:spPr>
          <a:xfrm>
            <a:off x="1403280" y="1125360"/>
            <a:ext cx="6300720" cy="316728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97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66ff"/>
                </a:solidFill>
                <a:latin typeface="Tahoma"/>
              </a:rPr>
              <a:t>Олимпиад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ять колец, пять кругов 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Знак пяти материков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Знак, который означае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То, что спорт, как общий друг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се народы приглашает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 свой всемирный, мирный круг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83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66ff"/>
                </a:solidFill>
                <a:latin typeface="Tahoma"/>
              </a:rPr>
              <a:t>Олимпиад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Легенды разные, но во всех случаях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говорится о том, что Геракл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тсчитал шестьсот стоп – расстояние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 один стади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тсюда и пошло название стадион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ам Геракл принял участие в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остязаниях по бегу на одну стадию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и в память о своей победе посадил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на берегу реки Алфей куст оливы,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етками которой награждались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отом Олимпийские чемпион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Picture 4" descr="Gerakl"/>
          <p:cNvPicPr/>
          <p:nvPr/>
        </p:nvPicPr>
        <p:blipFill>
          <a:blip r:embed="rId1"/>
          <a:stretch/>
        </p:blipFill>
        <p:spPr>
          <a:xfrm>
            <a:off x="395280" y="1413000"/>
            <a:ext cx="2808360" cy="51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104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66ff"/>
                </a:solidFill>
                <a:latin typeface="Tahoma"/>
              </a:rPr>
              <a:t>Олимпиад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лимпийские игры проводились в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«священном» для древних греков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круге Альтис, который назывался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также Олимпи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Гордостью всей Олимпии была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татуя Зевса, находящаяся в храме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Зевса Олимпийского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Известно, что маленькие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государства Пелопоннеса постоянно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оевали друг с другом. Разорялись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города, гибли плоды человеческого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труд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тремление людей к миру было заложено в идее олимпиад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Picture 4" descr=""/>
          <p:cNvPicPr/>
          <p:nvPr/>
        </p:nvPicPr>
        <p:blipFill>
          <a:blip r:embed="rId1"/>
          <a:stretch/>
        </p:blipFill>
        <p:spPr>
          <a:xfrm>
            <a:off x="468360" y="1413000"/>
            <a:ext cx="2735280" cy="410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90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66ff"/>
                </a:solidFill>
                <a:latin typeface="Tahoma"/>
              </a:rPr>
              <a:t>Олимпиад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 востока от Альтиса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римыкал стадион, южнее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расположен ипподром. К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западу от Альтиса начинались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остройки, предназначенные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для атлетов – жилища, а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также купальни и бан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се эти здания подолгу стояли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устыми. Ничто не нарушало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тишины священного округа…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Но каждый пятый год, по мере приближения праздника Зевса, повседневная жизнь Олимпии резко менялась. Все готовились к любимейшему празднику – Олимпийским игра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Picture 6" descr="олимп макет"/>
          <p:cNvPicPr/>
          <p:nvPr/>
        </p:nvPicPr>
        <p:blipFill>
          <a:blip r:embed="rId1"/>
          <a:stretch/>
        </p:blipFill>
        <p:spPr>
          <a:xfrm>
            <a:off x="324000" y="1268280"/>
            <a:ext cx="38163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90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66ff"/>
                </a:solidFill>
                <a:latin typeface="Tahoma"/>
              </a:rPr>
              <a:t>Олимпиад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о всем греческим городам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разъезжали специальные послы.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ни сообщали о дне предстоящего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еликого празднества — знаменитых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лимпийских играх.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ни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ровозглашали условия священного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мира, который объявлялся на время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разднеств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сякие военные действия, где бы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ни ни происходили, немедленно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рекращались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Picture 5" descr="og1"/>
          <p:cNvPicPr/>
          <p:nvPr/>
        </p:nvPicPr>
        <p:blipFill>
          <a:blip r:embed="rId1"/>
          <a:stretch/>
        </p:blipFill>
        <p:spPr>
          <a:xfrm>
            <a:off x="539640" y="1268280"/>
            <a:ext cx="2664000" cy="518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90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66ff"/>
                </a:solidFill>
                <a:latin typeface="Tahoma"/>
              </a:rPr>
              <a:t>Олимпиад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На центральном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тадионе города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– столицы Олимпиады,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зажигается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лимпийский огонь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оявляется группа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девушек в белоснежных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античных туниках. Одна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из молодых гречанок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держит в руке факел. В сопровождении подруг она подходит к зеркальной линз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Picture 4" descr="6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324000" y="1268280"/>
            <a:ext cx="467964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90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66ff"/>
                </a:solidFill>
                <a:latin typeface="Tahoma"/>
              </a:rPr>
              <a:t>Олимпиад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79280" y="1125000"/>
            <a:ext cx="896472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ойманные линзой солнечные лучи направляются на факел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Минута и показывается лёгкий дымок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Ещё мгновение – и вспыхивает плам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8" name="Picture 6" descr="olimpia факел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1258920" y="1125360"/>
            <a:ext cx="6265800" cy="38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5T09:57:47Z</dcterms:created>
  <dc:creator>User</dc:creator>
  <dc:description/>
  <dc:language>en-US</dc:language>
  <cp:lastModifiedBy>IcE</cp:lastModifiedBy>
  <dcterms:modified xsi:type="dcterms:W3CDTF">2015-03-04T17:14:44Z</dcterms:modified>
  <cp:revision>17</cp:revision>
  <dc:subject/>
  <dc:title>Слайд 1</dc:title>
</cp:coreProperties>
</file>