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4C6-5173-4C6A-90C0-E430C787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B2E-6EBE-4648-B8B8-73A3349A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811D6-1734-4C04-BDC3-4B6C51F0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EF613-A49F-4686-B7B4-82318FC3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4EBBA-38A2-4094-BCF3-C1EA43BB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CEEA3-54B4-4073-94B5-0D3925E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A176F-CDD4-495C-845F-98AE82AB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3D4CA-F51D-48DC-96BB-486CF67C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8529A-3032-4805-BB45-6CE55AD4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0C952-B0EF-4AEF-80B5-07C6373B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D2E4E-ECBD-46B8-B1A9-E47B87C7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50B5F-4824-47A9-AF7F-E79D7B9D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3BE-8FAB-422F-A550-13401F7C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85EE1-E151-4647-9C35-AE79848A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7B022-6750-4C7F-8B77-BA9B3DA9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A53C0-7B41-44EA-860D-8596DA09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ED4D2-4F15-456E-A3F0-FA7E657F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18F4F-16FB-4752-8E2C-5F17B231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3D11F-AC30-4520-B620-E7400982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8EE40-79E2-4A17-8F6D-4ABCC2FC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7D0DD-2631-44A0-BC33-2114B8EE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8FE45-BD7B-4372-B3D8-364B4302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7AFA8-360A-4768-AF11-E4F739EC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B3A-EE9A-4276-9161-4D372099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85495-4DF9-4C5B-9557-245A3725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CE5F34-EF0D-44E4-AFEE-EAE96229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7B745E-B018-4EAA-B69D-16699E0C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8C97F3-4E72-447E-9C3C-266BA1A0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C91FD7-77A6-4843-B7E6-23E3B92B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577225-D064-4E21-9A3B-73E0B94A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BC62F1-12EE-40CD-85CA-7599AE96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A32DE9-D34D-4342-A7E4-ED6F0261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88A392-F3F1-4533-AB8D-DE1C3205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CF804A-97B5-4803-AAD5-338C53F4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3A43-4C4D-4325-B111-A7D94655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575545-67BE-4E26-8B1F-9C40C0CF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3D1C75-A509-4312-9730-D127FF74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3E7D46-4BBB-4397-92C7-077C7DC6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BE6E6-340D-42F1-9442-8D5526C6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689DF-016C-4F9F-9D52-8A3663C3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D706B-5A71-4B79-9DF5-52FE77BA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2BFE3-4937-4A9F-B49F-D99F7C2E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5707D-C37F-492E-92E3-7EDBFC6A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0F9D1-B64D-4547-9933-3F0EC509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0F15D-2D6B-4207-9D51-3BBF305C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AB00-DE76-456F-9DDD-9D9DF4CC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C8E75-BFCB-4CCB-AD97-E5C31932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32F34-3759-4ED0-9B72-CB14BAA8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61DB3-757C-4949-BD11-CA3DEE6F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9DA7A-CD99-4DE8-94B7-5FF069EE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14674-3F92-415C-82E1-424ACD9E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30BD-3220-40E3-BCAE-5B0383C1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E4B1-3C36-4C9D-88C0-5AA175FC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6EC4-7546-4EEA-91CC-13399456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8E2B-F453-4BEE-8687-51D02160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E83C-B449-4793-B8B6-D468E593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512-71AD-41DE-8BF7-079141F4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4342-84FF-4481-8D4B-55737B4F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F2FB-AE18-4915-BD77-07018161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8397-E2E5-486B-A715-BF346C86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8286-55E1-4B60-8B72-E95EB20E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DB9D-8E76-4F3C-9BAF-739E1268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C0FF-9BE7-4A59-B881-F982A4F5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02D77-4DCE-4C80-850E-CE9F0F50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5372-7FFA-4F46-8B2D-651A0E5C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BB458-7B10-4B3A-892F-AC968C53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96896-1C6A-406A-97D5-F41AE925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742-499E-45A0-9FC9-705B41DA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7B9C-2FD3-4654-BB9E-A02E0B76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08F9-7EF0-4CB9-8856-704E102C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2003D-5D1E-41AE-9CA9-D697891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6047-B4B0-454E-A061-F75E8658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7B44-D75E-4452-B975-625E0161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C69AB-8C63-4B58-9F16-1B1BFB5D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231E-49B8-4690-8E26-69821AA0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9F74-FE14-4057-BC0A-DC023C76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6612-6BF5-45AD-AB70-2408BEDB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090E1-2788-46ED-863E-8E445036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B88-A5F4-4AC7-9F95-BBF3D8F3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CF896-B30A-446E-9607-630BEF1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97BB8-B704-4AFF-B0D9-8EB01251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6DC3A-8EC4-492C-BEDC-2BC1AE34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1DAC2-A8E7-4149-9C68-9B5C8A7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77993-3F59-4E72-930A-68164CCC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12CE5-1F19-420F-9B86-C0FB7D9B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A9EB-6160-49C2-815C-C5C8A15C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18F42-F834-4B0E-AE08-3301F9B1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5EDF9-37F1-4B61-B3B4-A9730BE2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34997-6608-4888-AC4C-3FF5E557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E4D-C125-422D-870E-54E8E80B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5E95-5B8F-4A26-8F3B-6119B1C8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7635C-9FCF-45EC-B4E1-A69A1F3C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C12E3-AA84-4C2D-A07D-63477084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CAEB8-F9D8-4F02-AC4C-5E7A2D32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C570E-118A-49FD-9F79-B86266F3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D8781-2B20-4C06-944F-03F4AFD8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B178C-5402-4FAA-9E39-D2A334CB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3F77D-5837-4FB0-BA8B-45588C12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E899E-048E-4EC8-8819-D91F36CE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1AD5-48C3-49F9-998D-AE0907FF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D13-DB67-4600-A31D-F71985A4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34B08-9F47-452A-BDC4-EC75E564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07520-A489-4E32-85EE-53685715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ADC8E-0DE4-4BF5-8042-8723FB70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55EC3-36BC-4D2E-BAEC-8FC020AF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BAD0C-BA6D-4C29-8CAD-BA20434D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5CA61-2488-4A34-8572-62F198E3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36425-E091-4D9B-BCC8-BD11380B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6C9E5-34D1-458B-AF58-01CF850C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6FC9-AC68-47D7-8D35-C7E41E40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35E31-22BD-47A2-B012-39D5AD70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F97-716F-422A-ACC7-775315CF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DE259-E8FF-440B-A2F5-34BE1470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3EA15-1204-42E0-8CAD-7B4E2538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6CE95-6B20-489E-BB97-04D6FFD8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F521D-40BD-4B0F-82F4-BA36FA6A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EDAE0-9741-4248-B7DB-0B265B79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FA15D-A115-4369-80F1-FE1F0259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30E7F-9DC6-4DED-860A-21CFD21D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DD7C0-FCEC-4C6E-A582-5FC9AE1B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5F9C3-F512-431F-AB05-D66D48E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7B8BD-B1BD-4C66-8937-E2C0133C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450-363B-4F41-AA27-903836CB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D18FC-EF47-45F4-94D0-FD95DD3B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A9186-A239-4A72-B1B6-361ABF4C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8A74B-4FD2-4E66-A6FA-7495CDDB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5EA40-948A-47A6-B98D-C6D29574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250EB-999B-49C1-9A30-A81FA74F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853F2-5445-4C97-8EE8-5BCAE265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E6A69-0E20-4B5D-9B8A-CB23FA30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D3F7A-8F75-4235-8376-94CBA795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019D2-398B-442A-878C-C6EAC9D0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D61C6-A9F6-459B-9097-8F61D5C8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C28-487D-4293-B689-E4F9FE4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EAD4C-7E7E-4EEA-87B1-893383F4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1F8B7-6869-4051-BFA7-678E2C05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412E9-5964-4F61-BA79-ECA697C7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F10F-6838-41FC-927D-AE84EDAB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82438-A8ED-4B42-8AC3-C654A2CB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1B1A5-FEAA-43AA-BF71-BCB2D152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2FA52-FEA2-462D-AC59-80A0F498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157A2-892A-432D-99DB-C5DE1383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C2EC0-62B9-4B96-AC99-4F5E3559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BF53B-5B62-46F8-B9BF-950F0EED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3CB1-7499-4C9C-9A37-98993601A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2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2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3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5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7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C761-F9FF-4BA8-8C9C-40C837D35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7C2B-B011-4893-8E49-041D9BCF66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8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FE56-F27D-46F5-ADBE-302F9DF5B3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74F5-8E85-4539-BBDF-D09066EDC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DFBF-F886-4969-850D-E01744DF4D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C589-897E-4EF7-A884-59087A2A7E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561F-25FA-4E02-8629-4D20569DB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713D-7D41-48D9-B617-489F0B4CA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0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F909-4424-49C3-9110-859C55133C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5856-DE00-4195-B078-7FCFA3017F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1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1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3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6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ACE2-8D49-459A-939C-C260765DC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rmontov.niv.ru/images/lermontov/lermontov_03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244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Работу выполн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Карасева Елена Николаевна</a:t>
            </a:r>
            <a:r>
              <a:rPr b="1" lang="en-US" sz="2800" spc="-1" strike="noStrike">
                <a:solidFill>
                  <a:srgbClr val="9933ff"/>
                </a:solidFill>
                <a:latin typeface="Monotype Corsiva"/>
              </a:rPr>
              <a:t>,</a:t>
            </a: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учитель русского языка и литера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Monotype Corsiva"/>
              </a:rPr>
              <a:t>II </a:t>
            </a: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квалификационной категории</a:t>
            </a:r>
            <a:r>
              <a:rPr b="1" lang="en-US" sz="2800" spc="-1" strike="noStrike">
                <a:solidFill>
                  <a:srgbClr val="9933ff"/>
                </a:solidFill>
                <a:latin typeface="Monotype Corsiva"/>
              </a:rPr>
              <a:t>,</a:t>
            </a: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МОУ </a:t>
            </a:r>
            <a:r>
              <a:rPr b="1" lang="en-US" sz="2800" spc="-1" strike="noStrike">
                <a:solidFill>
                  <a:srgbClr val="9933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Ягубовская средняя общеобразовательная шк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72d99"/>
            </a:gs>
            <a:gs pos="50000">
              <a:srgbClr val="b2b2b2"/>
            </a:gs>
            <a:gs pos="100000">
              <a:srgbClr val="b72d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775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                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Боже мой!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              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Сколько эстетического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              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этом человеке! Какая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              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нежная и тонкая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              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поэтическая душа в не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                                   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В.Г.Бели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50920" y="333360"/>
            <a:ext cx="8569080" cy="5792400"/>
          </a:xfrm>
          <a:prstGeom prst="rect">
            <a:avLst/>
          </a:prstGeom>
          <a:noFill/>
          <a:ln w="250920">
            <a:solidFill>
              <a:srgbClr val="ec8e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М.Ю. Лермонт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73360"/>
            <a:ext cx="2303280" cy="3168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Monotype Corsiva"/>
              </a:rPr>
              <a:t>«Так храм покинутый – все храм,</a:t>
            </a:r>
            <a:br>
              <a:rPr sz="4400"/>
            </a:br>
            <a:r>
              <a:rPr b="1" i="1" lang="en-US" sz="4400" spc="-1" strike="noStrike">
                <a:solidFill>
                  <a:srgbClr val="ccecff"/>
                </a:solidFill>
                <a:latin typeface="Monotype Corsiva"/>
              </a:rPr>
              <a:t>Кумир поверженный – все бог!..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Признавая неизбежность разлуки и обреченность земного счастья, лермонтовкий герой утверждает и необыкновенную ценность любви, и святость тех редких минут, когда он был вместе с возлюбле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Лирика Лермонтова искренна, тонко передает его душевный настрой, подчас трагична, как и судьба самого поэта. Однако рядом с нами навсегда его прекрасные произведения, его сти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Любовная лирика М.Ю.Лермонт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1" name="" descr="М.Ю. Лермонтов"/>
          <p:cNvPicPr/>
          <p:nvPr/>
        </p:nvPicPr>
        <p:blipFill>
          <a:blip r:embed="rId1"/>
          <a:stretch/>
        </p:blipFill>
        <p:spPr>
          <a:xfrm>
            <a:off x="5940360" y="1143000"/>
            <a:ext cx="2705040" cy="31748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 txBox="1"/>
          <p:nvPr/>
        </p:nvSpPr>
        <p:spPr>
          <a:xfrm>
            <a:off x="539280" y="1557000"/>
            <a:ext cx="6696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Georgia"/>
              </a:rPr>
              <a:t>Я не могу любовь определ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Georgia"/>
              </a:rPr>
              <a:t>Но это страсть сильнейшая! - люб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Georgia"/>
              </a:rPr>
              <a:t>Необходимость мне; и я люб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Georgia"/>
              </a:rPr>
              <a:t>Всем напряжением душевных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Georgia"/>
              </a:rPr>
              <a:t>М.Ю.Лермо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Цель урока</a:t>
            </a:r>
            <a:br>
              <a:rPr sz="3800"/>
            </a:br>
            <a:r>
              <a:rPr b="0" i="1" lang="en-US" sz="3600" spc="-1" strike="noStrike">
                <a:solidFill>
                  <a:srgbClr val="f2aa68"/>
                </a:solidFill>
                <a:latin typeface="Tahoma"/>
              </a:rPr>
              <a:t>постепенное проникновение во внутренний мир и любовную лирику </a:t>
            </a:r>
            <a:r>
              <a:rPr b="0" i="1" lang="en-US" sz="3600" spc="-1" strike="noStrike">
                <a:solidFill>
                  <a:srgbClr val="f2aa68"/>
                </a:solidFill>
                <a:latin typeface="Tahoma"/>
              </a:rPr>
              <a:t> М.Ю.Лермонтова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aa68"/>
                </a:solidFill>
                <a:latin typeface="Tahoma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aa68"/>
                </a:solidFill>
                <a:latin typeface="Tahoma"/>
              </a:rPr>
              <a:t>вызвать интерес к личности и творчеству поэта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aa68"/>
                </a:solidFill>
                <a:latin typeface="Tahoma"/>
              </a:rPr>
              <a:t>раскрыть духовный потенциал и творческое воображение учащихс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aa68"/>
                </a:solidFill>
                <a:latin typeface="Tahoma"/>
              </a:rPr>
              <a:t>создать благоприятные условия для эстетического восприятия поэз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Так чувства лучшие мои 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                           Обмануты навек тобою!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252360" y="1919160"/>
            <a:ext cx="316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Е.А. Сушков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43280" y="1700280"/>
            <a:ext cx="482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« Эта женщина - летучая мышь, крылья которой зацепляются за все встречное… есть что-то такое в ее манерах, в ее голосе грубое, отрывистое, надломленное, что отталкив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М.Ю.Лермо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219240" y="1919160"/>
            <a:ext cx="2404800" cy="318924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Стихотворение «Нищий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111240" y="1125360"/>
            <a:ext cx="743112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Однажды несколько семе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проводящих лето в Середникове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в том числе Арсеньева с внуком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Столыпины, Верещагины 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Сушковы, отправились 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Троицко-Сергеевскуюлавр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На паперти стоял нищий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в руку которого кем-то бы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положен камень. Так возникла развернута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метафора, которую Лермонтов использует 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стихотворении как символ человеческог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imes New Roman"/>
              </a:rPr>
              <a:t>равнодушия и глухот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410000" y="1598760"/>
            <a:ext cx="3240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202360" y="418320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Е.А. Су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sushkova_e_a" descr="Сушкова Е.А. Миниатюра неизвестного художника"/>
          <p:cNvPicPr/>
          <p:nvPr/>
        </p:nvPicPr>
        <p:blipFill>
          <a:blip r:embed="rId2"/>
          <a:stretch/>
        </p:blipFill>
        <p:spPr>
          <a:xfrm>
            <a:off x="5094360" y="1125360"/>
            <a:ext cx="2448000" cy="305784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3"/>
          <a:stretch/>
        </p:blipFill>
        <p:spPr>
          <a:xfrm>
            <a:off x="11124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87" fill="hold"/>
                                        <p:tgtEl>
                                          <p:spTgt spid="8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«Я не достоин, может быть,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твоей любви; не мне судить…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eaeaea"/>
                </a:solidFill>
                <a:latin typeface="Georgia"/>
              </a:rPr>
              <a:t>Чувство оскорбленной гордости, обостренное ощущение своего творческого дара подсказали поэту эти строк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Georgia"/>
              </a:rPr>
              <a:t>«Я не унижусь пред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Georgia"/>
              </a:rPr>
              <a:t>                                </a:t>
            </a:r>
            <a:r>
              <a:rPr b="1" i="1" lang="en-US" sz="2400" spc="-1" strike="noStrike">
                <a:solidFill>
                  <a:srgbClr val="ffff66"/>
                </a:solidFill>
                <a:latin typeface="Georgia"/>
              </a:rPr>
              <a:t>тобою…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868" name="" descr="Н.Ф.Иванова. Рисунок В.Ф.Бинемана. 1840-е годы. ИРЛИ. В Лермонтовской энциклопедии (М., 1980) и в аннотации к рисунку Бинемана в ИРЛИ — 1830-е годы."/>
          <p:cNvPicPr/>
          <p:nvPr/>
        </p:nvPicPr>
        <p:blipFill>
          <a:blip r:embed="rId1"/>
          <a:stretch/>
        </p:blipFill>
        <p:spPr>
          <a:xfrm>
            <a:off x="5867280" y="1989000"/>
            <a:ext cx="2232000" cy="324036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5003640" y="5229360"/>
            <a:ext cx="368316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.Ф.Ив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С тех пор, как мне явилась ты,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    Моя любовь - мне оборона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                     От гордых дум и суеты..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0" y="142056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b2b2b2"/>
                </a:solidFill>
                <a:latin typeface="Times New Roman"/>
              </a:rPr>
              <a:t>"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Будучи студентом, Лермонтов был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страстно влюблён ... в молоденькую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милую, умную, как день, и в полном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смысле восхитительную Лопухину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это была натура пылкая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восторженная, поэтическая и в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высшей степени симпатичная...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Как теперь помню ее ласковый взгляд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и светлую улыбку… Чувство к ней Лермонтова было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безотчётно, но истинно, сильно, и едва ли не сохранил о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его до самой смерти своей"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</a:rPr>
              <a:t>А.П. Шан-Гире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237360" y="437076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Garamond"/>
              </a:rPr>
              <a:t>В. А. Лопухина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" descr="В.А. Лопухина. Акварель Лермонтова"/>
          <p:cNvPicPr/>
          <p:nvPr/>
        </p:nvPicPr>
        <p:blipFill>
          <a:blip r:embed="rId1"/>
          <a:stretch/>
        </p:blipFill>
        <p:spPr>
          <a:xfrm>
            <a:off x="6372360" y="1628640"/>
            <a:ext cx="23144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ec94"/>
                </a:solidFill>
                <a:latin typeface="Lucida Sans Unicode"/>
              </a:rPr>
              <a:t>« Мы случайно сведены судьбою, </a:t>
            </a: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Lucida Sans Unicode"/>
              </a:rPr>
              <a:t>Мы себя нашли один в другом…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148000" y="159984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</a:rPr>
              <a:t>В.Лопухина в образе испанской монахин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7" name="" descr="Эмилия, героиня драмы 'Испанцы' (В. Лопухина). Акварель Лермонтова"/>
          <p:cNvPicPr/>
          <p:nvPr/>
        </p:nvPicPr>
        <p:blipFill>
          <a:blip r:embed="rId1"/>
          <a:stretch/>
        </p:blipFill>
        <p:spPr>
          <a:xfrm>
            <a:off x="5645160" y="1844640"/>
            <a:ext cx="2298600" cy="335268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826920" y="1836360"/>
            <a:ext cx="410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Monotype Corsiva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В феврале 1838 года Лермонтов пишет письмо Марии Лопухиной, а в конверт вложил стихи, обращенные к ее младшей сестре, Вареньке, - знаменитую «Молит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Monotype Corsiva"/>
              </a:rPr>
              <a:t>Сколько кроткой задушевности </a:t>
            </a: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Monotype Corsiva"/>
              </a:rPr>
              <a:t>в тоне этого стихотворения, сколько </a:t>
            </a: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Monotype Corsiva"/>
              </a:rPr>
              <a:t>нежности без всякой приторности,</a:t>
            </a: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Monotype Corsiva"/>
              </a:rPr>
              <a:t> какое благоуханное, теплое, </a:t>
            </a: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Monotype Corsiva"/>
              </a:rPr>
              <a:t>женственное чувство. Все это трогает в </a:t>
            </a: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Monotype Corsiva"/>
              </a:rPr>
              <a:t>голубиной натуре человека; но в духе мощном и </a:t>
            </a: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Monotype Corsiva"/>
              </a:rPr>
              <a:t>гордом, в натуре львиной – все это больше, чем </a:t>
            </a: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Monotype Corsiva"/>
              </a:rPr>
              <a:t>умилительно…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Monotype Corsiva"/>
              </a:rPr>
              <a:t>                                                </a:t>
            </a:r>
            <a:r>
              <a:rPr b="1" lang="en-US" sz="3200" spc="-1" strike="noStrike">
                <a:solidFill>
                  <a:srgbClr val="feec94"/>
                </a:solidFill>
                <a:latin typeface="Monotype Corsiva"/>
              </a:rPr>
              <a:t>В. Г. Белинский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6:49:19Z</dcterms:created>
  <dc:creator>Елена</dc:creator>
  <dc:description/>
  <dc:language>en-US</dc:language>
  <cp:lastModifiedBy>Елена</cp:lastModifiedBy>
  <dcterms:modified xsi:type="dcterms:W3CDTF">2008-11-14T14:28:33Z</dcterms:modified>
  <cp:revision>15</cp:revision>
  <dc:subject/>
  <dc:title>Слайд 1</dc:title>
</cp:coreProperties>
</file>