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4CFB-DC69-4EBD-934D-D9C7A0DCA1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6F7-AC4D-4EFD-9E53-8437FC3CF5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dia-kuban.ru/images/thumbs/3/2/0/28023_original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17/b_176b96521700084f72784839642b2c6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reslib/200708/r167272_622740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fipi.ru/sites/default/files/file/02-651_o_napravlenii_dokumentov_po_provedeniyu_itogovogo_sochineniya_izlozheniya_v_oiv.pdf" TargetMode="External"/><Relationship Id="rId3" Type="http://schemas.openxmlformats.org/officeDocument/2006/relationships/hyperlink" Target="http://www.fipi.ru/about/news/utverzhdeny-kriterii-ocenivaniya-itogovogo-sochineniya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pi.ru/ege-i-gve-11/itogovoe-sochineni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ze.az/photo/examen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720" y="2133720"/>
            <a:ext cx="572436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ое обеспечение итогового сочинения (изложения) в 201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15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ебном год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tuvaonline.ru/uploads/posts/2013-04/1366161689_sochin.jpg"/>
          <p:cNvPicPr/>
          <p:nvPr/>
        </p:nvPicPr>
        <p:blipFill>
          <a:blip r:embed="rId2"/>
          <a:stretch/>
        </p:blipFill>
        <p:spPr>
          <a:xfrm>
            <a:off x="6086520" y="2133720"/>
            <a:ext cx="2838240" cy="23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ug.ru/uploads/images/news/11150/large/%D0%92%D0%BE%D0%B7%D0%B2%D1%80%D0%B0%D1%89%D0%B5%D0%BD%D0%B8%D0%B5%20%D0%B2%D1%8B%D0%BF%D1%83%D1%81%D0%BA%D0%BD%D0%BE%D0%B3%D0%BE%20%D1%81%D0%BE%D1%87%D0%B8%D0%BD%D0%B5%D0%BD%D0%B8%D1%8F%20-%20%D0%BD%D0%B5%20%D0%B7%D0%B0%20%D0%B3%D0%BE%D1%80%D0%B0%D0%BC%D0%B8.jpg"/>
          <p:cNvPicPr/>
          <p:nvPr/>
        </p:nvPicPr>
        <p:blipFill>
          <a:blip r:embed="rId3"/>
          <a:stretch/>
        </p:blipFill>
        <p:spPr>
          <a:xfrm>
            <a:off x="6086520" y="4797360"/>
            <a:ext cx="2838240" cy="18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рганизация проверки ра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81160" y="1557360"/>
            <a:ext cx="865188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ть сочинения (изложения) будут Комиссии образовательных организаций или экспертные комиссии, созданные на муниципальном/региональном уров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роверке сочинения (изложения) могут быть привлечены независимые эксперты – специалисты, не работающие в образовательной организации, которая обеспечивает проведение итогового сочинения (изложения), но имеющие необходимую квалификацию для проверки итогового сочинения (излож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6" descr="Картинка 1846 из 120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8040" y="4741920"/>
            <a:ext cx="3015000" cy="19033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281160" y="4416480"/>
            <a:ext cx="537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ированные копии сочинений, сделанные до их проверки, будут направлены в единую базу данных для организации вузовской проверки сочинений: оценка за работу на данном этапе выставляется вузом по утвержденным им критер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2520" y="1628280"/>
            <a:ext cx="8424720" cy="504036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ответствие те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ыпускник должен отвечать на вопрос, поставленный в теме, или размышлять над предложенной проблемой, или строить высказывание на основе связанных с темой тезисов и т.п.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тавится, если сочинение не соответствует теме или в нем не прослеживается конкретной цели высказывания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гументация. Привлечение литературного материа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ыпускник должен привлечь для аргументации не менее одного произведения отечественной или мировой литературы.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тавится, если  сочинение написано без привлечения литературного материала, или в нем существенно искажено содержание произведения, или произведения лишь упоминаются в работе, не становясь опорой для рассуждени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озиция и логика рассу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ыпускник должен аргументировать высказанные мысли, стараясь выдерживать соотношение между тезисом и доказательствами.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тавится, если грубые логические нарушения мешают пониманию смысла сказанного или отсутствует тезисно-доказательная часть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чество письменной ре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ыпускник должен точно выражать мысли, используя разнообразную лексику и различные грамматические конструкции, уместно употреблять термины, избегать речевых штампов.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тавится, если низкое качество речи, в том числе речевые ошибки, существенно затрудняет понимание смысла сочинения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мот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ставится, если грамматические, орфографические и пунктуационные ошибки, допущенные в сочинении, затрудняют чтение и понимание текста – в сумме более 5 ошибок на 100 с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116000" y="189000"/>
            <a:ext cx="802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сочинения в школ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79280" y="3213000"/>
            <a:ext cx="8758440" cy="3486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берите только ОДНУ из предложенных ниже тем сочинений, а затем напишите сочинение на эту тему (рекомендуемый объем не менее 350 сл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формулируйте свою точку зрения и аргументируйте свою позицию, выстраивая рассуждение в рамках заявленной темы на основе не менее одного произведения отечественной или мировой литературы по Вашему выбору (количество привлеченных произведений не так важно, как глубина раскрытия темы с опорой на литературный материа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думайте композицию сочинения. Обращайте внимание на речевое оформление и соблюдение норм грамотности (разрешается пользоваться орфографическим словарем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чинение пишите четко и разборчи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ценке сочинения в первую очередь учитывается соответствие выбранной теме и аргументированное привлечение литературных произ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4320"/>
            <a:ext cx="7128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струкци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для выпускников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ишущих сочинен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(на экзаменационном лис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Картинка 174 из 1605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77840"/>
            <a:ext cx="3141720" cy="208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971640" y="189000"/>
            <a:ext cx="817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из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24000" y="1511280"/>
            <a:ext cx="8569080" cy="528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ние изло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веряется умение передать содержание исходного текста.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тавится, если выпускник существенно исказил содержание прочитанного текста или не передал его содержания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гичность изложения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веряется умение логично, последовательно излагать содержание исходного текста, избегать неоправданных повторов и нарушений последовательности внутри смысловых частей изложения.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тавится, если грубые логические нарушения мешают пониманию смысла изложенного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элементов стиля исходного тек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веряется умение  сохранить в изложении отдельные элементы стиля исходного текста.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тавится, если в изложении совершенно отсутствуют элементы стиля исходного текста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чество письменной реч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веряется умение выражать мысли, используя разнообразную лексику и различные речевые конструкции.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тавится, если низкое качество речи, в том числе грубые речевые ошибки, существенно затрудняют понимание смысла изложения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за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ставится, если грамматические, орфографические и пунктуационные ошибки, допущенные в изложении, затрудняют чтение и понимание текста – в сумме более 10 ошибок на 100 сл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4"/>
          <p:cNvSpPr/>
          <p:nvPr/>
        </p:nvSpPr>
        <p:spPr>
          <a:xfrm>
            <a:off x="270000" y="2352600"/>
            <a:ext cx="6065640" cy="423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лушайте (прочитайте) текст. Напишите подробное изложение. Рекомендованный объем – 250-300 слов (если в изложении меньше 150 слов, то задание считается невыполнен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райтесь точно и полно передать содержание исходного текста, сохраняйте элементы его сти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щайте внимание на логику изложения, речевое оформление и соблюдение норм грамотности (разрешается пользоваться орфографическим и толковым словаря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ложение пишите четко и разборч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оценке изложения в первую очередь учитывается его содержание и лог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0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струкция для выпускников, пишущих изложен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(на экзаменационном лис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Картинка 12 из 4759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5640" y="2352600"/>
            <a:ext cx="2629080" cy="204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rosleshoz.gov.ru/dep/siberia/press/547/sochinenie.jpg"/>
          <p:cNvPicPr/>
          <p:nvPr/>
        </p:nvPicPr>
        <p:blipFill>
          <a:blip r:embed="rId3"/>
          <a:stretch/>
        </p:blipFill>
        <p:spPr>
          <a:xfrm>
            <a:off x="5986440" y="4397400"/>
            <a:ext cx="2978280" cy="223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0772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Условия получения зач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6680" y="3207960"/>
            <a:ext cx="3667320" cy="3382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ржать объем (сочинение не менее 250 слов, изложение – не менее 15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ть работу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http://www.sarreg.ru/uploads/posts/2014-01/thumbs/1390994001_default.jpeg"/>
          <p:cNvPicPr/>
          <p:nvPr/>
        </p:nvPicPr>
        <p:blipFill>
          <a:blip r:embed="rId1"/>
          <a:stretch/>
        </p:blipFill>
        <p:spPr>
          <a:xfrm>
            <a:off x="4560840" y="3573360"/>
            <a:ext cx="4356000" cy="3090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636480" y="1352520"/>
            <a:ext cx="67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лучения «зачета»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52360" y="1846440"/>
            <a:ext cx="6767640" cy="1191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ть положительный результат по трем критериям (по критериям №1 и №2 – в обязательном поряд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Картинка 115 из 170710"/>
          <p:cNvPicPr/>
          <p:nvPr/>
        </p:nvPicPr>
        <p:blipFill>
          <a:blip r:embed="rId2"/>
          <a:stretch/>
        </p:blipFill>
        <p:spPr>
          <a:xfrm>
            <a:off x="7257960" y="1352520"/>
            <a:ext cx="1670040" cy="2511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1116000" y="189000"/>
            <a:ext cx="802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сочинения в вуз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7040" y="1773360"/>
          <a:ext cx="8707680" cy="4940280"/>
        </p:xfrm>
        <a:graphic>
          <a:graphicData uri="http://schemas.openxmlformats.org/drawingml/2006/table">
            <a:tbl>
              <a:tblPr/>
              <a:tblGrid>
                <a:gridCol w="7858440"/>
                <a:gridCol w="406080"/>
                <a:gridCol w="443160"/>
              </a:tblGrid>
              <a:tr h="213480">
                <a:tc>
                  <a:txBody>
                    <a:bodyPr lIns="24120" rIns="24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3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1. Соответствие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в той или иной форме рассуждает на предложенную тему, выбрав убедительный путь ее раскрытия (например, отвечает на вопрос, поставленный в теме, или размышляет над предложенной проблемой, или строит высказывание на основе связанных с темой тезисов и т.п.), коммуникативный замысел сочинения выражен яс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84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поверхностно рассуждает на предложенную тему, коммуникативный замысел сочинения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не соответствует тем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коммуникативный замысел сочинения не прослежива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2880">
                <a:tc gridSpan="3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2. Аргументация. Привлечение литературного материа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624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при раскрытии темы сочинения строит рассуждение на основе не менее одного произведения отечественной или мировой литературы по собственному выбору, определяя свой путь использования литературного материала; показывает разный уровень его осмысления: от элементов смыслового анализа (например, тематика, проблематика, сюжет, характеры и т.п.) до комплексного анализа художественного текста в единстве формы и содерж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не более 1 фактической ошибки, связанной со знанием литературного материала (ошибка в написании автора и названия произведения, имен персонажей и топонимов произведения, в изложении сюжетной линии, литературных и исторических фактов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52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строит рассуждение с опорой на литературный материал, но ограничивается общими высказываниями по поводу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ограничивается только пересказом художественного произвед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допущены 2-4 фактические ошибки, связанные со знанием литературного матери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7840">
                <a:tc gridSpan="2"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написано без привлечения литературного материал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литературные произведения лишь упоминаются в работе, не становясь опорой для рассужд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сочинение содержит 5 и более фактических ошиб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116000" y="189000"/>
            <a:ext cx="802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сочинения в вуз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1844640"/>
          <a:ext cx="8642160" cy="4854600"/>
        </p:xfrm>
        <a:graphic>
          <a:graphicData uri="http://schemas.openxmlformats.org/drawingml/2006/table">
            <a:tbl>
              <a:tblPr/>
              <a:tblGrid>
                <a:gridCol w="8145360"/>
                <a:gridCol w="496800"/>
              </a:tblGrid>
              <a:tr h="21348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3. Композиция и логика рассуж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отличается композиционной цельностью, логичностью изложения мыслей и соразмерностью частей, внутри смысловых частей нет нарушений последовательности и необоснованных повто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6800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отличается композиционной цельностью, его части логически связаны между собой, но внутри смысловых частей есть нарушения последовательности и необоснованные повтор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в сочинении прослеживается композиционный замысел, но есть нарушения композиционной связи между смысловыми частям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мысль повторяется и не развивае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472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бые логические нарушения мешают пониманию смысла написанного, или отсутствует тезисно-доказательная часть, или аргументация не убедитель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4. Качество письменной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52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точно выражает мысли, используя разнообразную лексику и различные грамматические конструкции, при необходимости уместно употребляет термины, избегает штамп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472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точно выражает мысли, но его речь характеризуется бедностью словаря и однообразием грамматического строя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качество речи существенно затрудняет понимание смысла, или сочинение написано бедным, примитивным языком, или изобилует просторечными выражениями и вульгаризм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116000" y="189000"/>
            <a:ext cx="802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сочинения в вуз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1628640"/>
          <a:ext cx="8496000" cy="5079960"/>
        </p:xfrm>
        <a:graphic>
          <a:graphicData uri="http://schemas.openxmlformats.org/drawingml/2006/table">
            <a:tbl>
              <a:tblPr/>
              <a:tblGrid>
                <a:gridCol w="8001000"/>
                <a:gridCol w="495000"/>
              </a:tblGrid>
              <a:tr h="335160">
                <a:tc gridSpan="2"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5. Оригинальность со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демонстрирует творческий, нестандартный подход к раскрытию темы (в сочинении отмечаются интересные мысли, или неожиданные и вместе с тем убедительные аргументы, или свежие наблюдения и проч.) или яркость сти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9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ускник не демонстрирует самостоятельности мышления, и/или творческого, нестандартного подхода, и/или оригинальности сти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 gridSpan="2"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6. Речевые нор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не более 2 речев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66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3-4 речевы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516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5 и более речев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7. Орфографически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98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х ошибок нет, или допущена 1 негрубая ошиб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2-3 орфографически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516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4-5 орфографически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2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5 орфографических ошибо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116000" y="189000"/>
            <a:ext cx="802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араметры оценивания итогового сочинения в вуз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700280"/>
          <a:ext cx="8642160" cy="3903480"/>
        </p:xfrm>
        <a:graphic>
          <a:graphicData uri="http://schemas.openxmlformats.org/drawingml/2006/table">
            <a:tbl>
              <a:tblPr/>
              <a:tblGrid>
                <a:gridCol w="8129520"/>
                <a:gridCol w="512640"/>
              </a:tblGrid>
              <a:tr h="3031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8. Пунктуационные н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2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нктуационных ошибок нет, или допущена 1 негрубая ошиб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3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2-3 пунктуационны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4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4-5 пунктуационн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3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5 пунктуационн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6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9. Грамматические нор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6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не более 2 грамматически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6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3-4 грамматически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16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5 и более грамматических ошибо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 gridSpan="2"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10. Фактическая точность в фоновом матери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е ошибки отсутствую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6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фактические ошибки в фоновом материале (одна и боле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31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0920" y="5789520"/>
          <a:ext cx="8642160" cy="906480"/>
        </p:xfrm>
        <a:graphic>
          <a:graphicData uri="http://schemas.openxmlformats.org/drawingml/2006/table">
            <a:tbl>
              <a:tblPr/>
              <a:tblGrid>
                <a:gridCol w="1954080"/>
                <a:gridCol w="465120"/>
                <a:gridCol w="565200"/>
                <a:gridCol w="565200"/>
                <a:gridCol w="668160"/>
                <a:gridCol w="682920"/>
                <a:gridCol w="771480"/>
                <a:gridCol w="771480"/>
                <a:gridCol w="496800"/>
                <a:gridCol w="574560"/>
                <a:gridCol w="497160"/>
                <a:gridCol w="63000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по десятибалльной систе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http://nosmoke.chitai-gorod.ru/upload/iblock/d59/d59cfd6f031ce86d874e4ae8be5f8003.jpg"/>
          <p:cNvPicPr/>
          <p:nvPr/>
        </p:nvPicPr>
        <p:blipFill>
          <a:blip r:embed="rId1"/>
          <a:stretch/>
        </p:blipFill>
        <p:spPr>
          <a:xfrm>
            <a:off x="7020000" y="3335400"/>
            <a:ext cx="1931760" cy="3362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50920" y="1581120"/>
            <a:ext cx="6584760" cy="17398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дной из причин замены выпускного сочинения итоговой аттестацией в формате ЕГЭ по русскому языку и по литературе была задача поставить заслон списыванию готовых сочинений по непрочитанным школьниками произведениям, потому что такие «золотые» сочинения бесконтрольно тиражировались многими издатель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http://www.bookin.org.ru/book/609984.jpg"/>
          <p:cNvPicPr/>
          <p:nvPr/>
        </p:nvPicPr>
        <p:blipFill>
          <a:blip r:embed="rId2"/>
          <a:stretch/>
        </p:blipFill>
        <p:spPr>
          <a:xfrm>
            <a:off x="395280" y="3637080"/>
            <a:ext cx="1930320" cy="306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bookcube.ru/uploads/taginator/Jan-2013/otvety-o.a.xolodova-4-klass.jpg"/>
          <p:cNvPicPr/>
          <p:nvPr/>
        </p:nvPicPr>
        <p:blipFill>
          <a:blip r:embed="rId3"/>
          <a:stretch/>
        </p:blipFill>
        <p:spPr>
          <a:xfrm>
            <a:off x="6962760" y="160200"/>
            <a:ext cx="1971720" cy="329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cs3.a5.ru/media/da/84/f7/650_da84f7f4d3ea70b42e9ba2a83993ef30.jpg"/>
          <p:cNvPicPr/>
          <p:nvPr/>
        </p:nvPicPr>
        <p:blipFill>
          <a:blip r:embed="rId4"/>
          <a:srcRect l="354" t="0" r="-349" b="0"/>
          <a:stretch/>
        </p:blipFill>
        <p:spPr>
          <a:xfrm>
            <a:off x="2556000" y="3637080"/>
            <a:ext cx="4279680" cy="3060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360440" y="179280"/>
            <a:ext cx="522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каз от сочин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 возврат к н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4824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тапы разработ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тодического обеспечения итогового сочине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из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2130480"/>
            <a:ext cx="8575920" cy="4510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рабочей группы Рособрнадз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проектов критериев оцени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пертиза (содержательная и тестологическ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робация критериев в ряде субъек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 про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ение замечаний на совещании при руководителе Рособрнадзора С.С. Кравцове с участием представителей Минобрнауки России, ФГБНУ «ФИПИ», ФГБУ «ФЦТ», министров субъектов РФ, специалистов ведущих вузов, членов Совета, разработчиков критери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суждение 9.10.2014 критериев на совещании субъектов РФ по вопросам проведения итогового сочинения (изложения) и ГИА для лиц с ОВЗ (122 специалиста из 62 субъектов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ование с Советом и утверждение Рособрнадз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Методических рекомендаций по проведению итогового сочинения (изложения) для выпускников  организаций, реализующих образовательные программы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cdn.vluki.ru/_fit/350x233/files/2013Nov27/bc6e06165d7264667de1899ff96bcaeb_L_67bf.jpg"/>
          <p:cNvPicPr/>
          <p:nvPr/>
        </p:nvPicPr>
        <p:blipFill>
          <a:blip r:embed="rId1"/>
          <a:stretch/>
        </p:blipFill>
        <p:spPr>
          <a:xfrm>
            <a:off x="6084720" y="189000"/>
            <a:ext cx="2886120" cy="28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уктура методических рекомендац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2592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оведению итогового соч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оведению итогов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4120" y="4653000"/>
            <a:ext cx="8526600" cy="20034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 целях и задачах проведения итогового сочинения (излож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 особенностях проведения итогового сочинения (излож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 подходах к оцениванию итогового сочинения (излож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 разрешенных к использованию материалах при проведении итогового сочинения (излож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33280" y="3198960"/>
            <a:ext cx="8723520" cy="3456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формулировок тем итогового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итогового сочин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ивания итогового сочинения организациями, реализующими образовательные программы среднего общего 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уемые критерии оценивания итогового сочинения организациями, реализующими образовательные программы высш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 по подготовке к итоговому сочинению. Анализ итоговых соч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250920" y="20178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Методические рекомендации по проведению итогового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уктура методических рекомендац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4640" y="1403280"/>
            <a:ext cx="828072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Методические рекомендации по проведению итогового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53760" cy="3095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и обучающихся, имеющих право писать итоговое из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 проведения итогового из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текстов для итогового и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итогового из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ивания итогового изложения организациями, реализующими образовательные программы среднего общего 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 по подготовке к итоговому изложению. Анализ итоговых из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353960" y="184320"/>
            <a:ext cx="73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уктура методических рекомендац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6360" y="5249880"/>
            <a:ext cx="9107640" cy="1512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ложения. Рекомендации по квалификации ошиб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, связанные с содержанием и логикой работы выпуск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, связанные с нарушением  речевых, грамматических,  орфографических, пунктуационных,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7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Рекомендации по подготовке к итоговому сочи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513160" y="1628640"/>
            <a:ext cx="6389640" cy="7038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оздавать связный текст на заданную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20760" y="2871720"/>
            <a:ext cx="3819600" cy="34480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готовых текстов с разных точек з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задача текста (вычленение главной информации, определение темы и микротем текст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логический и композиционный замыс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 лексики, сочетаемость сл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торические прием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519440" y="2871720"/>
            <a:ext cx="4383360" cy="40579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 письменных заданий на основе фрагмента художественного произведе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формулировки темы, определение своей задачи по ее раскры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ленение в теме опорных слов, анализ смысла каждого из них, их взаимо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для тренировки вопросительных формулировок тем (на ранних этап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9"/>
          <p:cNvCxnSpPr>
            <a:stCxn id="189" idx="2"/>
          </p:cNvCxnSpPr>
          <p:nvPr/>
        </p:nvCxnSpPr>
        <p:spPr>
          <a:xfrm>
            <a:off x="5672160" y="233676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3" name="Прямая со стрелкой 11"/>
          <p:cNvCxnSpPr>
            <a:stCxn id="189" idx="2"/>
            <a:endCxn id="190" idx="0"/>
          </p:cNvCxnSpPr>
          <p:nvPr/>
        </p:nvCxnSpPr>
        <p:spPr>
          <a:xfrm flipH="1">
            <a:off x="2229840" y="2336760"/>
            <a:ext cx="34772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Прямая со стрелкой 13"/>
          <p:cNvCxnSpPr>
            <a:stCxn id="189" idx="2"/>
            <a:endCxn id="191" idx="0"/>
          </p:cNvCxnSpPr>
          <p:nvPr/>
        </p:nvCxnSpPr>
        <p:spPr>
          <a:xfrm>
            <a:off x="5706720" y="2336760"/>
            <a:ext cx="10036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95" name="Picture 2" descr="Картинка 87 из 242837"/>
          <p:cNvPicPr/>
          <p:nvPr/>
        </p:nvPicPr>
        <p:blipFill>
          <a:blip r:embed="rId1"/>
          <a:stretch/>
        </p:blipFill>
        <p:spPr>
          <a:xfrm>
            <a:off x="320760" y="1496880"/>
            <a:ext cx="1890720" cy="1338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1763640" y="115920"/>
            <a:ext cx="68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Методика обучения написанию сочи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395280" y="1773360"/>
            <a:ext cx="8569440" cy="4856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тслеживания динамики формирования навыка написания сочинения в течение года проводится не менее  трех контрольных сочи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удачно выполненная работа должна быть переписана с целью совершенствования написа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дение аудиторного или домашнего сочинения предваряется отработкой аналогичного материала в классе под руководством уч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чинения (в обобщенном варианте) анализируются в классе с опорой на критерии оценивания; читаются наиболее удачные сочинения или их фрагменты; обсуждаются направления доработки анализируемых сочинений (упущенные повороты мыслей, другой подбор доказательств и иллюстраций к ним для того или иного тезиса, варианты вступления и заключения, поиск вариативных способов перехода от одной мысли к другой, альтернативный литературный контекст сочинения и др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одится индивидуальное собеседование по конкретным замечаниям к  сочинению учащего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урок включаются отдельные практические задания, связанные с формированием как конкретного навыка, так и комплекса умений, необходимых для написания сочи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468360" y="2238480"/>
            <a:ext cx="8351640" cy="37155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формулировок тем сочинения, способы сужения тем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мысление возможной проблематики сочинения, тренировка в постановке проблемы к сочинению и разработка системы вопросов к те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бор материала, необходимого и достаточного для раскрытия темы сочинения; включение в сочинение литературного материала, рассмотрение проблемы с опорой на выбранный матери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улировка тезисов сочинения, умение строить доказательные рассуждения (тезис – доказательства – иллюстраци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мывание композиции сочинения, работа над вступительной и заключительной частью сочинения, способы аргументации, логические связи между частями сочинения, логика фр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чевое оформление тек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ые формы работы с чернов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1116000" y="11592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Актуальные аспекты методической рабо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и подготовке к сочи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C:\Documents and Settings\Лариса\Рабочий стол\Литература. ЕГЭ. ФИПИ\Конференция критерии\Новая папка\884049.jpg"/>
          <p:cNvPicPr/>
          <p:nvPr/>
        </p:nvPicPr>
        <p:blipFill>
          <a:blip r:embed="rId1"/>
          <a:stretch/>
        </p:blipFill>
        <p:spPr>
          <a:xfrm>
            <a:off x="5850000" y="5300640"/>
            <a:ext cx="3024000" cy="1370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66960" y="1341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0"/>
          <p:cNvSpPr/>
          <p:nvPr/>
        </p:nvSpPr>
        <p:spPr>
          <a:xfrm>
            <a:off x="2556000" y="2536920"/>
            <a:ext cx="410364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яева Наталья Васи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тор педагог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научный сотрудник ФГНУ «Институт содержания и методов обучения», член федеральной предметной комиссии по разработке КИМ ЕГЭ по литературе и рабочей группы по разработке тематики и критериев оценивания итогового соч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belyaeva@yandex.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O-074-0305"/>
          <p:cNvPicPr/>
          <p:nvPr/>
        </p:nvPicPr>
        <p:blipFill>
          <a:blip r:embed="rId1"/>
          <a:stretch/>
        </p:blipFill>
        <p:spPr>
          <a:xfrm>
            <a:off x="380880" y="2270160"/>
            <a:ext cx="2016360" cy="2863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AX059575"/>
          <p:cNvPicPr/>
          <p:nvPr/>
        </p:nvPicPr>
        <p:blipFill>
          <a:blip r:embed="rId2"/>
          <a:stretch/>
        </p:blipFill>
        <p:spPr>
          <a:xfrm>
            <a:off x="6853320" y="3500280"/>
            <a:ext cx="2090520" cy="31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56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ведение итогового сочинения (изложения) в 2014-2015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vsiknygy.net.ua/wp-content/uploads/2012/01/putin_kniga.jpg"/>
          <p:cNvPicPr/>
          <p:nvPr/>
        </p:nvPicPr>
        <p:blipFill>
          <a:blip r:embed="rId1"/>
          <a:srcRect l="6972" t="0" r="18923" b="0"/>
          <a:stretch/>
        </p:blipFill>
        <p:spPr>
          <a:xfrm>
            <a:off x="179280" y="1450800"/>
            <a:ext cx="2032200" cy="18496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2259000" y="1211400"/>
            <a:ext cx="66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учение Президента РФ по итогам заседания Совета при Президенте Российской Федерации по культуре и искусству от 17.11.2013 г. №2699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259000" y="2070000"/>
            <a:ext cx="6626160" cy="8240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7 ноября 2013 г.  Предложе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ра образования и науки   Д. Ливанова придать сочинению статус  «новой формы промежуточной аттестации, которая станет допуском к ЕГЭ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9"/>
          <p:cNvCxnSpPr/>
          <p:nvPr/>
        </p:nvCxnSpPr>
        <p:spPr>
          <a:xfrm flipH="1">
            <a:off x="2211120" y="4708080"/>
            <a:ext cx="4824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5" name="Прямая со стрелкой 13"/>
          <p:cNvCxnSpPr/>
          <p:nvPr/>
        </p:nvCxnSpPr>
        <p:spPr>
          <a:xfrm flipH="1">
            <a:off x="2109600" y="4881240"/>
            <a:ext cx="1638720" cy="2358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6" name="Прямая со стрелкой 15"/>
          <p:cNvCxnSpPr/>
          <p:nvPr/>
        </p:nvCxnSpPr>
        <p:spPr>
          <a:xfrm flipH="1">
            <a:off x="2109600" y="4881240"/>
            <a:ext cx="1638720" cy="2358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7" name="Прямая со стрелкой 17"/>
          <p:cNvCxnSpPr/>
          <p:nvPr/>
        </p:nvCxnSpPr>
        <p:spPr>
          <a:xfrm flipH="1">
            <a:off x="2109600" y="4881240"/>
            <a:ext cx="1638720" cy="2358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8" name="Прямая со стрелкой 22"/>
          <p:cNvCxnSpPr/>
          <p:nvPr/>
        </p:nvCxnSpPr>
        <p:spPr>
          <a:xfrm flipH="1">
            <a:off x="437760" y="4881600"/>
            <a:ext cx="3310560" cy="358920"/>
          </a:xfrm>
          <a:prstGeom prst="straightConnector1">
            <a:avLst/>
          </a:prstGeom>
          <a:ln w="0">
            <a:noFill/>
          </a:ln>
        </p:spPr>
      </p:cxnSp>
      <p:sp>
        <p:nvSpPr>
          <p:cNvPr id="109" name="TextBox 8205"/>
          <p:cNvSpPr/>
          <p:nvPr/>
        </p:nvSpPr>
        <p:spPr>
          <a:xfrm>
            <a:off x="179280" y="3686040"/>
            <a:ext cx="8705880" cy="2864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«О внесении изменений в Порядок проведения государственной итоговой аттестации по образовательным программам среднего общего образования» №923 от 05.08.2014 г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ое письмо Минобрнауки России «Об итоговом сочинении (изложении)» от 26.08.2014 г. №НТ-904/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сьмо Рособрнадзора № 02-651 от 01.10.2014 "О документах по организации и проведению итогового сочинения (изложения)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ый и технический регламенты проведения итогового сочинения (изло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тивные материалы по подготовке и проведению итогового сочинения (изложения) в образовательных орган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оведению итогового сочинения (изложения) для выпускников организаций, реализующих образовательные программы среднего общего образован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товятся к печати в издательстве «Просвещен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2824560" y="290052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тивные доку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-12600" y="3286080"/>
            <a:ext cx="91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pi.ru/about/news/utverzhdeny-kriterii-ocenivaniya-itogovogo-sochineniy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70000" y="2292480"/>
            <a:ext cx="4941720" cy="22885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широты кругозора, умения мыслить и доказывать свою позицию с опорой на самостоятельно выбранные произведения отечественной и мировой литературы, владение ре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амосознания учащегося, развитие его речевой и читатель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6914160" y="1798560"/>
            <a:ext cx="1040400" cy="398880"/>
          </a:xfrm>
          <a:prstGeom prst="rect">
            <a:avLst/>
          </a:prstGeom>
          <a:solidFill>
            <a:srgbClr val="9ed3d7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97000" y="189000"/>
            <a:ext cx="756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Цели и задачи проведения  итогового сочинения (изложения) в 2014-2015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2131560" y="1798560"/>
            <a:ext cx="801000" cy="398880"/>
          </a:xfrm>
          <a:prstGeom prst="rect">
            <a:avLst/>
          </a:prstGeom>
          <a:solidFill>
            <a:srgbClr val="9ed3d7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5580000" y="2279520"/>
            <a:ext cx="3313080" cy="22885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(изложение) – допуск  к ГИА (оценка школой: «зачет-незачет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– форма индивидуальных достижений абитуриентов (оценка вуза: до 10 баллов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0000" y="6046920"/>
            <a:ext cx="8731080" cy="6001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оговое изложение (вместо сочинения) пишут только выпускники с ограниченными возможностями здоровья (ОВЗ)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4"/>
          <p:cNvSpPr/>
          <p:nvPr/>
        </p:nvSpPr>
        <p:spPr>
          <a:xfrm>
            <a:off x="255600" y="5211720"/>
            <a:ext cx="8745480" cy="7038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желанию итоговое сочинение могут писать выпускники прошлых лет с целью представления его результатов в в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2"/>
          <p:cNvSpPr/>
          <p:nvPr/>
        </p:nvSpPr>
        <p:spPr>
          <a:xfrm>
            <a:off x="1880280" y="472140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ipi.ru/ege-i-gve-11/itogovoe-sochineni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Этапы проведения итогового сочинения (излож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0" y="1625400"/>
            <a:ext cx="4392720" cy="409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троль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итогового сочинения (изложения) в образовательных организациях (первая среда декабря 2014 г., февраля и мая 2015 г.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ирование сочинений (до проверки) для единой базы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 сочинений (изложений) школьными комиссиями по федеральным критер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т результатов сочинений в вузах (по желанию абитуриента и решению вуза). Проверка комиссиями вузов  по вузовским критер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79280" y="1625760"/>
            <a:ext cx="4122720" cy="385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 открытых общих  направлений тематики сочинений (Советом по вопросам проведения итогового сочин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 сочинению (изложению) на основе методических и инструктив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закрытых комплектов тем сочинений и текстов  изложений по часовым поясам (станут известны в день проведения итогового сочинения и излож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52280" y="5737320"/>
            <a:ext cx="8785440" cy="9475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налитико-корректировочный эта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 информации о результатах проведения сочинения (изложения) для дальнейшей корректировки процедуры и метод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4800" y="147600"/>
            <a:ext cx="740592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крыты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ематически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ля итогового соч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597708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даром помнит вся Россия…»  (200-летний юбилей М.Ю. Лермонт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, заданные человечеству вой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и природа в отечественной и мировой лит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 поколений: вместе и вро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люди жи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www.uralinform.ru/media/photo/big/sochinenie.jpg"/>
          <p:cNvPicPr/>
          <p:nvPr/>
        </p:nvPicPr>
        <p:blipFill>
          <a:blip r:embed="rId1"/>
          <a:stretch/>
        </p:blipFill>
        <p:spPr>
          <a:xfrm>
            <a:off x="6156360" y="2120760"/>
            <a:ext cx="2725560" cy="1878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179280" y="4917960"/>
            <a:ext cx="8718480" cy="5806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заменационный комплект будет включать 5 тем сочинений из закрытого перечня (по одной теме от каждого общего тематического направ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79280" y="5589720"/>
            <a:ext cx="8718480" cy="10674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ора на художественное произведение при написании сочинения подразумевает не просто ссылку на тот или иной художественный текст, но и обращение к нему на уровне аргументации, использования примеров, связанных с тематикой и проблематикой произведения, системой персонажей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79280" y="4133880"/>
            <a:ext cx="87184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атические направления разработаны Советом по вопросам проведения итогового сочинения в выпускных классах под председательством Н.Д. Солженицыной, президента Русского общественного фонда Александра Солженицы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328680" y="1403280"/>
            <a:ext cx="8569080" cy="199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ставлении тем сочинений не используются узко заданные формулировки и осуществляется опора на следующие принципы: посильность, ясность и точность постановки пробл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ы позволят выпускнику самостоятельно выбирать литературный материал, на который он будет опираться в своих рассужд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собенности формулировок тем итогового соч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www.severinform.ru/media/img/13/928/200x200_01480_rychka.jpg"/>
          <p:cNvPicPr/>
          <p:nvPr/>
        </p:nvPicPr>
        <p:blipFill>
          <a:blip r:embed="rId1"/>
          <a:stretch/>
        </p:blipFill>
        <p:spPr>
          <a:xfrm>
            <a:off x="5364000" y="4694400"/>
            <a:ext cx="3533760" cy="1935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328680" y="4691160"/>
            <a:ext cx="481968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какие жизненные вопросы может помочь тебе ответить литература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ему люди пишут стих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чта уводит от жизни или ведет по жизненному пу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28680" y="3627360"/>
            <a:ext cx="8569080" cy="10087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ные формулировки 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емы сочинений не соответствуют открытым тематическим направлениям 2014-2015 учебно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55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собенности форм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6120" y="2437920"/>
            <a:ext cx="5059440" cy="18702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лож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яет умение передать содержание исходного текста с сохранением некоторых особенностей его стиля (в текстах для изложения преобладает повествование; описание и рассуждение не играют определяющей роли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решается пользоваться орфографическим и толковым словар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250920" y="4311720"/>
            <a:ext cx="8594640" cy="22885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написания работы – 3 часа 55 минут (для детей с ОВЗ время может быть увеличено на 1,5 час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сочинения – первая среда декабря 2014 года; сочинение будут писать в своих школах по темам (текстам), сформированным Рособрнадзором по часовым поя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повторного сочинения -- первая среда февраля и мая 2015 года, если по уважительной причине выпускник не смог написать сочинение в основной срок  или получил «незаче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00160" y="1542960"/>
            <a:ext cx="8645400" cy="7038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B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и изложение носят надпредметный характер и нацелены на проверку уровня речевой культуры выпуск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0920" y="2492280"/>
            <a:ext cx="3384360" cy="1797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чин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яет умения рассуждать по избранной теме с опорой на литературный материал (не менее одного произведения). 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зрешается пользоваться орфографическим словар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img.gazeta.ru/files3/809/5794809/TASS_160488-pic148-148x98-69903.jpg"/>
          <p:cNvPicPr/>
          <p:nvPr/>
        </p:nvPicPr>
        <p:blipFill>
          <a:blip r:embed="rId1"/>
          <a:stretch/>
        </p:blipFill>
        <p:spPr>
          <a:xfrm>
            <a:off x="6705720" y="17640"/>
            <a:ext cx="2139840" cy="1525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250920" y="1773360"/>
            <a:ext cx="871380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и приносят с собой черные гелевые ручки (для четкости изображения при сканировании). Им выдаются бланки регистрации и два бланка для выполнения итогового сочинения (изложения), а также листы (А4) бумаги для чернов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ный материал (художественные произведения, дневники, мемуары, публицистика) на сочинении не вы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зрешается пользоваться любыми вспомогательными материалами (учебниками, пособиями, методическими разработками и т.п.), использовать мобильный телефон и другие средства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 разрешенных к использованию материалах при проведении итогового сочинения (излож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68200" y="471492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хим, слабослышащим выпускникам, а также выпускникам с тяжелыми нарушениями речи на 40 минут выдается текст для изложения (в нем разрешается делать пометы). По истечении этого времени исходный текст сдается, и в оставшееся время выпускники пишут из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Картинка 25 из 1605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6200" y="4511520"/>
            <a:ext cx="2738520" cy="2073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Наталья Беляева</cp:lastModifiedBy>
  <cp:lastPrinted>2014-09-25T10:46:37Z</cp:lastPrinted>
  <dcterms:modified xsi:type="dcterms:W3CDTF">2014-10-19T17:50:23Z</dcterms:modified>
  <cp:revision>537</cp:revision>
  <dc:subject/>
  <dc:title>Презентация PowerPoint</dc:title>
</cp:coreProperties>
</file>