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16.png" ContentType="image/png"/>
  <Override PartName="/ppt/media/image15.jpeg" ContentType="image/jpeg"/>
  <Override PartName="/ppt/media/push.wav" ContentType="audio/x-wav"/>
  <Override PartName="/ppt/media/image14.png" ContentType="image/png"/>
  <Override PartName="/ppt/media/image13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12E-0D6C-4972-B530-C0FB3D59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045-AAB3-436C-BC81-8667AFF2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262-0D88-4A70-9B97-CC824255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D4B-7A39-4534-BBBA-1CFCB295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53BA3-883F-4D08-9343-A2F933E2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8DA22-1FBF-42E5-B9FA-6241AAEC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32FED-607E-4D87-82A4-0F2D4DF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14A15-B25A-4FBB-BB90-518DB063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DBDFC-C877-4133-AA18-EED96AE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4942A-C41A-471A-9498-94DC5A68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499A6-F091-427F-A310-F1D7190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F59-6C73-41D4-AF73-E14A40C3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E7199-2177-4A1E-ABA5-E9FCBD30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3FB38-BB72-4966-93AE-9F8DB3E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15B44-B94A-4572-86EF-5330795C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96A35-3386-49B9-B9D3-D4A50F96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DA900-B72B-4225-AB77-9F64F062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8B22-5557-49D4-8F95-86B31CD6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A230-688C-4965-AD80-61CC7066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39A6-4C98-44C7-958D-D4E5F13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1FCB-26D2-4B7C-8277-CD53DADB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9045-501D-4124-BF9A-EB3A09FB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869-2973-4A94-A66D-C925C312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AAB5-9187-40C5-841B-25276F33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B980-6559-4E38-829C-0436FDAB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3284-4AF3-4464-99A1-A28CE96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C177-E464-4C16-804E-ABAF6B69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6581-793A-465A-8356-32808D1C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55E0-2A6E-4397-923B-7EA4EEDB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2D3B-C953-46CC-9D93-2BF2BCC4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7D044-AED8-4C8A-B536-845D4EA2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4B92D-EEA8-4DCB-B09E-C5A8042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881AF-7E8A-41EB-AD1A-225F2C11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876-A2C9-4ACD-8749-5003C6E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28323-333D-4469-A683-8F14477B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34B1A-719A-4EC7-8B7A-6801FB6B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7CADDF-898A-4CE2-86EE-A0337571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F31BA-33AA-4D48-B404-1863326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8B4B9-0ED2-427E-8778-26FC5DD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EDDA6-D8F3-45E5-A6F2-00C76FC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54742-2FC9-44EA-99B7-7F33E472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26F80-96EB-4448-B7AE-86F17C3E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52EAB-0156-4A3C-AB8E-0E568228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D70-EFF5-4B81-A558-93CADF9C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C65-F74C-4720-898D-4B717167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F07-DC63-429A-ACA4-5F182958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D94-3E24-4E97-97C9-8CD7F832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D72-ECBB-4C40-95B7-FDEAE06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1F79-C84D-44AE-8F30-384A003784B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94D6-C496-46D8-A49D-1B0466D8B7F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945-35CF-4BA7-981F-03F780F9D0B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D4B8-D352-45EB-A45D-9532A989681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57200" y="150012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efac9"/>
                </a:solidFill>
                <a:latin typeface="Constantia"/>
              </a:rPr>
              <a:t>Моя бабушка Соловьева Татьяна Васильевна родилась в 1925 году 26 января в поселке Красная Стрела, Краснодарского кр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523800" y="219240"/>
            <a:ext cx="10240920" cy="1512720"/>
          </a:xfrm>
          <a:prstGeom prst="rect">
            <a:avLst/>
          </a:prstGeom>
          <a:ln w="0">
            <a:noFill/>
          </a:ln>
        </p:spPr>
      </p:pic>
      <p:sp>
        <p:nvSpPr>
          <p:cNvPr id="172" name="5-конечная звезда 3"/>
          <p:cNvSpPr/>
          <p:nvPr/>
        </p:nvSpPr>
        <p:spPr>
          <a:xfrm>
            <a:off x="142920" y="142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5-конечная звезда 4"/>
          <p:cNvSpPr/>
          <p:nvPr/>
        </p:nvSpPr>
        <p:spPr>
          <a:xfrm>
            <a:off x="8072280" y="142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5-конечная звезда 5"/>
          <p:cNvSpPr/>
          <p:nvPr/>
        </p:nvSpPr>
        <p:spPr>
          <a:xfrm>
            <a:off x="8072280" y="585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5-конечная звезда 6"/>
          <p:cNvSpPr/>
          <p:nvPr/>
        </p:nvSpPr>
        <p:spPr>
          <a:xfrm>
            <a:off x="214200" y="5786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Рисунок 7" descr="image (1).jpg"/>
          <p:cNvPicPr/>
          <p:nvPr/>
        </p:nvPicPr>
        <p:blipFill>
          <a:blip r:embed="rId2"/>
          <a:srcRect l="0" t="0" r="35595" b="-2319"/>
          <a:stretch/>
        </p:blipFill>
        <p:spPr>
          <a:xfrm>
            <a:off x="2928960" y="3071880"/>
            <a:ext cx="314316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6429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3a447"/>
                </a:solidFill>
                <a:latin typeface="Constantia"/>
              </a:rPr>
              <a:t>. Когда началась война в 1941 году, ей было 16 лет. В 1942 году 15 августа, посёлок Стрелка (Красная Стрела) Краснодарского края был оккупирован немцами. 13 месяцев немцы разоряли мирный посёлок, разрушали, грабили, минировали поля. Детей старше 12 лет отправляли  в Германию на работу. За это время было расстреляно 267 мирных жителей посёл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9" name="Рисунок 9" descr="------------------1943-..jpg"/>
          <p:cNvPicPr/>
          <p:nvPr/>
        </p:nvPicPr>
        <p:blipFill>
          <a:blip r:embed="rId1"/>
          <a:stretch/>
        </p:blipFill>
        <p:spPr>
          <a:xfrm>
            <a:off x="785880" y="3786120"/>
            <a:ext cx="34542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0" descr="0_79a52_10fc9e8a_XL.jpg"/>
          <p:cNvPicPr/>
          <p:nvPr/>
        </p:nvPicPr>
        <p:blipFill>
          <a:blip r:embed="rId2"/>
          <a:stretch/>
        </p:blipFill>
        <p:spPr>
          <a:xfrm>
            <a:off x="4678200" y="3786120"/>
            <a:ext cx="3465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00040" y="1142640"/>
            <a:ext cx="83296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fac9"/>
                </a:solidFill>
                <a:latin typeface="Constantia"/>
              </a:rPr>
              <a:t>Моя прабабушка участвовала в подпольной комсомольской организации. Участники доставали информацию о численности противника и место расположение немецких солдат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3" name="Рисунок 3" descr="cbd1e811b708.jpg"/>
          <p:cNvPicPr/>
          <p:nvPr/>
        </p:nvPicPr>
        <p:blipFill>
          <a:blip r:embed="rId1"/>
          <a:stretch/>
        </p:blipFill>
        <p:spPr>
          <a:xfrm>
            <a:off x="1857240" y="3000240"/>
            <a:ext cx="54295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00040" y="1356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1943году 2 октября п. Стрелка был освобожден от немецких оккупантов.                                                                                                  Моя прабабушка Соловьева Татьяна Васильевна умерла в 2013 году 16 сентябр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grpSp>
        <p:nvGrpSpPr>
          <p:cNvPr id="186" name="5-конечная звезда 5"/>
          <p:cNvGrpSpPr/>
          <p:nvPr/>
        </p:nvGrpSpPr>
        <p:grpSpPr>
          <a:xfrm>
            <a:off x="7596360" y="158760"/>
            <a:ext cx="1292040" cy="1298520"/>
            <a:chOff x="7596360" y="158760"/>
            <a:chExt cx="1292040" cy="1298520"/>
          </a:xfrm>
        </p:grpSpPr>
        <p:pic>
          <p:nvPicPr>
            <p:cNvPr id="187" name="5-конечная звезда 5" descr=""/>
            <p:cNvPicPr/>
            <p:nvPr/>
          </p:nvPicPr>
          <p:blipFill>
            <a:blip r:embed="rId2"/>
            <a:stretch/>
          </p:blipFill>
          <p:spPr>
            <a:xfrm>
              <a:off x="7596360" y="158760"/>
              <a:ext cx="12920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069400" y="706320"/>
              <a:ext cx="3492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ерчичев Николай Ефимович                                                             Родился: 1924  году 17 декабря в Днепропетровской области.                                                                                   Прошёл войну с 1941 по 1945 года. От Москвы до самого Берлина. Был направлен  в воинское подразделение  Ясно-Кишинёвского  направления.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1" name="Рисунок 3" descr="RIAN_archive_543_A_battalion_commander.jpg"/>
          <p:cNvPicPr/>
          <p:nvPr/>
        </p:nvPicPr>
        <p:blipFill>
          <a:blip r:embed="rId1"/>
          <a:stretch/>
        </p:blipFill>
        <p:spPr>
          <a:xfrm>
            <a:off x="3214800" y="4071960"/>
            <a:ext cx="314316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34.jpg"/>
          <p:cNvPicPr/>
          <p:nvPr/>
        </p:nvPicPr>
        <p:blipFill>
          <a:blip r:embed="rId1"/>
          <a:stretch/>
        </p:blipFill>
        <p:spPr>
          <a:xfrm>
            <a:off x="357120" y="1428840"/>
            <a:ext cx="4071960" cy="2851200"/>
          </a:xfrm>
          <a:prstGeom prst="rect">
            <a:avLst/>
          </a:prstGeom>
          <a:ln w="0">
            <a:noFill/>
          </a:ln>
        </p:spPr>
      </p:pic>
      <p:pic>
        <p:nvPicPr>
          <p:cNvPr id="193" name="Заголовок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0_79a52_10fc9e8a_XL.jpg"/>
          <p:cNvPicPr/>
          <p:nvPr/>
        </p:nvPicPr>
        <p:blipFill>
          <a:blip r:embed="rId3"/>
          <a:stretch/>
        </p:blipFill>
        <p:spPr>
          <a:xfrm>
            <a:off x="4500720" y="3571920"/>
            <a:ext cx="41432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3" descr="0322184834.jpg"/>
          <p:cNvPicPr/>
          <p:nvPr/>
        </p:nvPicPr>
        <p:blipFill>
          <a:blip r:embed="rId1"/>
          <a:stretch/>
        </p:blipFill>
        <p:spPr>
          <a:xfrm>
            <a:off x="428760" y="1500120"/>
            <a:ext cx="4333680" cy="286704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2" descr=""/>
          <p:cNvPicPr/>
          <p:nvPr/>
        </p:nvPicPr>
        <p:blipFill>
          <a:blip r:embed="rId2"/>
          <a:stretch/>
        </p:blipFill>
        <p:spPr>
          <a:xfrm>
            <a:off x="195120" y="139680"/>
            <a:ext cx="8461440" cy="15066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es2233480.jpg"/>
          <p:cNvPicPr/>
          <p:nvPr/>
        </p:nvPicPr>
        <p:blipFill>
          <a:blip r:embed="rId3"/>
          <a:stretch/>
        </p:blipFill>
        <p:spPr>
          <a:xfrm>
            <a:off x="4286160" y="3429000"/>
            <a:ext cx="4429080" cy="2867040"/>
          </a:xfrm>
          <a:prstGeom prst="rect">
            <a:avLst/>
          </a:prstGeom>
          <a:ln w="0">
            <a:noFill/>
          </a:ln>
        </p:spPr>
      </p:pic>
      <p:sp>
        <p:nvSpPr>
          <p:cNvPr id="198" name="5-конечная звезда 5"/>
          <p:cNvSpPr/>
          <p:nvPr/>
        </p:nvSpPr>
        <p:spPr>
          <a:xfrm>
            <a:off x="6215040" y="785880"/>
            <a:ext cx="2071800" cy="1643040"/>
          </a:xfrm>
          <a:custGeom>
            <a:avLst/>
            <a:gdLst/>
            <a:ahLst/>
            <a:rect l="l" t="t" r="r" b="b"/>
            <a:pathLst>
              <a:path w="2071687" h="1643062">
                <a:moveTo>
                  <a:pt x="2" y="627592"/>
                </a:moveTo>
                <a:lnTo>
                  <a:pt x="791318" y="627597"/>
                </a:lnTo>
                <a:lnTo>
                  <a:pt x="1035844" y="0"/>
                </a:lnTo>
                <a:lnTo>
                  <a:pt x="1280369" y="627597"/>
                </a:lnTo>
                <a:lnTo>
                  <a:pt x="2071685" y="627592"/>
                </a:lnTo>
                <a:lnTo>
                  <a:pt x="1431493" y="1015464"/>
                </a:lnTo>
                <a:lnTo>
                  <a:pt x="1676029" y="1643058"/>
                </a:lnTo>
                <a:lnTo>
                  <a:pt x="1035844" y="1255179"/>
                </a:lnTo>
                <a:lnTo>
                  <a:pt x="395658" y="1643058"/>
                </a:lnTo>
                <a:lnTo>
                  <a:pt x="640194" y="1015464"/>
                </a:lnTo>
                <a:lnTo>
                  <a:pt x="2" y="62759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onstantia"/>
              </a:rPr>
              <a:t>В 1945 году где то в апреле месяце был ранен осколком противопехотной мины. В дальнейшем проходил лечение в городе Севастополь.                                   Умер  прадедушка  Верчичев Николай Ефимович                 7 января 1998 год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2286000" y="28288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учащаяся 7-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а МОУ «Школа №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Алуш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рифуллина Валер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6:47:09Z</dcterms:created>
  <dc:creator>IRONMANN (AKA SHAMAN)</dc:creator>
  <dc:description/>
  <dc:language>en-US</dc:language>
  <cp:lastModifiedBy>Каб37</cp:lastModifiedBy>
  <dcterms:modified xsi:type="dcterms:W3CDTF">2015-03-04T19:09:33Z</dcterms:modified>
  <cp:revision>5</cp:revision>
  <dc:subject/>
  <dc:title>Моя семья в годы                                            « Великой Отечественной Войны»</dc:title>
</cp:coreProperties>
</file>