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3CD-DA71-4A5E-A24B-2F2557B5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B1D-4492-46F8-988D-627741D3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4AD-5D1F-4FCC-8214-BF9B5557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A84-52C0-4CAB-9DE8-1C6997B6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0F5-615A-470B-B537-6C16D016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133-5BA5-4937-A116-2AABABD4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9C4-C8AC-40B1-B6ED-CBDD68D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E5A-EE2C-4DE3-B4FD-6E39F503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35B-08EE-4074-9885-7C3A96A9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499-45CE-4DC1-BEB9-FCA31FC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AA1-BE91-4B6A-A112-D97ABB1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DE5-0B27-4D16-84A3-27B6E6F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8447-ECD3-4F2E-A998-2940F67B2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Пузыр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Lucida Console"/>
              </a:rPr>
              <a:t>Мыло и его воздействие на кожу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63640" y="2565000"/>
            <a:ext cx="3560760" cy="187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ра чудес прошла, и 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ыскивать приход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ему, что соверш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св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Пузыр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зучение состава мыла, его моющих свойств; рН мыла и его влияния на кожу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J0240719"/>
          <p:cNvPicPr/>
          <p:nvPr/>
        </p:nvPicPr>
        <p:blipFill>
          <a:blip r:embed="rId2"/>
          <a:stretch/>
        </p:blipFill>
        <p:spPr>
          <a:xfrm>
            <a:off x="3419640" y="3213000"/>
            <a:ext cx="20952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Пузыри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литературные источники о составе мыла и его свойст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чески  ознакомиться с методикой определения рН мы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ить воздействие рН мыла на кожу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узыри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зяйственное мы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ское мыло «Алис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ское мыло «джонсон беби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алетное мыло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алетное мыло «абсолю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м – мыло 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ve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nav_best"/>
          <p:cNvPicPr/>
          <p:nvPr/>
        </p:nvPicPr>
        <p:blipFill>
          <a:blip r:embed="rId2"/>
          <a:stretch/>
        </p:blipFill>
        <p:spPr>
          <a:xfrm>
            <a:off x="539640" y="5396040"/>
            <a:ext cx="1152720" cy="50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av_best"/>
          <p:cNvPicPr/>
          <p:nvPr/>
        </p:nvPicPr>
        <p:blipFill>
          <a:blip r:embed="rId3"/>
          <a:stretch/>
        </p:blipFill>
        <p:spPr>
          <a:xfrm>
            <a:off x="1692360" y="6021360"/>
            <a:ext cx="136836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nav_best"/>
          <p:cNvPicPr/>
          <p:nvPr/>
        </p:nvPicPr>
        <p:blipFill>
          <a:blip r:embed="rId4"/>
          <a:stretch/>
        </p:blipFill>
        <p:spPr>
          <a:xfrm>
            <a:off x="3492360" y="5591160"/>
            <a:ext cx="2016360" cy="88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nav_best"/>
          <p:cNvPicPr/>
          <p:nvPr/>
        </p:nvPicPr>
        <p:blipFill>
          <a:blip r:embed="rId5"/>
          <a:stretch/>
        </p:blipFill>
        <p:spPr>
          <a:xfrm>
            <a:off x="6732720" y="6148440"/>
            <a:ext cx="107928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nav_best"/>
          <p:cNvPicPr/>
          <p:nvPr/>
        </p:nvPicPr>
        <p:blipFill>
          <a:blip r:embed="rId6"/>
          <a:stretch/>
        </p:blipFill>
        <p:spPr>
          <a:xfrm>
            <a:off x="7093080" y="5070600"/>
            <a:ext cx="17269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Пузыри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ыло – 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химический продукт мыло представляет собой относительно сложное соединение жирных кислот со щелочами. По своему строению оно относится к классу с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иходе мылами называют натриевые и калиевые соли жирных кислот, водные растворы которых обладают моющими свойствами. Соли других металлов в воде не растворяются и моющими свойствами не облад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ернутая формула строения натриевых и калиевых мыл показывает, что они состоят из двух неравных частей. Левая часть – длинная – состоит из углеводородных групп, правая же – короткая – содержащая карбоксильную группу ( - СО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K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же приведена  структурная формула строения натриевого мыла стеариновой кисл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3(CH2)16-C =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-3090960" y="3924360"/>
            <a:ext cx="365400" cy="40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nav_best"/>
          <p:cNvPicPr/>
          <p:nvPr/>
        </p:nvPicPr>
        <p:blipFill>
          <a:blip r:embed="rId3"/>
          <a:stretch/>
        </p:blipFill>
        <p:spPr>
          <a:xfrm>
            <a:off x="179280" y="716040"/>
            <a:ext cx="936720" cy="41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nav_best"/>
          <p:cNvPicPr/>
          <p:nvPr/>
        </p:nvPicPr>
        <p:blipFill>
          <a:blip r:embed="rId4"/>
          <a:stretch/>
        </p:blipFill>
        <p:spPr>
          <a:xfrm>
            <a:off x="7956720" y="692280"/>
            <a:ext cx="9363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узыри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ющие свойства мы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звестно, главное свойство всех видов мыла заключается в их способности образовывать водные растворы, которые отмывают различные загрязнения на коже, волосах, разных тканях, на стекле, металле, дереве и других предметах. Эти водные растворы способны отделять загрязнения от поверхности, переводить их в раствор и удерживать в нем, не давая обратно оседать на очищаемую поверхность. Моющее действие мыльных растворов сопровождается довольно сложными физико-химическими процессами, которые обусловлены строением мы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ая характеристика любого моющего средства — щелочность. От нее зависит эффективность действия моющего средства. Чем более щелочную реакцию имеют мыло, тем лучше оно удаляет кожное сало; в то же время все щелочные растворы сушат кожу. Поэтому при разработке моющих средств перед химиками и косметологами стоит очень трудная задача — добиться высокой эффективности очистки и в то же время избежать повреждений кожи, то есть подобрать оптимальный уровень щелочности моющего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Пузыри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дородный показатель р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правильно пользоваться современными моющими средствами, нам необходимо познакомиться с очень важным понятием рН, или водородным показа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же такое рН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Н — это показатель содержания в растворе ионов вод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ение рН - это показатель кислотности, численно равный отрицательному логарифму концентрации прото­нов рН =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g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[Н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Н может изменяться от 1 до 14, рН чистой воды равен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воры с рН &lt; 7 имеют кислую реакцию, а растворы с рН &gt; 7 — щело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ение рН можно определить с помощью прибора — рН-метра или цветной индикаторной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ологи доказали, что роговой слой кожи имеет рН около 5,5 за счет находящихся в нем водорастворимых веществ. Воздействие сильнощелочных моющих средств может изменить нормальное значение рН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Пузыри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700280"/>
          <a:ext cx="8235720" cy="5029200"/>
        </p:xfrm>
        <a:graphic>
          <a:graphicData uri="http://schemas.openxmlformats.org/drawingml/2006/table">
            <a:tbl>
              <a:tblPr/>
              <a:tblGrid>
                <a:gridCol w="2445120"/>
                <a:gridCol w="3525480"/>
                <a:gridCol w="2049480"/>
                <a:gridCol w="21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ыла и производитель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версальный индик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нолфтал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зяйственное мыло (Росси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рко - мали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алетное мыло «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solut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» (Росси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и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алетное мыло «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ve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» (Герм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змен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ское мыло «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nson Beby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» (Гре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ское мыло «Алиса» (Росси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рко - мали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алетное мыло «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» (Польш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едно - 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Пузыри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ы и 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проведенного исследования, самым безопасным для кожи человека являются следующие марки мыла: «крем – мыло 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v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, туалетное мыло 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, детское мыло 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nson beb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, где рН соответсвенно 5,7 и 8.(9 слай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рекомендуем, при покупке мыла обращать внимание на состав, дату изготовления и срок годности, а в составе должны присутствовать такие вещества, как, масло жожоба, касторовое, норковое и парфю­мерное масла, высшие алифатические спирты, косметические кремы,  если необходимых сведений на упаковке нет, то я советую не приобретать данный тов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1:30:17Z</dcterms:created>
  <dc:creator>z</dc:creator>
  <dc:description/>
  <dc:language>en-US</dc:language>
  <cp:lastModifiedBy>варвара лазуткина</cp:lastModifiedBy>
  <dcterms:modified xsi:type="dcterms:W3CDTF">2015-03-04T14:40:48Z</dcterms:modified>
  <cp:revision>13</cp:revision>
  <dc:subject/>
  <dc:title>Мыло и его воздействие на кожу человека</dc:title>
</cp:coreProperties>
</file>