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DBDA-1ECD-4D36-90A9-1528120735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43AB-A66C-4532-A90A-DBF53D11D5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0DB-2C89-4E12-998B-2856A494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E7F-A83E-4847-A6F0-D034887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125-D31C-4817-8AEA-8BE2077F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7BF-C73A-4CAC-98E5-6A6D107C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DCA2-C4EA-4576-B754-EC87C6AC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C0DC-2F64-439B-9BBB-4E634DD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8CF-3AF5-4AC0-A8CD-80D8D25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BC5-BD0B-48A0-B1E8-79F2DE6B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156E-35B0-4969-A22A-2808C2D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3F4A-830C-409D-9E3E-DCEC05C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456-F135-4B19-81B1-3576248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65D-4283-4525-B35C-6F61497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85D-A412-4EBA-B978-E651BC22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DB76-F330-45A9-9A95-76D30E11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E79A-FE8D-490E-B0AB-49863B6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F50-F6C0-4864-8544-66DB378B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F45-7479-4758-8D2B-6D91FBBA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479-E17D-4AEC-9EF2-E089AA56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3DC-4346-40BC-BA37-1B5403C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CD0-2AA5-45D9-BB84-0DDD909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E9A-285C-4CC7-B3BE-8E0B42D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F4-0E33-4CA9-BDB5-5A6CC27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82C-16D1-4414-BA10-2DC2820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99F-351D-4581-AA9D-4C2FE01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D61-5531-4CE0-8373-B0D9EDC03A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573-A9A4-451A-8917-C54A2E64CB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88B-1041-430E-B4BC-3672F8E739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город на окн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292720" y="3962520"/>
            <a:ext cx="3527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2104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476360" y="260280"/>
            <a:ext cx="633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62420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97B-D2B0-4C24-95CF-585A446292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 Black"/>
              </a:rPr>
              <a:t>Наблюдение за опытом длилось две недели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5" descr="SDC16032.JPG"/>
          <p:cNvPicPr/>
          <p:nvPr/>
        </p:nvPicPr>
        <p:blipFill>
          <a:blip r:embed="rId1"/>
          <a:stretch/>
        </p:blipFill>
        <p:spPr>
          <a:xfrm>
            <a:off x="2214720" y="1714680"/>
            <a:ext cx="52862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81A6-ADEF-46D1-9C2F-8369A3F43F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зультаты исследования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981000"/>
          <a:ext cx="8497800" cy="5445360"/>
        </p:xfrm>
        <a:graphic>
          <a:graphicData uri="http://schemas.openxmlformats.org/drawingml/2006/table">
            <a:tbl>
              <a:tblPr/>
              <a:tblGrid>
                <a:gridCol w="576000"/>
                <a:gridCol w="2521080"/>
                <a:gridCol w="2519280"/>
                <a:gridCol w="2881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декабря 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адка луков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дека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декабр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лодородной почве с поливом на св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леные листья длиной 5-6 с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ные зеленые листья длиной 20 с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лодородной почве без полива на св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чего не вырос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лодородной почве с поливом в темно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тые листья длиной 2-3 с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желтые листья длиной 16 с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воде на св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леные побеги длиной 3 см. Слабая корнев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ные зеленые листья длиной 15 с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Содержимое 5" descr="SDC16033.JPG"/>
          <p:cNvPicPr/>
          <p:nvPr/>
        </p:nvPicPr>
        <p:blipFill>
          <a:blip r:embed="rId1"/>
          <a:stretch/>
        </p:blipFill>
        <p:spPr>
          <a:xfrm>
            <a:off x="714240" y="1214280"/>
            <a:ext cx="3821400" cy="444024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6" descr="SDC16034.JPG"/>
          <p:cNvPicPr/>
          <p:nvPr/>
        </p:nvPicPr>
        <p:blipFill>
          <a:blip r:embed="rId2"/>
          <a:stretch/>
        </p:blipFill>
        <p:spPr>
          <a:xfrm>
            <a:off x="5072040" y="1285920"/>
            <a:ext cx="3297240" cy="4533840"/>
          </a:xfrm>
          <a:prstGeom prst="rect">
            <a:avLst/>
          </a:prstGeom>
          <a:ln w="0">
            <a:noFill/>
          </a:ln>
        </p:spPr>
      </p:pic>
      <p:sp>
        <p:nvSpPr>
          <p:cNvPr id="159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DAC-B5D2-4366-81BF-03E65F97DB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D91-8D2D-4078-84D8-26D3984A0D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3851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Вывод: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самый хороший лук – это луковицы </a:t>
            </a:r>
            <a:br>
              <a:rPr sz="2400"/>
            </a:b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№ 1, выращенные в плодородной почве на свету с поливом. В ней сохранены все процессы жизнедеятельности растения: фотосинтез и необходимые питательные вещества из почвы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230D-CD03-4A85-B9D3-8CFC5C7AEA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ук в пищу добавляйте – Здоровье укрепляйт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rcRect l="12649" t="13694" r="13806" b="3417"/>
          <a:stretch/>
        </p:blipFill>
        <p:spPr>
          <a:xfrm>
            <a:off x="2714760" y="1857240"/>
            <a:ext cx="3946320" cy="2419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5286240" y="4572000"/>
            <a:ext cx="2997360" cy="19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1357200" y="4643280"/>
            <a:ext cx="3170520" cy="17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BFB-1337-4FAA-9D43-4DE4F7AEF1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Для нормального роста растений нужна хорошая освещенность, плодородная почва, регулярный полив и нормальный температурный режим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1763-E26F-400B-80F6-EC15FAB5F6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35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дит дед во сто шуб одет,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то его раздевает,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т слёзы проливае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6160" y="4149720"/>
            <a:ext cx="800748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3" descr="C:\Documents and Settings\Admin.REANIMAT-D7DAC5\Рабочий стол\Лук\IMG_3873.jpg"/>
          <p:cNvPicPr/>
          <p:nvPr/>
        </p:nvPicPr>
        <p:blipFill>
          <a:blip r:embed="rId1"/>
          <a:stretch/>
        </p:blipFill>
        <p:spPr>
          <a:xfrm>
            <a:off x="2143080" y="3071880"/>
            <a:ext cx="52372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05FE-0D5A-484E-8270-BF77EF2F55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39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Цель исследования: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выяснить влияние различных условий на рост и развитие лук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Выяснить, что влияет на успешный рост и развитие луков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Провести наблюдения за ростом и развитием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Описать свои наблюдения, сделать 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Предмет информационного поиска:</a:t>
            </a:r>
            <a:r>
              <a:rPr b="0" i="1" lang="ru-RU" sz="2400" spc="-1" strike="noStrike">
                <a:solidFill>
                  <a:srgbClr val="ffffb7"/>
                </a:solidFill>
                <a:latin typeface="Arial Black"/>
              </a:rPr>
              <a:t> лук, условия его роста и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4B9D-875C-46B3-838F-68EC536B9D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468360" y="333360"/>
            <a:ext cx="849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1 шаг: выбрать одинаковые луковицы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2 шаг: подготовить посуду для посадки 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(1 стакан с водой, 3 стакана с землей)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3 шаг: замочить лук, просеять землю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4 шаг: посадить луковицы, поставить 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 солнечное или в темное место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468360" y="3429000"/>
            <a:ext cx="7920000" cy="31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5шаг:      в течение двух недель декабря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блюдать за ростом луковиц,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блюдения записывать 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в "Дневник наблюдений"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6 шаг: подвести результаты наблюдений, 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делать выводы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7" descr="SDC15948.JPG"/>
          <p:cNvPicPr/>
          <p:nvPr/>
        </p:nvPicPr>
        <p:blipFill>
          <a:blip r:embed="rId1"/>
          <a:stretch/>
        </p:blipFill>
        <p:spPr>
          <a:xfrm>
            <a:off x="500040" y="1143000"/>
            <a:ext cx="3535560" cy="4022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7AB-DAA0-4358-B548-A7B2186B35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14" descr="SDC15951.JPG"/>
          <p:cNvPicPr/>
          <p:nvPr/>
        </p:nvPicPr>
        <p:blipFill>
          <a:blip r:embed="rId2"/>
          <a:stretch/>
        </p:blipFill>
        <p:spPr>
          <a:xfrm>
            <a:off x="4714920" y="1214280"/>
            <a:ext cx="392904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Содержимое 7" descr="SDC15949.JPG"/>
          <p:cNvPicPr/>
          <p:nvPr/>
        </p:nvPicPr>
        <p:blipFill>
          <a:blip r:embed="rId1"/>
          <a:stretch/>
        </p:blipFill>
        <p:spPr>
          <a:xfrm>
            <a:off x="179280" y="1052640"/>
            <a:ext cx="3888000" cy="4154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Содержимое 8" descr="SDC15957.JPG"/>
          <p:cNvPicPr/>
          <p:nvPr/>
        </p:nvPicPr>
        <p:blipFill>
          <a:blip r:embed="rId2"/>
          <a:stretch/>
        </p:blipFill>
        <p:spPr>
          <a:xfrm>
            <a:off x="4645080" y="1052640"/>
            <a:ext cx="3927600" cy="416232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3AED-6A52-4476-9C9E-DA531653CE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Содержимое 10" descr="SDC15962.JPG"/>
          <p:cNvPicPr/>
          <p:nvPr/>
        </p:nvPicPr>
        <p:blipFill>
          <a:blip r:embed="rId1"/>
          <a:stretch/>
        </p:blipFill>
        <p:spPr>
          <a:xfrm>
            <a:off x="5000760" y="1285920"/>
            <a:ext cx="2928960" cy="3600360"/>
          </a:xfrm>
          <a:prstGeom prst="rect">
            <a:avLst/>
          </a:prstGeom>
          <a:ln w="0">
            <a:noFill/>
          </a:ln>
        </p:spPr>
      </p:pic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A9DC-194B-409C-A713-097E0EF9FB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9" descr="SDC15959.JPG"/>
          <p:cNvPicPr/>
          <p:nvPr/>
        </p:nvPicPr>
        <p:blipFill>
          <a:blip r:embed="rId2"/>
          <a:stretch/>
        </p:blipFill>
        <p:spPr>
          <a:xfrm>
            <a:off x="1000080" y="1285920"/>
            <a:ext cx="31431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7" descr="SDC15963.JPG"/>
          <p:cNvPicPr/>
          <p:nvPr/>
        </p:nvPicPr>
        <p:blipFill>
          <a:blip r:embed="rId1"/>
          <a:stretch/>
        </p:blipFill>
        <p:spPr>
          <a:xfrm>
            <a:off x="642960" y="1428840"/>
            <a:ext cx="3392640" cy="4016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8" descr="SDC15964.JPG"/>
          <p:cNvPicPr/>
          <p:nvPr/>
        </p:nvPicPr>
        <p:blipFill>
          <a:blip r:embed="rId2"/>
          <a:stretch/>
        </p:blipFill>
        <p:spPr>
          <a:xfrm>
            <a:off x="5072040" y="1428840"/>
            <a:ext cx="3214800" cy="396540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12A8-D853-4681-B319-8CE86685DC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18FE-9F60-49B6-A8FF-BB6DA6F857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невник наблюд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"/>
              </a:rPr>
              <a:t>6 декабря 2013 года мы посадила  луков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1 в плодородной почве с поливом на свету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(</a:t>
            </a:r>
            <a:r>
              <a:rPr b="0" i="1" lang="ru-RU" sz="2000" spc="-1" strike="noStrike" u="sng">
                <a:solidFill>
                  <a:srgbClr val="99ff66"/>
                </a:solidFill>
                <a:uFillTx/>
                <a:latin typeface="Arial"/>
              </a:rPr>
              <a:t>цель: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выявить потребность растения в питательных вещества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2 в плодородной почве без полива на свету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99ff66"/>
                </a:solidFill>
                <a:uFillTx/>
                <a:latin typeface="Arial"/>
              </a:rPr>
              <a:t>(цель: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выявить потребность растения в вод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3 в плодородной поч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с поливом в темно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ff66"/>
                </a:solidFill>
                <a:uFillTx/>
                <a:latin typeface="Arial"/>
              </a:rPr>
              <a:t>(цель: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выявить потреб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в освещ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№ 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4 в воде на све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( </a:t>
            </a:r>
            <a:r>
              <a:rPr b="0" i="1" lang="ru-RU" sz="2000" spc="-1" strike="noStrike" u="sng">
                <a:solidFill>
                  <a:srgbClr val="99ff66"/>
                </a:solidFill>
                <a:uFillTx/>
                <a:latin typeface="Arial"/>
              </a:rPr>
              <a:t>цель:</a:t>
            </a: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 выявить потреб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ff66"/>
                </a:solidFill>
                <a:latin typeface="Arial"/>
              </a:rPr>
              <a:t>в питательных вещества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05:03Z</dcterms:created>
  <dc:creator>Loner-XP</dc:creator>
  <dc:description/>
  <dc:language>en-US</dc:language>
  <cp:lastModifiedBy>Admin</cp:lastModifiedBy>
  <dcterms:modified xsi:type="dcterms:W3CDTF">2015-03-03T20:00:12Z</dcterms:modified>
  <cp:revision>11</cp:revision>
  <dc:subject/>
  <dc:title>Выращивание зелёного лука в различных условиях</dc:title>
</cp:coreProperties>
</file>