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7E8-732B-48FC-AAAF-E77812E0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165-6995-4286-BFA5-C7BA6124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25DA-BCEB-4DE4-94E9-64CABDD9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A82-5B05-4C60-8725-F8147C6D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6AFF-CA13-4277-BD1A-960B3B06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F027-9C2F-4D23-8001-3A0D9666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6866-3FC7-40A7-B6AE-FB3C4FE5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492C-670B-496D-90E0-729FAB2A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D9CC-3C31-4E7A-8706-B6EF21C0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9C87-7AF5-420B-ACAF-D0731443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D77A-3A96-4206-AB40-274C7062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1C2-7251-4B4F-A037-4CD40C6C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0EDC-D5E7-4129-8789-5B68B256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F0B0-E9E6-457E-9D07-626050AB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60BB-DDE4-412F-B685-B19F8BA0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641D-644C-4CD0-BF74-D7002702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00F2-200A-43CF-89CA-71D28234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E23F-B6E1-4E02-96BA-CC94740B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F0B-0605-49AF-A511-07843D47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2226-0702-4524-B1EE-F621DDFA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676-75F6-4A34-916C-9EF051B2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35B2-AB10-483A-A87A-8975E172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B2D-2BB4-4076-A031-4A707150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576-5C76-4D78-974F-966BE977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EE78-5FCA-4582-A19F-CB33588A1E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4955-BB3B-4BBB-9B76-C425AAB1599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Сергей Есенин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ихи о живот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ект по литератур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еницы 6 р 1 класс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ищиты Поли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«Коров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яхлая, выпали зубы,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иток годов на рогах.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енин пишет о старой корове. У нее забрала ее теленка: « Не дали матери сына,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вая радость не прок.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е теленка убили, тоже самое хотят сделать и с коровой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Скоро на гречневом свее,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той же сыновней судьбой,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яжут ей петлю на шее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оведут на убо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»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8" descr="Путевые заметки: остров Мадейра ФОТО НОВОСТИ"/>
          <p:cNvPicPr/>
          <p:nvPr/>
        </p:nvPicPr>
        <p:blipFill>
          <a:blip r:embed="rId1"/>
          <a:stretch/>
        </p:blipFill>
        <p:spPr>
          <a:xfrm>
            <a:off x="4572000" y="2133720"/>
            <a:ext cx="4103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«Лисиц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«На раздробленной ноге приковыляла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 норы свернулась в кольцо.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онкой прошвой кровь отмежевала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 снегу дремучее лицо.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этом стихотворении автор описал тяжелую жизнь лисицы. Охотник выстрелил  ей в лапу. Она еле-еле дошла до своей норы: «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к желна над нею мгла металась.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крый вечер липок был и ал.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лова тревожно подымалась,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язык на ране застывал.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сица вздрагивала, когда слышала выстрелы охотников и вылизывала ран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Лиса в норе / Животные / Обои на рабочий стол, iPhone, iPad"/>
          <p:cNvPicPr/>
          <p:nvPr/>
        </p:nvPicPr>
        <p:blipFill>
          <a:blip r:embed="rId1"/>
          <a:stretch/>
        </p:blipFill>
        <p:spPr>
          <a:xfrm>
            <a:off x="4427640" y="2133720"/>
            <a:ext cx="4176720" cy="3252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«Песнь о собак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«До вечера она их ласкала,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чесывая языком,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 струился снежок подталый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д теплым ее животом.»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Это стихотворение рассказывает о собаке-матери семерых щенят. Но хозяин забрал ее детей и утопил: «По сугробам она бежала,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спевая за ним бежать...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 так долго, долго дрожала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ды незамерзшей гладь.» Есенин мастерски описывает чувства собаки: «  В синюю высь звонко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лядела она, скуля,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 месяц скользил тонкий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 скрылся за холм в полях». Бедная собака за один день потеряла смысл жизни.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8" descr="Найдена собака Дворняга. Благотворительная картотека потерянных и найденных собак и кошек. Поиск потерянных домашних животных."/>
          <p:cNvPicPr/>
          <p:nvPr/>
        </p:nvPicPr>
        <p:blipFill>
          <a:blip r:embed="rId1"/>
          <a:stretch/>
        </p:blipFill>
        <p:spPr>
          <a:xfrm>
            <a:off x="4643280" y="2276640"/>
            <a:ext cx="4500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2T10:57:12Z</dcterms:created>
  <dc:creator>Полинка</dc:creator>
  <dc:description/>
  <dc:language>en-US</dc:language>
  <cp:lastModifiedBy>Admin!</cp:lastModifiedBy>
  <dcterms:modified xsi:type="dcterms:W3CDTF">2015-03-04T17:29:51Z</dcterms:modified>
  <cp:revision>3</cp:revision>
  <dc:subject/>
  <dc:title>Сергей Есенин</dc:title>
</cp:coreProperties>
</file>