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8767-E970-472B-AEDD-C147FFF8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DE7-1CA6-4668-B0E9-1F3BEBB0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C48-CD21-4F85-A577-BC33DC29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734-11A3-464B-B074-1DE65E49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7D4E-F0DB-45FB-BB48-1C965596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E14D-1BB0-4DB0-8137-F0815822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D9B4-B759-4430-8565-1E11DD67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2FFA-0BA9-4A42-8C8A-5C31EA34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3C3E-F4E6-4D4B-B29A-6C9597BD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BEA2-16CB-4735-95AC-70D1F5D8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3C55-DA80-44AC-84B8-10C26BD2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525-B702-437F-B861-958324A8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42B6-578A-4AD1-9CB2-F1DCDA6D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484F-7E31-47AB-A095-93F91014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E086-A683-4171-9F27-EC748910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5B6F-4BC0-4E33-82B5-AFFD0B67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A9A4-10B8-4B55-9F55-EED9524C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17E1-88DD-4451-B63A-A80F6FCD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CAC-9B30-4F4B-A280-ECCEBC8E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E1A-CB50-48D1-A6F6-152A3E2F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EB9-9EBF-4795-A2FA-032DA5F3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C63-0355-4415-93A2-C66B9799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9561-F374-4429-B0F0-7B11ABFD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3AD-423C-41FB-B0B2-C6CF34B8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5067-355C-4D70-B6B4-691FF82D3E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F18C-EEC7-4ACB-B553-01FEFB2E26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7"/>
          <p:cNvSpPr/>
          <p:nvPr/>
        </p:nvSpPr>
        <p:spPr>
          <a:xfrm>
            <a:off x="2987640" y="4941720"/>
            <a:ext cx="55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  <a:ea typeface="Arial"/>
              </a:rPr>
              <a:t>Уч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  <a:ea typeface="Arial"/>
              </a:rPr>
              <a:t>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  <a:ea typeface="Arial"/>
              </a:rPr>
              <a:t>Карасева Е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2"/>
          <p:cNvSpPr/>
          <p:nvPr/>
        </p:nvSpPr>
        <p:spPr>
          <a:xfrm>
            <a:off x="324000" y="404640"/>
            <a:ext cx="8496000" cy="5977080"/>
          </a:xfrm>
          <a:prstGeom prst="rect">
            <a:avLst/>
          </a:prstGeom>
          <a:noFill/>
          <a:ln w="255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897120" y="534348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324000" y="141768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Сложноподчинённые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с несколькими придаточны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"/>
          <p:cNvSpPr/>
          <p:nvPr/>
        </p:nvSpPr>
        <p:spPr>
          <a:xfrm>
            <a:off x="971640" y="1484280"/>
            <a:ext cx="777708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он уже слышал от своего недавнего начальника-генерала что без связи в тылу врага делать нечего что можно запросто отдать жизнь за Родину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.Быков «Болот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2987640" y="18900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Расставьте знаки  препин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начертите  схемы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08600" y="385920"/>
            <a:ext cx="24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Задание №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835280" y="3933720"/>
            <a:ext cx="7129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 чт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чт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 однородным подчин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2268360" y="371628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 flipV="1">
            <a:off x="2268360" y="3716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3276720" y="3716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5003640" y="3716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34"/>
          <p:cNvSpPr/>
          <p:nvPr/>
        </p:nvSpPr>
        <p:spPr>
          <a:xfrm>
            <a:off x="1547640" y="3645000"/>
            <a:ext cx="7417080" cy="115092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ПОДЧИНЕНИ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95640" y="191628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87640" y="227664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971640" y="1484280"/>
            <a:ext cx="777708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путем войны пройдешь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ще поймешь поро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ак хлеб хоро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.Т.Твард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87640" y="18900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Расставьте знаки  препин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начертите  схемы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397440" y="3859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835280" y="3933720"/>
            <a:ext cx="7129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 когд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аг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/с к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 параллельным подчин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4788000" y="37162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6"/>
          <p:cNvSpPr/>
          <p:nvPr/>
        </p:nvSpPr>
        <p:spPr>
          <a:xfrm flipV="1">
            <a:off x="4788000" y="3716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9"/>
          <p:cNvSpPr/>
          <p:nvPr/>
        </p:nvSpPr>
        <p:spPr>
          <a:xfrm>
            <a:off x="3059280" y="3716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6372360" y="3716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36000" y="206064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43640" y="2492280"/>
            <a:ext cx="4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 flipV="1">
            <a:off x="4211640" y="3716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7"/>
          <p:cNvSpPr/>
          <p:nvPr/>
        </p:nvSpPr>
        <p:spPr>
          <a:xfrm>
            <a:off x="3059280" y="371628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34"/>
          <p:cNvSpPr/>
          <p:nvPr/>
        </p:nvSpPr>
        <p:spPr>
          <a:xfrm>
            <a:off x="1476360" y="3716280"/>
            <a:ext cx="7416720" cy="115092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ПОДЧИНЕНИ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/>
          <p:cNvSpPr/>
          <p:nvPr/>
        </p:nvSpPr>
        <p:spPr>
          <a:xfrm>
            <a:off x="900000" y="184464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сков хотел сейчас только, чтоб немцы скорее повстречались и чтоб он успел свалить еще одного потому что сил уже не был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.Васильев «А зори здесь тихи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0" y="4797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ла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чтоб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чтоб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отому что…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"/>
          <p:cNvSpPr/>
          <p:nvPr/>
        </p:nvSpPr>
        <p:spPr>
          <a:xfrm flipV="1">
            <a:off x="395280" y="4436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395280" y="4437000"/>
            <a:ext cx="432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1835280" y="4508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2627280" y="378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716360" y="4437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4"/>
          <p:cNvSpPr/>
          <p:nvPr/>
        </p:nvSpPr>
        <p:spPr>
          <a:xfrm flipV="1">
            <a:off x="5364000" y="450828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5"/>
          <p:cNvSpPr/>
          <p:nvPr/>
        </p:nvSpPr>
        <p:spPr>
          <a:xfrm>
            <a:off x="5364000" y="450864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7164360" y="4508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6084720" y="3716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2340000" y="5661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родное и последовательное подчи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2987640" y="18900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Начертите  схему предложения, определите тип подч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397440" y="385920"/>
            <a:ext cx="24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Задание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34"/>
          <p:cNvSpPr/>
          <p:nvPr/>
        </p:nvSpPr>
        <p:spPr>
          <a:xfrm>
            <a:off x="0" y="3716280"/>
            <a:ext cx="9144000" cy="280836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ПОДЧИНЕНИ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"/>
          <p:cNvSpPr/>
          <p:nvPr/>
        </p:nvSpPr>
        <p:spPr>
          <a:xfrm>
            <a:off x="611280" y="2708280"/>
            <a:ext cx="828036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Бабуля, это к тебе, – сказала Танечка, входя в квартиру в сопровождении двух девочек и одного серьёзного мальчика. (2)Слепая Анна Федотовна стояла на пороге кухни, не видя, но точно зная, что ребятишки застенчиво жмутся у поро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Проходите в комнату и рассказывайте, по какому делу пришли, – сказала 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Ваша внучка Таня рассказала, что у вас на войне убили сына и что он вам писал письма. (5)А мы взяли почин: «Нет неизвестных героев». (6)И ещё она сказала, что вы ослепли от гор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.Васильев «Экспон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755640" y="1484280"/>
            <a:ext cx="777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Среди предложений 1-6 найдите сложноподчиненное предложение с с однородным подчинением  придаточных. Напишите номер этого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8"/>
          <p:cNvSpPr txBox="1"/>
          <p:nvPr/>
        </p:nvSpPr>
        <p:spPr>
          <a:xfrm>
            <a:off x="3778200" y="333360"/>
            <a:ext cx="367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7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Задание 13</a:t>
            </a:r>
            <a:endParaRPr b="0" lang="en-US" sz="1800" spc="1" strike="noStrike">
              <a:ln w="0">
                <a:noFill/>
              </a:ln>
              <a:solidFill>
                <a:srgbClr val="007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7" name="TextBox 8"/>
          <p:cNvSpPr/>
          <p:nvPr/>
        </p:nvSpPr>
        <p:spPr>
          <a:xfrm>
            <a:off x="1403280" y="11592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ОГ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6806160" y="61657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ложение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2"/>
          <p:cNvSpPr/>
          <p:nvPr/>
        </p:nvSpPr>
        <p:spPr>
          <a:xfrm>
            <a:off x="6732720" y="6093000"/>
            <a:ext cx="2028600" cy="53964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Предложени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221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№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755640" y="2349360"/>
            <a:ext cx="8137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тому что…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огда…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следовательное подч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25892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58920" y="213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5928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780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51280" y="2133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64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1045080" y="1557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ложение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34"/>
          <p:cNvSpPr/>
          <p:nvPr/>
        </p:nvSpPr>
        <p:spPr>
          <a:xfrm>
            <a:off x="755640" y="1557360"/>
            <a:ext cx="8102520" cy="165564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ПОДЧИНЕНИ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6920" y="2997360"/>
            <a:ext cx="13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№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757800" y="371628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ложение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755640" y="443700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лаг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с. что…)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тому что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ущ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/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оторого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692360" y="4220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92360" y="4221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4328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13200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2000" y="422100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0072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084720" y="414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84720" y="414972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96360" y="414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39640" y="5445000"/>
            <a:ext cx="813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ущ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с/с. что…)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лаг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. л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следовательное подч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0328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03280" y="522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62728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916360" y="5229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16360" y="522936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432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292720" y="5229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92720" y="522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8800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34"/>
          <p:cNvSpPr/>
          <p:nvPr/>
        </p:nvSpPr>
        <p:spPr>
          <a:xfrm>
            <a:off x="611280" y="3716280"/>
            <a:ext cx="8246880" cy="273708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ПОДЧИНЕНИ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5"/>
          <p:cNvSpPr/>
          <p:nvPr/>
        </p:nvSpPr>
        <p:spPr>
          <a:xfrm>
            <a:off x="1042920" y="333360"/>
            <a:ext cx="67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465480" y="2205000"/>
            <a:ext cx="57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 28 (стр. 103-10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ое задание (карточ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могла не победить та армия,   где   генерал и офицер составляли одну великую семью, жившую горячим желанием победы, горячей мечтой о величии и пользе Родины    ,     где благо и честь армии стояли выше всяких личных счетов   ,       где каждый отдельный член армии готов был душу свою положить за другого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.А.Моро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72360" y="1700280"/>
            <a:ext cx="72072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1640" y="3573360"/>
            <a:ext cx="50472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27640" y="1628640"/>
            <a:ext cx="142920" cy="578160"/>
          </a:xfrm>
          <a:custGeom>
            <a:avLst/>
            <a:gdLst>
              <a:gd name="textAreaLeft" fmla="*/ 42120 w 142920"/>
              <a:gd name="textAreaRight" fmla="*/ 143280 w 142920"/>
              <a:gd name="textAreaTop" fmla="*/ 23760 h 578160"/>
              <a:gd name="textAreaBottom" fmla="*/ 554400 h 57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3068640"/>
            <a:ext cx="71640" cy="503280"/>
          </a:xfrm>
          <a:custGeom>
            <a:avLst/>
            <a:gdLst>
              <a:gd name="textAreaLeft" fmla="*/ 0 w 71640"/>
              <a:gd name="textAreaRight" fmla="*/ 50400 w 7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3068640"/>
            <a:ext cx="57636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2360" y="3933720"/>
            <a:ext cx="71280" cy="503280"/>
          </a:xfrm>
          <a:custGeom>
            <a:avLst/>
            <a:gdLst>
              <a:gd name="textAreaLeft" fmla="*/ 0 w 71280"/>
              <a:gd name="textAreaRight" fmla="*/ 50040 w 7128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3573360"/>
            <a:ext cx="71640" cy="503280"/>
          </a:xfrm>
          <a:custGeom>
            <a:avLst/>
            <a:gdLst>
              <a:gd name="textAreaLeft" fmla="*/ 0 w 71640"/>
              <a:gd name="textAreaRight" fmla="*/ 50400 w 7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2997360"/>
            <a:ext cx="142920" cy="577800"/>
          </a:xfrm>
          <a:custGeom>
            <a:avLst/>
            <a:gdLst>
              <a:gd name="textAreaLeft" fmla="*/ 42120 w 142920"/>
              <a:gd name="textAreaRight" fmla="*/ 143280 w 142920"/>
              <a:gd name="textAreaTop" fmla="*/ 23760 h 577800"/>
              <a:gd name="textAreaBottom" fmla="*/ 554040 h 57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3500280"/>
            <a:ext cx="142920" cy="578160"/>
          </a:xfrm>
          <a:custGeom>
            <a:avLst/>
            <a:gdLst>
              <a:gd name="textAreaLeft" fmla="*/ 42120 w 142920"/>
              <a:gd name="textAreaRight" fmla="*/ 143280 w 142920"/>
              <a:gd name="textAreaTop" fmla="*/ 23760 h 578160"/>
              <a:gd name="textAreaBottom" fmla="*/ 554400 h 57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80360" y="2060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2637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2637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342900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56360" y="3429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393372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44370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45813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3500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72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8000" y="213372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ема уро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Сложноподчинён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с несколькими придаточ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могла не победить та арм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де   генерал и офицер составляли одну великую семью, жившую горячим желанием победы, горячей мечтой о величии и пользе Родин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де благо и честь армии стояли выше всяких личных счет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каждый отдельный член армии готов был душу свою положить за друго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.А.Моро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1773360"/>
            <a:ext cx="649080" cy="35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3573360"/>
            <a:ext cx="50508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068640"/>
            <a:ext cx="57636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43640" y="213372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2565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637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3429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3429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3933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443700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458136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3500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213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2060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8920" y="2133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50920" y="5661000"/>
            <a:ext cx="84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сущ.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.с. где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.с. где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.с. где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116000" y="4797360"/>
            <a:ext cx="11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ак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203640" y="4869000"/>
            <a:ext cx="11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ак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292720" y="4797360"/>
            <a:ext cx="11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ак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530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530064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1636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26920" y="40464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СПП с однородным  соподчи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826920" y="623736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3564000" y="630864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6156360" y="630864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8000" y="39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101080" y="40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468360" y="1844640"/>
            <a:ext cx="8064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пройдешь путем колонн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жару, и в дождь, и в снег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поймеш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ладок сон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Т. Твард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39640" y="5373720"/>
            <a:ext cx="830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когда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лаг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.сл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 flipV="1">
            <a:off x="3635280" y="515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 flipH="1">
            <a:off x="1547280" y="515772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1547640" y="5157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4572000" y="5229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4572000" y="522936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6804000" y="522936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2050920" y="472428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г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5867280" y="458136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102384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1619280" y="616572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5580000" y="616572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539640" y="38592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СПП с неоднородным соподчи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(параллельным подчинени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234936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242100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249228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11640" y="3284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3357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11640" y="3429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378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08360" y="3860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378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539640" y="1700280"/>
            <a:ext cx="8209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ут главное – не ранить сердце ребен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бы он не увиде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бежит по твоей щеке жгучая и скупая мужская слез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.А.Шолохов «Судьба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187280" y="530064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бы…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глаго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ак…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V="1">
            <a:off x="5219640" y="4868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5219640" y="4869000"/>
            <a:ext cx="1135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372360" y="4869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1547640" y="4437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 какой цель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5292720" y="443700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1763640" y="5877000"/>
            <a:ext cx="13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е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5076720" y="5877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зъясн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468360" y="3128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СПП с последовательным  подчи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2349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2421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24922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306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3141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3789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8360" y="306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314172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 flipV="1">
            <a:off x="1835280" y="4941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1835280" y="4941720"/>
            <a:ext cx="14508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3348000" y="4941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611280" y="179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Сложноподчинённые предл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с несколькими придаточ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"/>
          <p:cNvSpPr/>
          <p:nvPr/>
        </p:nvSpPr>
        <p:spPr>
          <a:xfrm>
            <a:off x="250920" y="2505240"/>
            <a:ext cx="3763800" cy="111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75a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395280" y="263700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с последовательным подчи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3"/>
          <p:cNvSpPr/>
          <p:nvPr/>
        </p:nvSpPr>
        <p:spPr>
          <a:xfrm>
            <a:off x="5076720" y="4365720"/>
            <a:ext cx="3764160" cy="1096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75a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5364000" y="4508640"/>
            <a:ext cx="31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с однородным соподчи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5"/>
          <p:cNvSpPr/>
          <p:nvPr/>
        </p:nvSpPr>
        <p:spPr>
          <a:xfrm>
            <a:off x="971640" y="4365720"/>
            <a:ext cx="3763800" cy="110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75a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1187280" y="4508640"/>
            <a:ext cx="33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с неоднородным соподчи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Прямая со стрелкой 8"/>
          <p:cNvCxnSpPr/>
          <p:nvPr/>
        </p:nvCxnSpPr>
        <p:spPr>
          <a:xfrm>
            <a:off x="4535640" y="1341000"/>
            <a:ext cx="2475360" cy="1080360"/>
          </a:xfrm>
          <a:prstGeom prst="straightConnector1">
            <a:avLst/>
          </a:prstGeom>
          <a:ln w="38160">
            <a:solidFill>
              <a:srgbClr val="875a2d"/>
            </a:solidFill>
            <a:miter/>
            <a:tailEnd len="med" type="arrow" w="med"/>
          </a:ln>
        </p:spPr>
      </p:cxnSp>
      <p:cxnSp>
        <p:nvCxnSpPr>
          <p:cNvPr id="209" name="Прямая со стрелкой 11"/>
          <p:cNvCxnSpPr/>
          <p:nvPr/>
        </p:nvCxnSpPr>
        <p:spPr>
          <a:xfrm flipH="1">
            <a:off x="2133000" y="1341000"/>
            <a:ext cx="2367720" cy="1080360"/>
          </a:xfrm>
          <a:prstGeom prst="straightConnector1">
            <a:avLst/>
          </a:prstGeom>
          <a:ln w="38160">
            <a:solidFill>
              <a:srgbClr val="875a2d"/>
            </a:solidFill>
            <a:miter/>
            <a:tailEnd len="med" type="arrow" w="med"/>
          </a:ln>
        </p:spPr>
      </p:cxnSp>
      <p:cxnSp>
        <p:nvCxnSpPr>
          <p:cNvPr id="210" name="Прямая со стрелкой 15"/>
          <p:cNvCxnSpPr>
            <a:stCxn id="211" idx="2"/>
            <a:endCxn id="206" idx="0"/>
          </p:cNvCxnSpPr>
          <p:nvPr/>
        </p:nvCxnSpPr>
        <p:spPr>
          <a:xfrm flipH="1">
            <a:off x="2854080" y="3681360"/>
            <a:ext cx="4032720" cy="665640"/>
          </a:xfrm>
          <a:prstGeom prst="straightConnector1">
            <a:avLst/>
          </a:prstGeom>
          <a:ln w="38160">
            <a:solidFill>
              <a:srgbClr val="875a2d"/>
            </a:solidFill>
            <a:miter/>
            <a:tailEnd len="med" type="arrow" w="med"/>
          </a:ln>
        </p:spPr>
      </p:cxnSp>
      <p:sp>
        <p:nvSpPr>
          <p:cNvPr id="211" name="Скругленный прямоугольник 3"/>
          <p:cNvSpPr/>
          <p:nvPr/>
        </p:nvSpPr>
        <p:spPr>
          <a:xfrm>
            <a:off x="5003640" y="2565360"/>
            <a:ext cx="3764160" cy="1096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75a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5292720" y="2852640"/>
            <a:ext cx="31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с соподчи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Прямая со стрелкой 15"/>
          <p:cNvCxnSpPr>
            <a:stCxn id="211" idx="2"/>
          </p:cNvCxnSpPr>
          <p:nvPr/>
        </p:nvCxnSpPr>
        <p:spPr>
          <a:xfrm>
            <a:off x="6886080" y="3681360"/>
            <a:ext cx="855000" cy="612000"/>
          </a:xfrm>
          <a:prstGeom prst="straightConnector1">
            <a:avLst/>
          </a:prstGeom>
          <a:ln w="38160">
            <a:solidFill>
              <a:srgbClr val="875a2d"/>
            </a:solidFill>
            <a:miter/>
            <a:tailEnd len="med" type="arrow" w="med"/>
          </a:ln>
        </p:spPr>
      </p:cxn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395280" y="1628640"/>
            <a:ext cx="820908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полчаса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обстрел прекратился и раненые,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х она напоила и умы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были уложены в машин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нопка с дороги в последний раз взглянула на мертвый, изрытый снарядами кусок земли между колодцем и канавой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Каверин “Кнопка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5157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…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когда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и (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ущ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,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/с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которых…) …), 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 flipV="1">
            <a:off x="971640" y="494136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971640" y="4941720"/>
            <a:ext cx="331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1979640" y="49417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2050920" y="450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г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 flipV="1">
            <a:off x="4427640" y="494136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4427640" y="4941720"/>
            <a:ext cx="180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6227640" y="49417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4500720" y="4508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ак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468360" y="58053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4427640" y="5805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1476360" y="623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родное и последовательное подчи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250920" y="3333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СПП с комбинированным подчин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"/>
          <p:cNvSpPr/>
          <p:nvPr/>
        </p:nvSpPr>
        <p:spPr>
          <a:xfrm>
            <a:off x="4284720" y="49417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88000" y="2060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27640" y="2060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21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24922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5640" y="2492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16360" y="249228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16360" y="2565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292428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299736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32360" y="2924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35772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59280" y="342900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971640" y="1484280"/>
            <a:ext cx="777708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ый раз он встревожился когда на огромном скошенном лугу где они приземлились никто из партизанского дозора их не встрети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.Быков «Болот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2987640" y="18900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Расставьте знаки  препин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начертите  схемы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08600" y="385920"/>
            <a:ext cx="24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Задание №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835280" y="3645000"/>
            <a:ext cx="7129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гд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ущ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/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…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 последовательным подчин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2268360" y="3429000"/>
            <a:ext cx="100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"/>
          <p:cNvSpPr/>
          <p:nvPr/>
        </p:nvSpPr>
        <p:spPr>
          <a:xfrm flipV="1">
            <a:off x="2268360" y="342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3276720" y="342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>
            <a:off x="5796000" y="3357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4788000" y="3357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"/>
          <p:cNvSpPr/>
          <p:nvPr/>
        </p:nvSpPr>
        <p:spPr>
          <a:xfrm flipV="1">
            <a:off x="4788000" y="3357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34"/>
          <p:cNvSpPr/>
          <p:nvPr/>
        </p:nvSpPr>
        <p:spPr>
          <a:xfrm>
            <a:off x="1476360" y="3284640"/>
            <a:ext cx="7416720" cy="115092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ПОДЧИНЕНИ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08720" y="15573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191628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72360" y="191628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8:09:58Z</dcterms:created>
  <dc:creator>Евгения</dc:creator>
  <dc:description/>
  <dc:language>en-US</dc:language>
  <cp:lastModifiedBy>Елена</cp:lastModifiedBy>
  <dcterms:modified xsi:type="dcterms:W3CDTF">2015-02-04T18:26:39Z</dcterms:modified>
  <cp:revision>87</cp:revision>
  <dc:subject/>
  <dc:title>Слайд 1</dc:title>
</cp:coreProperties>
</file>