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8E8-7DEA-47D0-B876-520D2A6B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CFF-0642-4182-8A49-CCC78A53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B22-840A-4ECB-BC93-2642AC06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8B9-7FC9-495C-A542-770DEB45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434-9EE9-44D6-8C94-3890F0C3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96E-1BDF-4276-9933-54A5D190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883-97BD-46E2-86F2-3D660C7B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7B2-7BD9-46F6-8919-6CF3BCD0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777-1AD1-4CB8-B536-5A45E350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A9F-828A-4C7E-9CC9-EF14D452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7FD-7300-43C7-870E-A40BBEF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8DB-CE27-40EB-9930-1704FF9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E901-527C-4E90-AB51-1B349A9E1F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Долженко Ростислав 7 «Б»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ФИЗИКО – МЕХАНИЧЕСКИЕ СВОЙСТВА   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500040" y="1945800"/>
            <a:ext cx="7715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зические свойства древес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ханические свойства древес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7929360" cy="307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2000160" y="5715000"/>
            <a:ext cx="59295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071800" y="428400"/>
            <a:ext cx="44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ные виды коробления дос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311000" y="22626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ЕХАНИЧЕСКИЕ СВОЙСТВА ДРЕВЕС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2"/>
          <p:cNvSpPr/>
          <p:nvPr/>
        </p:nvSpPr>
        <p:spPr>
          <a:xfrm>
            <a:off x="214200" y="2000160"/>
            <a:ext cx="4857840" cy="21430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85840" y="2433240"/>
            <a:ext cx="4714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ОСТЬЮ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ы называют ее способность сопротивляться внедрению в нее других тел, например, вдавливанию в ее поверхность  стального   шари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лево 4"/>
          <p:cNvSpPr/>
          <p:nvPr/>
        </p:nvSpPr>
        <p:spPr>
          <a:xfrm>
            <a:off x="5214960" y="1714680"/>
            <a:ext cx="3643200" cy="271440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715000" y="2385360"/>
            <a:ext cx="3071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личине отпечатка (лунки) на поверхности древесины судят о ее твердости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лунка, тем тверже древес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7"/>
          <p:cNvCxnSpPr/>
          <p:nvPr/>
        </p:nvCxnSpPr>
        <p:spPr>
          <a:xfrm flipH="1">
            <a:off x="1714320" y="4356720"/>
            <a:ext cx="1715040" cy="9291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98" name="Прямая со стрелкой 12"/>
          <p:cNvCxnSpPr/>
          <p:nvPr/>
        </p:nvCxnSpPr>
        <p:spPr>
          <a:xfrm>
            <a:off x="5285880" y="4286160"/>
            <a:ext cx="1429560" cy="92952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99" name="Прямоугольник 19"/>
          <p:cNvSpPr/>
          <p:nvPr/>
        </p:nvSpPr>
        <p:spPr>
          <a:xfrm>
            <a:off x="428760" y="5500800"/>
            <a:ext cx="328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ЕРДЫЕ ПОР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груша, ясень, бук, дуб, к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857840" y="5521320"/>
            <a:ext cx="3286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ЯГК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Р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на, ольха, тополь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ЕХАНИЧЕСКИЕ СВОЙСТВА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428760" y="2290680"/>
            <a:ext cx="457200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Ю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ы называют ее способность выдерживать опре­деленные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узки не, разрушая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ьшие нагрузки она выдерживает, тем она прочн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785880" y="0"/>
            <a:ext cx="6286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142920" y="1714680"/>
            <a:ext cx="5072040" cy="25714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Ю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ы называют ее способность выдерживать определенные   нагрузки , не разрушая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лево 5"/>
          <p:cNvSpPr/>
          <p:nvPr/>
        </p:nvSpPr>
        <p:spPr>
          <a:xfrm>
            <a:off x="5500800" y="1500120"/>
            <a:ext cx="3357360" cy="2857680"/>
          </a:xfrm>
          <a:prstGeom prst="leftArrow">
            <a:avLst>
              <a:gd name="adj1" fmla="val 50000"/>
              <a:gd name="adj2" fmla="val 3792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ьшие нагрузки выдерживает древесина , тем она проч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7"/>
          <p:cNvCxnSpPr/>
          <p:nvPr/>
        </p:nvCxnSpPr>
        <p:spPr>
          <a:xfrm flipH="1">
            <a:off x="1713960" y="4429080"/>
            <a:ext cx="1286280" cy="100080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07" name="Прямая со стрелкой 10"/>
          <p:cNvCxnSpPr/>
          <p:nvPr/>
        </p:nvCxnSpPr>
        <p:spPr>
          <a:xfrm>
            <a:off x="5285880" y="4357800"/>
            <a:ext cx="1143720" cy="107208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08" name="Прямоугольник 13"/>
          <p:cNvSpPr/>
          <p:nvPr/>
        </p:nvSpPr>
        <p:spPr>
          <a:xfrm>
            <a:off x="395280" y="50133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окой прочность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дает древес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ба, клена, бер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4524840" y="5572080"/>
            <a:ext cx="4173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зк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ины, липы, ольх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214280" y="666720"/>
            <a:ext cx="66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грузке на изделия из древесины волокна древесины растягиваются, сжимаются или изгибаются (например, ножки стульев сжимаются, лыжи изгибаются). Поэтому различают прочность на растяжение, на сжатие и на изги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ющие нагруз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ысят те, которые древесина может выдержать (допустимые), то изделие разруши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ая прочность для каждой породы древесины различна и приводится в таблицах (в Н/м~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ЕХАНИЧЕСКИЕ СВОЙСТВА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28760" y="2290680"/>
            <a:ext cx="457200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Ю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ы называют ее способность выдерживать опре­деленные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узки не, разрушая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ьшие нагрузки она выдерживает, тем она прочн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785880" y="0"/>
            <a:ext cx="6286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4"/>
          <p:cNvSpPr/>
          <p:nvPr/>
        </p:nvSpPr>
        <p:spPr>
          <a:xfrm>
            <a:off x="142920" y="1714680"/>
            <a:ext cx="5072040" cy="25714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alibri"/>
              </a:rPr>
              <a:t>УПРУГОСТЬЮ</a:t>
            </a: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древесины называют е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               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способность восстанавливать </a:t>
            </a:r>
            <a:r>
              <a:rPr b="1" i="1" lang="ru-RU" sz="1800" spc="-1" strike="noStrike">
                <a:solidFill>
                  <a:srgbClr val="0d0d0d"/>
                </a:solidFill>
                <a:latin typeface="Calibri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alibri"/>
              </a:rPr>
              <a:t>               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первоначальную форму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               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прекращения действия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               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непродолжительной нагруз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лево 5"/>
          <p:cNvSpPr/>
          <p:nvPr/>
        </p:nvSpPr>
        <p:spPr>
          <a:xfrm>
            <a:off x="5500800" y="1500120"/>
            <a:ext cx="3357360" cy="2857680"/>
          </a:xfrm>
          <a:prstGeom prst="leftArrow">
            <a:avLst>
              <a:gd name="adj1" fmla="val 50000"/>
              <a:gd name="adj2" fmla="val 3792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ьшие нагрузки выдерживает древесина , тем она проч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7"/>
          <p:cNvCxnSpPr/>
          <p:nvPr/>
        </p:nvCxnSpPr>
        <p:spPr>
          <a:xfrm flipH="1">
            <a:off x="1713960" y="4429080"/>
            <a:ext cx="1286280" cy="100080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17" name="Прямая со стрелкой 10"/>
          <p:cNvCxnSpPr/>
          <p:nvPr/>
        </p:nvCxnSpPr>
        <p:spPr>
          <a:xfrm>
            <a:off x="5285880" y="4357800"/>
            <a:ext cx="1143720" cy="107208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18" name="Прямоугольник 13"/>
          <p:cNvSpPr/>
          <p:nvPr/>
        </p:nvSpPr>
        <p:spPr>
          <a:xfrm>
            <a:off x="684360" y="486900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упругой древесины делают лыжи, линейки, спортивные л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5"/>
          <p:cNvSpPr/>
          <p:nvPr/>
        </p:nvSpPr>
        <p:spPr>
          <a:xfrm>
            <a:off x="4572000" y="479736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ерритории России, наибольшей упругостью обладают береза и гра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ревесина обладает различными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свойствами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Среди них различают:</a:t>
            </a:r>
            <a:br>
              <a:rPr sz="3200"/>
            </a:br>
            <a:br>
              <a:rPr sz="32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6760" y="2643120"/>
            <a:ext cx="403884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2d050"/>
                </a:solidFill>
                <a:latin typeface="Calibri"/>
              </a:rPr>
              <a:t>ФИЗИЧЕСКИЕ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ость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0" y="292860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92d050"/>
                </a:solidFill>
                <a:latin typeface="Calibri"/>
              </a:rPr>
              <a:t>МЕХАНИЧЕСКИЕ</a:t>
            </a: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являются под воздействием на нее внешних си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ость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713880"/>
            <a:ext cx="851544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ФИЗИЧЕСКИЕ СВОЙСТВА ДРЕВЕС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Блок-схема: перфолента 5"/>
          <p:cNvSpPr/>
          <p:nvPr/>
        </p:nvSpPr>
        <p:spPr>
          <a:xfrm>
            <a:off x="571680" y="1428840"/>
            <a:ext cx="3786120" cy="264312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85840" y="2004480"/>
            <a:ext cx="50720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) называют количество массы древесин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), содержащуюся в единице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0080" y="3214800"/>
            <a:ext cx="1571760" cy="733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795240" y="914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4572000" y="37861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изкую плот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древесина липы, тополя, кедра, вяза, ели, сос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2"/>
          <p:cNvSpPr/>
          <p:nvPr/>
        </p:nvSpPr>
        <p:spPr>
          <a:xfrm>
            <a:off x="500040" y="48578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ысокую плот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древесина дуба, ясеня, березы, клена, яблони, груши, листвен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лево 15"/>
          <p:cNvSpPr/>
          <p:nvPr/>
        </p:nvSpPr>
        <p:spPr>
          <a:xfrm>
            <a:off x="5429160" y="1214280"/>
            <a:ext cx="3286080" cy="257184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а различных пород бывает легкой и тяжел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е. менее плотной или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плот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56149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ФИЗИЧЕСКИЕ СВОЙСТВА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Блок-схема: перфолента 2"/>
          <p:cNvSpPr/>
          <p:nvPr/>
        </p:nvSpPr>
        <p:spPr>
          <a:xfrm>
            <a:off x="571680" y="1700280"/>
            <a:ext cx="4500360" cy="21574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ревесины весьма  различен, поэтому по цвету можно определить породу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5143680" y="29440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а имеет в основном приятные цвета желтоватых оттен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делиях из древесины стараются сохранить естественный цвет, не окрашивая ее или покрывая поверхности прозрачными л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I:\Работы из дерева\hei010.jpg"/>
          <p:cNvPicPr/>
          <p:nvPr/>
        </p:nvPicPr>
        <p:blipFill>
          <a:blip r:embed="rId1"/>
          <a:stretch/>
        </p:blipFill>
        <p:spPr>
          <a:xfrm>
            <a:off x="1000080" y="4143240"/>
            <a:ext cx="3571920" cy="242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I:\Работы из дерева\hei008.jpg"/>
          <p:cNvPicPr/>
          <p:nvPr/>
        </p:nvPicPr>
        <p:blipFill>
          <a:blip r:embed="rId2"/>
          <a:stretch/>
        </p:blipFill>
        <p:spPr>
          <a:xfrm>
            <a:off x="6215040" y="928800"/>
            <a:ext cx="2603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ФИЗИЧЕСКИЕ СВОЙСТВА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Блок-схема: перфолента 2"/>
          <p:cNvSpPr/>
          <p:nvPr/>
        </p:nvSpPr>
        <p:spPr>
          <a:xfrm>
            <a:off x="500040" y="2000160"/>
            <a:ext cx="4286160" cy="278604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Х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акже является признаком породы древе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5072040" y="3655080"/>
            <a:ext cx="335772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истый запах имеет древеси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йных пор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ый едкий запах — древесина о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ФИЗИЧЕСКИЕ СВОЙСТВА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Блок-схема: перфолента 6"/>
          <p:cNvSpPr/>
          <p:nvPr/>
        </p:nvSpPr>
        <p:spPr>
          <a:xfrm>
            <a:off x="642960" y="1500120"/>
            <a:ext cx="4071960" cy="300060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28760" y="2217960"/>
            <a:ext cx="4357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ОСТЬЮ (%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ы называют количество влаги, содержащейся в масс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785880" y="3286080"/>
            <a:ext cx="1785960" cy="785880"/>
          </a:xfrm>
          <a:prstGeom prst="rect">
            <a:avLst/>
          </a:prstGeom>
          <a:ln w="0">
            <a:noFill/>
          </a:ln>
        </p:spPr>
      </p:pic>
      <p:sp>
        <p:nvSpPr>
          <p:cNvPr id="66" name="Стрелка влево 10"/>
          <p:cNvSpPr/>
          <p:nvPr/>
        </p:nvSpPr>
        <p:spPr>
          <a:xfrm>
            <a:off x="5000760" y="1071720"/>
            <a:ext cx="3786120" cy="3357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500800" y="2291040"/>
            <a:ext cx="300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ая древесина быстрее загнивает, покрывается темными пятнами, труднее обрабатыва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сушивании древесины часть влаги испаря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ьная выноска 14"/>
          <p:cNvSpPr/>
          <p:nvPr/>
        </p:nvSpPr>
        <p:spPr>
          <a:xfrm rot="10800000">
            <a:off x="428400" y="4643280"/>
            <a:ext cx="4429080" cy="2214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071720" y="491724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апример, если масса образца древесины до высушивания была равна 60 г, а после высушивания — 40 г, то влажность древесины до высушивания составля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[(60-40): 40] • 100% = 5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929120" y="4509360"/>
            <a:ext cx="3857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изделия изготовляют из сухой древесины, влажность которой составляет 8-15 %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и из сухой древесины не коробятся, хорошо обрабаты-ваются, не гниют, хорошо красятся, долго служ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Свежесрубленная древесина имеет влажность 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60-80 %. Чтобы получить древесину с производственной влажностью 8-15 %, ее суша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2"/>
          <p:cNvSpPr/>
          <p:nvPr/>
        </p:nvSpPr>
        <p:spPr>
          <a:xfrm>
            <a:off x="2357280" y="1857240"/>
            <a:ext cx="4200840" cy="1785960"/>
          </a:xfrm>
          <a:prstGeom prst="roundRect">
            <a:avLst>
              <a:gd name="adj" fmla="val 484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К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-571680" y="357120"/>
            <a:ext cx="1843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5"/>
          <p:cNvCxnSpPr/>
          <p:nvPr/>
        </p:nvCxnSpPr>
        <p:spPr>
          <a:xfrm>
            <a:off x="6143760" y="364320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8"/>
          <p:cNvCxnSpPr/>
          <p:nvPr/>
        </p:nvCxnSpPr>
        <p:spPr>
          <a:xfrm flipH="1">
            <a:off x="1999800" y="3713760"/>
            <a:ext cx="929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Прямоугольник 10"/>
          <p:cNvSpPr/>
          <p:nvPr/>
        </p:nvSpPr>
        <p:spPr>
          <a:xfrm>
            <a:off x="362880" y="4857840"/>
            <a:ext cx="2658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но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5228280" y="4786200"/>
            <a:ext cx="2748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скусственной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амер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857160" y="2071800"/>
            <a:ext cx="4629240" cy="22287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642960" y="463680"/>
            <a:ext cx="5391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ественной сушки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оматериалы укладывают при помощи деревянных прокладок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бе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ткрытом продуваемом месте или под наве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643200" y="486432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усственную сушку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ины осуществляют в сушильных камерах, где древесина обдувается горячим воздухом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оцесс сушки проходит  намного быстр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1"/>
          <p:cNvSpPr/>
          <p:nvPr/>
        </p:nvSpPr>
        <p:spPr>
          <a:xfrm>
            <a:off x="357120" y="36360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высушивания происходит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УШКА ДРЕВЕСИН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уменьшение размеров. Усушка  различна вдоль и поперек волокон. Поэтому пиломатериалы после высушивания изменяют свою форму, т. е. коробятся. Кроме того, пиломатериалы, выпиленные из различных зон поперечного сечения ствола  коробятся по-раз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1"/>
          <a:stretch/>
        </p:blipFill>
        <p:spPr>
          <a:xfrm>
            <a:off x="1000080" y="2143080"/>
            <a:ext cx="3786120" cy="25002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5"/>
          <p:cNvSpPr/>
          <p:nvPr/>
        </p:nvSpPr>
        <p:spPr>
          <a:xfrm>
            <a:off x="4937400" y="228600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о высуши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6"/>
          <p:cNvSpPr/>
          <p:nvPr/>
        </p:nvSpPr>
        <p:spPr>
          <a:xfrm>
            <a:off x="4937760" y="2643120"/>
            <a:ext cx="16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осле высуши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500120" y="51480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происходило большого коробления пиломатериалов, их высушивают в штабелях с прокладками в зажатом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5-03-04T12:50:13Z</dcterms:modified>
  <cp:revision>18</cp:revision>
  <dc:subject/>
  <dc:title>ТЕМА:  ФИЗИКО – МЕХАНИЧЕСКИЕ СВОЙСТВА    ДРЕВЕСИНЫ</dc:title>
</cp:coreProperties>
</file>