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AA4-7E92-4F26-B25F-15144809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346-30D0-4C50-9BA9-786AF3A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C4A0-D5EA-4DFB-B77C-C3E5833E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FF3CE-1BAB-4434-B2A8-D0AD9B2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C828A-53FB-40A3-B687-17FBA01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DB65D-F4FA-4A9E-830B-59EB7CD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044D4-6FD4-426E-88DB-17CD03C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0703A-3CA9-4D78-BEFB-6371F96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327B0-8F77-4D63-8CF0-918A7C8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2477-B5D1-4380-82AF-72E5DFD0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E7E07-00C1-434B-94A3-134FA0C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EEA49-A24E-48B6-9468-544D29A8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29E-2CC2-4B15-BF96-0A6B974B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5DAF0-866D-40B9-A94E-6CA14D4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FD266-52B5-454B-9CA3-7A8CDA0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7791B-90E7-4F3B-88D6-5DD16A4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26A2-6059-4214-989F-214AE9A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614E-2378-455C-8B37-8700FCB4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EAFC-F783-40FA-B902-16C1645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00E6A-1C56-4102-B372-0D89511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6E6A7-C1EA-4EF3-AD57-75A432D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A19A6-BC58-4CC7-81DD-F182294F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80230-A930-417C-B418-F14FD717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2FD-B3D7-4096-83CD-ACC0F824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F046F-750C-42F8-93CD-C5A89B74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04BA7-E9BE-491C-85DE-C4AE57DE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D3810-0623-4851-B360-FE842FC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D026-8A63-4C4D-B0CC-7992524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4FEA9-293F-4F90-B82A-7DB144A6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4560A-E62B-4978-9B16-0D2B412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EE22-96A7-4201-9773-9E873902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369ED-4D1B-426E-A644-0EF1DE8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1537-CB67-4CED-90EA-5892B6F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A238-81DC-46BA-A4CA-2BF71CC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4CB0-6C36-48FE-92E6-836B0A2F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C9961-1E5C-45C1-8F76-BEABB3A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6BDC5-3A7F-47A8-A3F6-EDD938C8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8E864-47AA-4EA2-A75D-BF133FBD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E5B-EDD7-4E43-95DA-FAC2383D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DF7A-5DD1-4FD1-9651-9DD18AB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31E-0AFF-464B-9278-B2B38C7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818-E643-434C-ABD8-1991883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8FE4-9342-46A0-90EA-3AB44B4B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6EF7-9845-4EAA-902A-AAEC2CB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294-82FC-45B7-99F1-27B94D97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F329-B158-4FB9-BAD5-9B1EDD96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A7EE-F481-4286-BA1D-62477E1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B8D0-1A31-42CA-9532-FCB6C13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69FE-20FC-469D-8281-430662FC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C34D-C7DC-4EB1-A753-6A2FC792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421E-E99B-47E8-8732-92819FF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110D-6A0C-4B4A-89EB-52D2363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E9F1-3B5B-40DB-8FAD-C3C19869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4A84-CEEF-4F3D-A37D-EB19F0B6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81D4-45AE-4CFF-9395-2C94D6C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17E-7C5C-4854-BA48-0331EB7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9C09-BD1A-417F-8B59-BC01277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08AB-DB12-453F-BD81-224D229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6EE5-3E7E-4334-AA56-15638E3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DB47-CCCD-4C91-AD24-9397038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0E18-BE33-40E2-97C8-2197AA5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503F-3F0B-4C09-A380-9501C44A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B1DF-56F6-483B-A6FA-86FF192C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41AE-AD42-4D43-8D28-DCC2BA5B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9F92-FEA0-46F2-90EF-D3DD669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8844-A1E1-4B21-8A8B-45085004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7D4-3C3F-4B01-BFBC-0272D45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03EA-3CA7-4C89-AF84-CAD7976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8259-155F-4499-BDC1-88DE0C0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DC4B-7D29-47A0-B782-4BFE9C6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67A1-310B-411B-B7A7-41845E8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215A-BAEA-4D2C-AA31-6570EE4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D66C-ABF3-43DA-A3E7-1E6A82A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568A-DBE4-4E18-9D66-FAA0A07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14AE-8B8F-4D8A-BB24-51481DA2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8C70-8860-48D6-B973-12E524A6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B345-2378-42A0-ACFC-1BCF8DB7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309-307D-4360-BE00-3F29252B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6A57-CDFD-4F8F-B6F3-738A147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195F-6611-40AE-908D-CF12590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7375-137B-40F6-AC85-5B2A9D91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4E29-1D0F-43A3-A8E4-D9FB4602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04334-A1F7-4213-80AE-978CB0E0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1851-0AE6-458D-B241-D4254D5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DC66-5126-478B-81FF-50758B2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B5A7-9FF1-4EC5-BBBF-B0C8F1C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6341-4D52-4BEB-A76C-3769677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8C26-B386-4608-B979-DF93C54C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AA9-CEFC-4FC3-9374-3EFEDB0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76CB-4808-45F4-8D47-3FD4549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6909-0969-4DDA-9DDC-2815D08E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7EB3-861B-4472-8295-E602B88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EFA0-26E2-4186-ABE5-0F816D4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AFF7-AE98-4119-8F4D-49130A90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226B-4D11-43FA-A6C3-0471153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36C9-2221-4CC3-AB4E-3A6ABBF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C472-FFE5-4388-960F-41E930B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A55F-C50A-4272-BE0C-5A903A2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FBA2-0FE3-4EE4-9FA7-8DDD842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A5E-B51F-44CF-83FF-8FE7EBC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820C3-9328-4B13-805A-4184583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9F46-EA6F-4920-93AB-AF61188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16F0-F919-4A67-8A6B-0BFBB35B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6352-7132-4B5B-BD78-AAA6FB00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6A09-F25B-44CD-80C1-C877DE5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7981-7E3F-4A8E-90D1-0252F48A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D3D6-A8B4-41E3-B566-1CA6F00C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B491-655B-444E-BBB9-7B92204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76FB-EF7B-427E-8DA3-01F9F69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6CFF-38F3-4FF0-B7C0-41DD5D8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71D-427A-42CE-9CBE-B2BA123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8441-D4B1-409C-BA38-320C6E1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30DF8-1AEE-4583-975E-6C1018A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0790-8229-4634-B6EE-B6A75983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6D63-625F-4E63-A854-8E112AC8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2EA0-8BA2-432D-92CA-8A15FA03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0446-DF3D-493C-9C1E-2D2A59BA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AF4A8-3A05-4751-998A-18BD8CB3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CD155-3DB4-4C41-827B-8A71A42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DBC96-8F0F-49C9-9189-3ECF112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AC23F-79A8-41DF-BA20-8F716A1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0F1-7BFB-411A-BC2D-04718B6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6054-313D-4A28-987C-4AE0D044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4DB4-EF72-4E1D-A59A-75F92EA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01F9-C3C3-45F1-9C41-09589DC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5DA49-B526-4E17-844A-F212C91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8F71-7A37-42DC-A535-7F001C2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490A-ACEB-4EE4-9201-68EB4794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CD5A4-7572-4EE7-A148-28EBD69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639B5-1A70-43B2-8FB5-773CEB0B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E91C5-FF5B-44CA-B60C-DD1E767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631A4-8A72-44BD-84C5-9393A8C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4CAC-3111-4391-85EB-5E484EF4A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74C-E716-4C62-A1C6-D094E861A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72DC-B3BB-41C6-B767-E6C8D2547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37E-7DBE-4F0E-95F7-0374E96D2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B40-3957-4C71-818B-148BF06D81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663-C4D2-4F42-A487-5CA1C5A80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195-974E-440B-B3E0-59B7E9A95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F4E-F540-44D5-A5F9-162401C75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764-8173-418C-8041-0A0280A24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DB06-7BC7-45EB-988D-5AE9D760F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C33-00C4-4C3B-8665-F8953C743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4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51771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187280" y="1341360"/>
                <a:ext cx="5905800" cy="49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5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sub>
                        </m:sSub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7" name="Объект 3"/>
              <p:cNvSpPr txBox="1"/>
              <p:nvPr/>
            </p:nvSpPr>
            <p:spPr>
              <a:xfrm>
                <a:off x="1116000" y="1628640"/>
                <a:ext cx="705636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9"/>
          <p:cNvSpPr/>
          <p:nvPr/>
        </p:nvSpPr>
        <p:spPr>
          <a:xfrm>
            <a:off x="1476360" y="1557360"/>
            <a:ext cx="6335640" cy="48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)log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1 = 0;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) log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 = 1;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) log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(1/a) = - 1;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) log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= m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) log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a = 1/m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1" name="Object 5"/>
              <p:cNvSpPr txBox="1"/>
              <p:nvPr/>
            </p:nvSpPr>
            <p:spPr>
              <a:xfrm>
                <a:off x="539640" y="1700280"/>
                <a:ext cx="7632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Rectangle 6"/>
          <p:cNvSpPr/>
          <p:nvPr/>
        </p:nvSpPr>
        <p:spPr>
          <a:xfrm>
            <a:off x="611280" y="306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 Если х, а,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ложительные числа, справедливо равенство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539640" y="4292640"/>
                <a:ext cx="748836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628560" y="334800"/>
            <a:ext cx="8229600" cy="86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5" name="Object 6"/>
              <p:cNvSpPr txBox="1"/>
              <p:nvPr/>
            </p:nvSpPr>
            <p:spPr>
              <a:xfrm>
                <a:off x="522360" y="1916280"/>
                <a:ext cx="8064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Rectangle 2"/>
          <p:cNvSpPr/>
          <p:nvPr/>
        </p:nvSpPr>
        <p:spPr>
          <a:xfrm>
            <a:off x="250920" y="3276720"/>
            <a:ext cx="860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9034560" cy="1146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03920" cy="5116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 применение свойств логарифмов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6:20:15Z</dcterms:created>
  <dc:creator>Максим Таячков</dc:creator>
  <dc:description/>
  <dc:language>en-US</dc:language>
  <cp:lastModifiedBy>Admin</cp:lastModifiedBy>
  <dcterms:modified xsi:type="dcterms:W3CDTF">2015-03-03T20:40:56Z</dcterms:modified>
  <cp:revision>36</cp:revision>
  <dc:subject/>
  <dc:title>Логарифмические функции</dc:title>
</cp:coreProperties>
</file>