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jpeg" ContentType="image/jpeg"/>
  <Override PartName="/ppt/media/image23.jpeg" ContentType="image/jpeg"/>
  <Override PartName="/ppt/media/image3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4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11.jpeg" ContentType="image/jpeg"/>
  <Override PartName="/ppt/media/image24.png" ContentType="image/png"/>
  <Override PartName="/ppt/media/image27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D78-1B4F-4292-A640-9DE7AAF8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2F9-C565-4415-95D6-1046D4CD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A5B-4185-47BF-BA37-6CD47384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DBE-E95D-4B11-B39F-460532D1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D509-07A4-4287-9D01-74A9CD09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4BC6-52F3-466F-AC56-F3129E42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4818-57DE-40E1-A623-43997DF2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43CF-1880-42FC-B338-30092F54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2B69-A5E6-43DF-A135-A17B6778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A725-055F-4705-B7E7-54B1AE5D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B3F6-10A2-42F1-8364-A2059E30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B50-FD28-45F5-B5F7-39B5137E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7E6E-AD7E-4194-AB69-A4C12D55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14FB-413A-41F9-8005-9D2B9B5C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1DB2-0EBF-4A28-8203-88A9A93F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2FA8-A8FE-4DA5-B0E0-4E1E9CC1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0F68-BF18-45B8-A6A7-23A62016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4A8-E3A9-4E3D-9761-00E2D21B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FEF-E7E9-44F0-868F-63111C78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FCA-6A47-4DEE-85B3-26D12F19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A3F-86E5-4C4A-A007-13CBB93D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7B8-EA77-4B7F-8F69-460FC58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950-92B0-486E-A719-72D9C538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ACD-6B27-4D1F-B194-EAA1DF9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06CE-DA08-418D-9163-14124513A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A49D-1551-4DAA-9645-2B907B5986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3.xml"/><Relationship Id="rId3" Type="http://schemas.openxmlformats.org/officeDocument/2006/relationships/slide" Target="slide6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slide" Target="slide21.xml"/><Relationship Id="rId7" Type="http://schemas.openxmlformats.org/officeDocument/2006/relationships/slide" Target="slide7.xml"/><Relationship Id="rId8" Type="http://schemas.openxmlformats.org/officeDocument/2006/relationships/slide" Target="slide15.xml"/><Relationship Id="rId9" Type="http://schemas.openxmlformats.org/officeDocument/2006/relationships/slide" Target="slide8.xml"/><Relationship Id="rId10" Type="http://schemas.openxmlformats.org/officeDocument/2006/relationships/slide" Target="slide16.xml"/><Relationship Id="rId11" Type="http://schemas.openxmlformats.org/officeDocument/2006/relationships/slide" Target="slide22.xml"/><Relationship Id="rId12" Type="http://schemas.openxmlformats.org/officeDocument/2006/relationships/slide" Target="slide9.xml"/><Relationship Id="rId13" Type="http://schemas.openxmlformats.org/officeDocument/2006/relationships/slide" Target="slide17.xml"/><Relationship Id="rId14" Type="http://schemas.openxmlformats.org/officeDocument/2006/relationships/slide" Target="slide10.xml"/><Relationship Id="rId15" Type="http://schemas.openxmlformats.org/officeDocument/2006/relationships/slide" Target="slide18.xml"/><Relationship Id="rId16" Type="http://schemas.openxmlformats.org/officeDocument/2006/relationships/slide" Target="slide23.xml"/><Relationship Id="rId17" Type="http://schemas.openxmlformats.org/officeDocument/2006/relationships/slide" Target="slide11.xml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057040" y="609480"/>
            <a:ext cx="4724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нкурс виктори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600200" y="249552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92" name="WordArt 7"/>
          <p:cNvSpPr txBox="1"/>
          <p:nvPr/>
        </p:nvSpPr>
        <p:spPr>
          <a:xfrm>
            <a:off x="2133720" y="1523880"/>
            <a:ext cx="42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Зелёное море тайги"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90720" y="2970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У «Лахденпох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9" descr="фотка 043"/>
          <p:cNvPicPr/>
          <p:nvPr/>
        </p:nvPicPr>
        <p:blipFill>
          <a:blip r:embed="rId4"/>
          <a:stretch/>
        </p:blipFill>
        <p:spPr>
          <a:xfrm>
            <a:off x="7315200" y="685800"/>
            <a:ext cx="1579680" cy="1184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5" name="Text Box 10"/>
          <p:cNvSpPr/>
          <p:nvPr/>
        </p:nvSpPr>
        <p:spPr>
          <a:xfrm>
            <a:off x="7208280" y="5137200"/>
            <a:ext cx="19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дрес:18673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. Лахденпохь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л. Садовая 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6.Какие леса являются преимущественно вторичными, появившимися на месте вырубленных лесов или на пожарищах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827360"/>
            <a:ext cx="7464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Смешанные ле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1295280" y="2557440"/>
            <a:ext cx="4595760" cy="30369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6934320" y="54100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14951" y="3837"/>
                </a:moveTo>
                <a:lnTo>
                  <a:pt x="17527" y="6448"/>
                </a:lnTo>
                <a:lnTo>
                  <a:pt x="17527" y="4707"/>
                </a:lnTo>
                <a:lnTo>
                  <a:pt x="19302" y="4707"/>
                </a:lnTo>
                <a:lnTo>
                  <a:pt x="19302" y="8224"/>
                </a:lnTo>
                <a:lnTo>
                  <a:pt x="21913" y="10800"/>
                </a:lnTo>
                <a:lnTo>
                  <a:pt x="20260" y="10800"/>
                </a:lnTo>
                <a:lnTo>
                  <a:pt x="20260" y="17989"/>
                </a:lnTo>
                <a:lnTo>
                  <a:pt x="9641" y="17989"/>
                </a:lnTo>
                <a:lnTo>
                  <a:pt x="9641" y="10800"/>
                </a:lnTo>
                <a:lnTo>
                  <a:pt x="7988" y="10800"/>
                </a:lnTo>
                <a:close/>
              </a:path>
              <a:path fill="darkenLess" w="29901" h="21600">
                <a:moveTo>
                  <a:pt x="17527" y="6448"/>
                </a:moveTo>
                <a:lnTo>
                  <a:pt x="17527" y="4707"/>
                </a:lnTo>
                <a:lnTo>
                  <a:pt x="19302" y="4707"/>
                </a:lnTo>
                <a:lnTo>
                  <a:pt x="19302" y="8224"/>
                </a:lnTo>
                <a:close/>
              </a:path>
              <a:path fill="darkenLess" w="29901" h="21600">
                <a:moveTo>
                  <a:pt x="14028" y="14299"/>
                </a:moveTo>
                <a:lnTo>
                  <a:pt x="15873" y="14299"/>
                </a:lnTo>
                <a:lnTo>
                  <a:pt x="15873" y="17989"/>
                </a:lnTo>
                <a:lnTo>
                  <a:pt x="20260" y="17989"/>
                </a:lnTo>
                <a:lnTo>
                  <a:pt x="20260" y="10800"/>
                </a:lnTo>
                <a:lnTo>
                  <a:pt x="9641" y="10800"/>
                </a:lnTo>
                <a:lnTo>
                  <a:pt x="9641" y="17989"/>
                </a:lnTo>
                <a:lnTo>
                  <a:pt x="1402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7. Сколько крупных родов выделяют в семействе Сосновые? Назовите их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ихта, псевдосуга, ель, лиственница, сосн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2862000" cy="224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5181480" y="3403440"/>
            <a:ext cx="2971800" cy="24210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7"/>
          <p:cNvSpPr/>
          <p:nvPr/>
        </p:nvSpPr>
        <p:spPr>
          <a:xfrm>
            <a:off x="7620120" y="601992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8. Пихта –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bies Mill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– научное название рода происходит от греческих слов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ie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ies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, что значит … </a:t>
            </a: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всегда жить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…Где в карельской тайге 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встречается это дерево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426708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Сортавал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4724280" y="5638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12144" y="3837"/>
                </a:moveTo>
                <a:lnTo>
                  <a:pt x="14721" y="6448"/>
                </a:lnTo>
                <a:lnTo>
                  <a:pt x="14721" y="4707"/>
                </a:lnTo>
                <a:lnTo>
                  <a:pt x="16496" y="4707"/>
                </a:lnTo>
                <a:lnTo>
                  <a:pt x="16496" y="8224"/>
                </a:lnTo>
                <a:lnTo>
                  <a:pt x="19107" y="10800"/>
                </a:lnTo>
                <a:lnTo>
                  <a:pt x="17454" y="10800"/>
                </a:lnTo>
                <a:lnTo>
                  <a:pt x="17454" y="17989"/>
                </a:lnTo>
                <a:lnTo>
                  <a:pt x="6835" y="17989"/>
                </a:lnTo>
                <a:lnTo>
                  <a:pt x="6835" y="10800"/>
                </a:lnTo>
                <a:lnTo>
                  <a:pt x="5181" y="10800"/>
                </a:lnTo>
                <a:close/>
              </a:path>
              <a:path fill="darkenLess" w="24289" h="21600">
                <a:moveTo>
                  <a:pt x="14721" y="6448"/>
                </a:moveTo>
                <a:lnTo>
                  <a:pt x="14721" y="4707"/>
                </a:lnTo>
                <a:lnTo>
                  <a:pt x="16496" y="4707"/>
                </a:lnTo>
                <a:lnTo>
                  <a:pt x="16496" y="8224"/>
                </a:lnTo>
                <a:close/>
              </a:path>
              <a:path fill="darkenLess" w="24289" h="21600">
                <a:moveTo>
                  <a:pt x="11222" y="14299"/>
                </a:moveTo>
                <a:lnTo>
                  <a:pt x="13067" y="14299"/>
                </a:lnTo>
                <a:lnTo>
                  <a:pt x="13067" y="17989"/>
                </a:lnTo>
                <a:lnTo>
                  <a:pt x="17454" y="17989"/>
                </a:lnTo>
                <a:lnTo>
                  <a:pt x="17454" y="10800"/>
                </a:lnTo>
                <a:lnTo>
                  <a:pt x="6835" y="10800"/>
                </a:lnTo>
                <a:lnTo>
                  <a:pt x="6835" y="17989"/>
                </a:lnTo>
                <a:lnTo>
                  <a:pt x="1122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178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9.Научное название этого дерева –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Picea </a:t>
            </a: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– происходит от греческого слова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pissa</a:t>
            </a: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, что значит смола. Назовите это дерево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2895480"/>
            <a:ext cx="21351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Ел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579400" cy="35812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990720" y="495288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4" h="21600">
                <a:moveTo>
                  <a:pt x="13287" y="3837"/>
                </a:moveTo>
                <a:lnTo>
                  <a:pt x="15863" y="6448"/>
                </a:lnTo>
                <a:lnTo>
                  <a:pt x="15863" y="4707"/>
                </a:lnTo>
                <a:lnTo>
                  <a:pt x="17639" y="4707"/>
                </a:lnTo>
                <a:lnTo>
                  <a:pt x="17639" y="8224"/>
                </a:lnTo>
                <a:lnTo>
                  <a:pt x="20250" y="10800"/>
                </a:lnTo>
                <a:lnTo>
                  <a:pt x="18596" y="10800"/>
                </a:lnTo>
                <a:lnTo>
                  <a:pt x="18596" y="17989"/>
                </a:lnTo>
                <a:lnTo>
                  <a:pt x="7978" y="17989"/>
                </a:lnTo>
                <a:lnTo>
                  <a:pt x="7978" y="10800"/>
                </a:lnTo>
                <a:lnTo>
                  <a:pt x="6324" y="10800"/>
                </a:lnTo>
                <a:close/>
              </a:path>
              <a:path fill="darkenLess" w="26574" h="21600">
                <a:moveTo>
                  <a:pt x="15863" y="6448"/>
                </a:moveTo>
                <a:lnTo>
                  <a:pt x="15863" y="4707"/>
                </a:lnTo>
                <a:lnTo>
                  <a:pt x="17639" y="4707"/>
                </a:lnTo>
                <a:lnTo>
                  <a:pt x="17639" y="8224"/>
                </a:lnTo>
                <a:close/>
              </a:path>
              <a:path fill="darkenLess" w="26574" h="21600">
                <a:moveTo>
                  <a:pt x="12365" y="14299"/>
                </a:moveTo>
                <a:lnTo>
                  <a:pt x="14210" y="14299"/>
                </a:lnTo>
                <a:lnTo>
                  <a:pt x="14210" y="17989"/>
                </a:lnTo>
                <a:lnTo>
                  <a:pt x="18596" y="17989"/>
                </a:lnTo>
                <a:lnTo>
                  <a:pt x="18596" y="10800"/>
                </a:lnTo>
                <a:lnTo>
                  <a:pt x="7978" y="10800"/>
                </a:lnTo>
                <a:lnTo>
                  <a:pt x="7978" y="17989"/>
                </a:lnTo>
                <a:lnTo>
                  <a:pt x="12365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31376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0.В 1833 г. знаменитый ботаник во флоре Алтая описал ель сибирскую, как самостоятельный вид. Назовите имя этого учёного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Ледебу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Ледебур стремился создать максимально полный сводный труд по систематике растений России. Этому должна была способствовать и его экспедиция на Алтай и в Восточный Казахстан средства на которую выделили Дерптский университет и министр финансов Е. Ф. Канкрин. В экспедиции участвовали ученики Ледебура А. Бунге и К. Мейер. Это была первая ботаническая экспедиция, обследовавшая весь Алтай. Растительность Восточного и Центрального Алтая никто до экспедиции Ледебура ещё не изучал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444760" cy="2934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7772400" y="55627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9608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1. . Эта ель получила своё название в честь знаменитого немецкого врача и ботаника, профессора Угрехгского и Берлинского университета. Назовите эту ель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Ель Энгольман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2997000" cy="44956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7"/>
          <p:cNvSpPr/>
          <p:nvPr/>
        </p:nvSpPr>
        <p:spPr>
          <a:xfrm>
            <a:off x="1143000" y="525780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3745" y="3837"/>
                </a:moveTo>
                <a:lnTo>
                  <a:pt x="16321" y="6448"/>
                </a:lnTo>
                <a:lnTo>
                  <a:pt x="16321" y="4707"/>
                </a:lnTo>
                <a:lnTo>
                  <a:pt x="18096" y="4707"/>
                </a:lnTo>
                <a:lnTo>
                  <a:pt x="18096" y="8224"/>
                </a:lnTo>
                <a:lnTo>
                  <a:pt x="20708" y="10800"/>
                </a:lnTo>
                <a:lnTo>
                  <a:pt x="19054" y="10800"/>
                </a:lnTo>
                <a:lnTo>
                  <a:pt x="19054" y="17989"/>
                </a:lnTo>
                <a:lnTo>
                  <a:pt x="8435" y="17989"/>
                </a:lnTo>
                <a:lnTo>
                  <a:pt x="8435" y="10800"/>
                </a:lnTo>
                <a:lnTo>
                  <a:pt x="6782" y="10800"/>
                </a:lnTo>
                <a:close/>
              </a:path>
              <a:path fill="darkenLess" w="27489" h="21600">
                <a:moveTo>
                  <a:pt x="16321" y="6448"/>
                </a:moveTo>
                <a:lnTo>
                  <a:pt x="16321" y="4707"/>
                </a:lnTo>
                <a:lnTo>
                  <a:pt x="18096" y="4707"/>
                </a:lnTo>
                <a:lnTo>
                  <a:pt x="18096" y="8224"/>
                </a:lnTo>
                <a:close/>
              </a:path>
              <a:path fill="darkenLess" w="27489" h="21600">
                <a:moveTo>
                  <a:pt x="12822" y="14299"/>
                </a:moveTo>
                <a:lnTo>
                  <a:pt x="14667" y="14299"/>
                </a:lnTo>
                <a:lnTo>
                  <a:pt x="14667" y="17989"/>
                </a:lnTo>
                <a:lnTo>
                  <a:pt x="19054" y="17989"/>
                </a:lnTo>
                <a:lnTo>
                  <a:pt x="19054" y="10800"/>
                </a:lnTo>
                <a:lnTo>
                  <a:pt x="8435" y="10800"/>
                </a:lnTo>
                <a:lnTo>
                  <a:pt x="8435" y="17989"/>
                </a:lnTo>
                <a:lnTo>
                  <a:pt x="1282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6952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2. Этот вид ели можно встретить только в коллекционных питомниках. Её родина – Северная Япония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Ель Гле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124080" y="2971800"/>
            <a:ext cx="5410440" cy="360504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5"/>
          <p:cNvSpPr/>
          <p:nvPr/>
        </p:nvSpPr>
        <p:spPr>
          <a:xfrm>
            <a:off x="914400" y="54864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3837"/>
                </a:moveTo>
                <a:lnTo>
                  <a:pt x="16075" y="6448"/>
                </a:lnTo>
                <a:lnTo>
                  <a:pt x="16075" y="4707"/>
                </a:lnTo>
                <a:lnTo>
                  <a:pt x="17851" y="4707"/>
                </a:lnTo>
                <a:lnTo>
                  <a:pt x="17851" y="8224"/>
                </a:lnTo>
                <a:lnTo>
                  <a:pt x="20462" y="10800"/>
                </a:lnTo>
                <a:lnTo>
                  <a:pt x="18808" y="10800"/>
                </a:lnTo>
                <a:lnTo>
                  <a:pt x="18808" y="17989"/>
                </a:lnTo>
                <a:lnTo>
                  <a:pt x="8190" y="17989"/>
                </a:lnTo>
                <a:lnTo>
                  <a:pt x="8190" y="10800"/>
                </a:lnTo>
                <a:lnTo>
                  <a:pt x="6536" y="10800"/>
                </a:lnTo>
                <a:close/>
              </a:path>
              <a:path fill="darkenLess" w="26998" h="21600">
                <a:moveTo>
                  <a:pt x="16075" y="6448"/>
                </a:moveTo>
                <a:lnTo>
                  <a:pt x="16075" y="4707"/>
                </a:lnTo>
                <a:lnTo>
                  <a:pt x="17851" y="4707"/>
                </a:lnTo>
                <a:lnTo>
                  <a:pt x="17851" y="8224"/>
                </a:lnTo>
                <a:close/>
              </a:path>
              <a:path fill="darkenLess" w="26998" h="21600">
                <a:moveTo>
                  <a:pt x="12576" y="14299"/>
                </a:moveTo>
                <a:lnTo>
                  <a:pt x="14422" y="14299"/>
                </a:lnTo>
                <a:lnTo>
                  <a:pt x="14422" y="17989"/>
                </a:lnTo>
                <a:lnTo>
                  <a:pt x="18808" y="17989"/>
                </a:lnTo>
                <a:lnTo>
                  <a:pt x="18808" y="10800"/>
                </a:lnTo>
                <a:lnTo>
                  <a:pt x="8190" y="10800"/>
                </a:lnTo>
                <a:lnTo>
                  <a:pt x="8190" y="17989"/>
                </a:lnTo>
                <a:lnTo>
                  <a:pt x="12576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4952880" cy="58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3. Научное название этого дерева рода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Larix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вязано с большой смолистостью дерева, так как происходит от латинского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Lardum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, что означает жир. В Карелии встречается один вид этого дерева, в Пудожском районе. Что это за дерево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2819160"/>
            <a:ext cx="7313760" cy="32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76876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095880" y="426708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иственница Сукачева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arix sikaczewii Dylis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составе смешанных хвойных лесов (17 тыс. га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7696080" y="57913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3837"/>
                </a:moveTo>
                <a:lnTo>
                  <a:pt x="16326" y="6448"/>
                </a:lnTo>
                <a:lnTo>
                  <a:pt x="16326" y="4707"/>
                </a:lnTo>
                <a:lnTo>
                  <a:pt x="18101" y="4707"/>
                </a:lnTo>
                <a:lnTo>
                  <a:pt x="18101" y="8224"/>
                </a:lnTo>
                <a:lnTo>
                  <a:pt x="20712" y="10800"/>
                </a:lnTo>
                <a:lnTo>
                  <a:pt x="19059" y="10800"/>
                </a:lnTo>
                <a:lnTo>
                  <a:pt x="19059" y="17989"/>
                </a:lnTo>
                <a:lnTo>
                  <a:pt x="8440" y="17989"/>
                </a:lnTo>
                <a:lnTo>
                  <a:pt x="8440" y="10800"/>
                </a:lnTo>
                <a:lnTo>
                  <a:pt x="6786" y="10800"/>
                </a:lnTo>
                <a:close/>
              </a:path>
              <a:path fill="darkenLess" w="27498" h="21600">
                <a:moveTo>
                  <a:pt x="16326" y="6448"/>
                </a:moveTo>
                <a:lnTo>
                  <a:pt x="16326" y="4707"/>
                </a:lnTo>
                <a:lnTo>
                  <a:pt x="18101" y="4707"/>
                </a:lnTo>
                <a:lnTo>
                  <a:pt x="18101" y="8224"/>
                </a:lnTo>
                <a:close/>
              </a:path>
              <a:path fill="darkenLess" w="27498" h="21600">
                <a:moveTo>
                  <a:pt x="12827" y="14299"/>
                </a:moveTo>
                <a:lnTo>
                  <a:pt x="14672" y="14299"/>
                </a:lnTo>
                <a:lnTo>
                  <a:pt x="14672" y="17989"/>
                </a:lnTo>
                <a:lnTo>
                  <a:pt x="19059" y="17989"/>
                </a:lnTo>
                <a:lnTo>
                  <a:pt x="19059" y="10800"/>
                </a:lnTo>
                <a:lnTo>
                  <a:pt x="8440" y="10800"/>
                </a:lnTo>
                <a:lnTo>
                  <a:pt x="8440" y="17989"/>
                </a:lnTo>
                <a:lnTo>
                  <a:pt x="1282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8469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4. Научное название рода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inus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сосна), происходит от кельтского слова «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in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», что значит «скала». В связи с чем её так назвали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2362320"/>
            <a:ext cx="5410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о связано с местом обитания. Сосна часто растет на скалах и песчаных почвах. Не требовательна к плодородию поч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962520" cy="403848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/>
          <p:cNvSpPr/>
          <p:nvPr/>
        </p:nvSpPr>
        <p:spPr>
          <a:xfrm>
            <a:off x="7772400" y="60199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57440" y="-2590920"/>
            <a:ext cx="3429000" cy="883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15. В Западной Европе это дерево называют «деревом жизни», на родине – в Северной Америке – «американским деревом жизни» или « северным белым кедром». Это дерево встречается и в Карельской тайге.  Что это за дерево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Туя Запад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2435400" cy="36068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520" y="5715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838080" y="228600"/>
            <a:ext cx="8001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втор викторины Анастасия Иванюшин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228600" y="4267080"/>
            <a:ext cx="4191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еница 7 а клас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ахденпохской средней школы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4114800" y="3200400"/>
            <a:ext cx="4800600" cy="32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ководител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тонин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лаевн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йбуло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учитель географии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10" descr="P1010188"/>
          <p:cNvPicPr/>
          <p:nvPr/>
        </p:nvPicPr>
        <p:blipFill>
          <a:blip r:embed="rId1"/>
          <a:srcRect l="14635" t="0" r="12202" b="0"/>
          <a:stretch/>
        </p:blipFill>
        <p:spPr>
          <a:xfrm>
            <a:off x="990720" y="1600200"/>
            <a:ext cx="2286000" cy="2343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1" name="Picture 11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249560" cy="144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4190760" cy="579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16. Особенно любит он старые гари, лесосеки, побережья лесных рек и озер, болотистые топи. Питаются молодой хвоей, древесной листвой, побегами, корой деревьев и кустарников и околоводными растениями! Поражает способность этих больших зверей жить в болотах, нередко в настоящих трясинах, где не пройдет ни лошадь, ни человек. Что это за животное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5486400" y="609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00320" cy="376056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6"/>
          <p:cNvSpPr/>
          <p:nvPr/>
        </p:nvSpPr>
        <p:spPr>
          <a:xfrm>
            <a:off x="7696080" y="5638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14038" y="3837"/>
                </a:moveTo>
                <a:lnTo>
                  <a:pt x="16614" y="6448"/>
                </a:lnTo>
                <a:lnTo>
                  <a:pt x="16614" y="4707"/>
                </a:lnTo>
                <a:lnTo>
                  <a:pt x="18390" y="4707"/>
                </a:lnTo>
                <a:lnTo>
                  <a:pt x="18390" y="8224"/>
                </a:lnTo>
                <a:lnTo>
                  <a:pt x="21001" y="10800"/>
                </a:lnTo>
                <a:lnTo>
                  <a:pt x="19347" y="10800"/>
                </a:lnTo>
                <a:lnTo>
                  <a:pt x="19347" y="17989"/>
                </a:lnTo>
                <a:lnTo>
                  <a:pt x="8729" y="17989"/>
                </a:lnTo>
                <a:lnTo>
                  <a:pt x="8729" y="10800"/>
                </a:lnTo>
                <a:lnTo>
                  <a:pt x="7075" y="10800"/>
                </a:lnTo>
                <a:close/>
              </a:path>
              <a:path fill="darkenLess" w="28076" h="21600">
                <a:moveTo>
                  <a:pt x="16614" y="6448"/>
                </a:moveTo>
                <a:lnTo>
                  <a:pt x="16614" y="4707"/>
                </a:lnTo>
                <a:lnTo>
                  <a:pt x="18390" y="4707"/>
                </a:lnTo>
                <a:lnTo>
                  <a:pt x="18390" y="8224"/>
                </a:lnTo>
                <a:close/>
              </a:path>
              <a:path fill="darkenLess" w="28076" h="21600">
                <a:moveTo>
                  <a:pt x="13115" y="14299"/>
                </a:moveTo>
                <a:lnTo>
                  <a:pt x="14961" y="14299"/>
                </a:lnTo>
                <a:lnTo>
                  <a:pt x="14961" y="17989"/>
                </a:lnTo>
                <a:lnTo>
                  <a:pt x="19347" y="17989"/>
                </a:lnTo>
                <a:lnTo>
                  <a:pt x="19347" y="10800"/>
                </a:lnTo>
                <a:lnTo>
                  <a:pt x="8729" y="10800"/>
                </a:lnTo>
                <a:lnTo>
                  <a:pt x="8729" y="17989"/>
                </a:lnTo>
                <a:lnTo>
                  <a:pt x="13115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7. Почему в тайге много комаров и других кровососущих?   Как называется это явление?                 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411480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ля их развития условия там благоприятны : личинки выводятся и развиваются в многочисленных болотах, озерах и других водоемах; обычное в тайге безветрие способствует их развитию. в тайге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о явление называется гнус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6400800" y="914400"/>
            <a:ext cx="2620800" cy="327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2705040" cy="1925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7"/>
          <p:cNvSpPr/>
          <p:nvPr/>
        </p:nvSpPr>
        <p:spPr>
          <a:xfrm>
            <a:off x="74674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14721" y="3837"/>
                </a:moveTo>
                <a:lnTo>
                  <a:pt x="17298" y="6448"/>
                </a:lnTo>
                <a:lnTo>
                  <a:pt x="17298" y="4707"/>
                </a:lnTo>
                <a:lnTo>
                  <a:pt x="19073" y="4707"/>
                </a:lnTo>
                <a:lnTo>
                  <a:pt x="19073" y="8224"/>
                </a:lnTo>
                <a:lnTo>
                  <a:pt x="21684" y="10800"/>
                </a:lnTo>
                <a:lnTo>
                  <a:pt x="20031" y="10800"/>
                </a:lnTo>
                <a:lnTo>
                  <a:pt x="20031" y="17989"/>
                </a:lnTo>
                <a:lnTo>
                  <a:pt x="9412" y="17989"/>
                </a:lnTo>
                <a:lnTo>
                  <a:pt x="9412" y="10800"/>
                </a:lnTo>
                <a:lnTo>
                  <a:pt x="7758" y="10800"/>
                </a:lnTo>
                <a:close/>
              </a:path>
              <a:path fill="darkenLess" w="29443" h="21600">
                <a:moveTo>
                  <a:pt x="17298" y="6448"/>
                </a:moveTo>
                <a:lnTo>
                  <a:pt x="17298" y="4707"/>
                </a:lnTo>
                <a:lnTo>
                  <a:pt x="19073" y="4707"/>
                </a:lnTo>
                <a:lnTo>
                  <a:pt x="19073" y="8224"/>
                </a:lnTo>
                <a:close/>
              </a:path>
              <a:path fill="darkenLess" w="29443" h="21600">
                <a:moveTo>
                  <a:pt x="13799" y="14299"/>
                </a:moveTo>
                <a:lnTo>
                  <a:pt x="15644" y="14299"/>
                </a:lnTo>
                <a:lnTo>
                  <a:pt x="15644" y="17989"/>
                </a:lnTo>
                <a:lnTo>
                  <a:pt x="20031" y="17989"/>
                </a:lnTo>
                <a:lnTo>
                  <a:pt x="20031" y="10800"/>
                </a:lnTo>
                <a:lnTo>
                  <a:pt x="9412" y="10800"/>
                </a:lnTo>
                <a:lnTo>
                  <a:pt x="9412" y="17989"/>
                </a:lnTo>
                <a:lnTo>
                  <a:pt x="1379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8. В тайге обитают различные виды птиц. Среди них есть  ночные птицы. Эта птица охотится и в дневное время. Питаются эти таёжные птицы мелкими и средними млекопитающими и птицами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то это за птицы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04960" y="5181480"/>
            <a:ext cx="19047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В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532560" y="2895480"/>
            <a:ext cx="2433600" cy="35816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5"/>
          <p:cNvSpPr/>
          <p:nvPr/>
        </p:nvSpPr>
        <p:spPr>
          <a:xfrm>
            <a:off x="990720" y="51055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14124" y="3837"/>
                </a:moveTo>
                <a:lnTo>
                  <a:pt x="16700" y="6448"/>
                </a:lnTo>
                <a:lnTo>
                  <a:pt x="16700" y="4707"/>
                </a:lnTo>
                <a:lnTo>
                  <a:pt x="18476" y="4707"/>
                </a:lnTo>
                <a:lnTo>
                  <a:pt x="18476" y="8224"/>
                </a:lnTo>
                <a:lnTo>
                  <a:pt x="21087" y="10800"/>
                </a:lnTo>
                <a:lnTo>
                  <a:pt x="19433" y="10800"/>
                </a:lnTo>
                <a:lnTo>
                  <a:pt x="19433" y="17989"/>
                </a:lnTo>
                <a:lnTo>
                  <a:pt x="8815" y="17989"/>
                </a:lnTo>
                <a:lnTo>
                  <a:pt x="8815" y="10800"/>
                </a:lnTo>
                <a:lnTo>
                  <a:pt x="7161" y="10800"/>
                </a:lnTo>
                <a:close/>
              </a:path>
              <a:path fill="darkenLess" w="28248" h="21600">
                <a:moveTo>
                  <a:pt x="16700" y="6448"/>
                </a:moveTo>
                <a:lnTo>
                  <a:pt x="16700" y="4707"/>
                </a:lnTo>
                <a:lnTo>
                  <a:pt x="18476" y="4707"/>
                </a:lnTo>
                <a:lnTo>
                  <a:pt x="18476" y="8224"/>
                </a:lnTo>
                <a:close/>
              </a:path>
              <a:path fill="darkenLess" w="28248" h="21600">
                <a:moveTo>
                  <a:pt x="13201" y="14299"/>
                </a:moveTo>
                <a:lnTo>
                  <a:pt x="15047" y="14299"/>
                </a:lnTo>
                <a:lnTo>
                  <a:pt x="15047" y="17989"/>
                </a:lnTo>
                <a:lnTo>
                  <a:pt x="19433" y="17989"/>
                </a:lnTo>
                <a:lnTo>
                  <a:pt x="19433" y="10800"/>
                </a:lnTo>
                <a:lnTo>
                  <a:pt x="8815" y="10800"/>
                </a:lnTo>
                <a:lnTo>
                  <a:pt x="8815" y="17989"/>
                </a:lnTo>
                <a:lnTo>
                  <a:pt x="13201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4191120"/>
            <a:ext cx="3124080" cy="25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19. Это самая крупная птица подсемейства тетеревиных. От других представителей подсемейства отличается сильно округлённым хвостом и удлинёнными перьями на горле. Обитает в хвойных, смешанных и лиственных лесах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Размер самцов достигает 110 см и более, размах крыльев — 1,4 м, а масса — 4,1—6,5 кг. Самки заметно меньше — на 1/3, весит в среднем 2 кг.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3809880" cy="2543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486400" y="533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ухар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3714840" cy="27144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8"/>
          <p:cNvSpPr/>
          <p:nvPr/>
        </p:nvSpPr>
        <p:spPr>
          <a:xfrm>
            <a:off x="830592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0. Этот зверь обычно живет в сплошных лесных массивах. Держится обычно одиночно. Самцы и самки территориальны, индивидуальный участок в среднем занимает от 73 до 414 квадратных км. Животное всеядное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860400" y="541008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двед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7543800" y="58672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13495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4" y="10800"/>
                </a:lnTo>
                <a:lnTo>
                  <a:pt x="18804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2" y="10800"/>
                </a:lnTo>
                <a:close/>
              </a:path>
              <a:path fill="darkenLess" w="26990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0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4" y="17989"/>
                </a:lnTo>
                <a:lnTo>
                  <a:pt x="18804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600200" y="3048120"/>
            <a:ext cx="6438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ак работать  с викторино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брать номер вопрос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Щелчком мыши проверить свой ответ с правильны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ернуться по кнопке к вопросам викторин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752480"/>
            <a:ext cx="663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1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9.    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2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10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 action="ppaction://hlinksldjump"/>
              </a:rPr>
              <a:t>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6" action="ppaction://hlinksldjump"/>
              </a:rPr>
              <a:t>17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7" action="ppaction://hlinksldjump"/>
              </a:rPr>
              <a:t>3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8" action="ppaction://hlinksldjump"/>
              </a:rPr>
              <a:t>11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9" action="ppaction://hlinksldjump"/>
              </a:rPr>
              <a:t>4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0" action="ppaction://hlinksldjump"/>
              </a:rPr>
              <a:t>12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1" action="ppaction://hlinksldjump"/>
              </a:rPr>
              <a:t>18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2" action="ppaction://hlinksldjump"/>
              </a:rPr>
              <a:t>5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3" action="ppaction://hlinksldjump"/>
              </a:rPr>
              <a:t>13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4" action="ppaction://hlinksldjump"/>
              </a:rPr>
              <a:t>6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5" action="ppaction://hlinksldjump"/>
              </a:rPr>
              <a:t>14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6" action="ppaction://hlinksldjump"/>
              </a:rPr>
              <a:t>19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7" action="ppaction://hlinksldjump"/>
              </a:rPr>
              <a:t>7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15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8.            16.                 20.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3505320" y="533520"/>
            <a:ext cx="2361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прос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990720" y="380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а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. На какие подзоны делится тайга?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Северная и средня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2795760" cy="184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2590920" cy="19512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6"/>
          <p:cNvSpPr/>
          <p:nvPr/>
        </p:nvSpPr>
        <p:spPr>
          <a:xfrm>
            <a:off x="7772400" y="57150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3882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2. Назовите преобладающий тип растительности тайги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Хвойные леса – 50%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82296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2419200" y="3048120"/>
            <a:ext cx="3345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3. . В каком лесу подлесок почти полностью отсутствует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Сосновый лес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2394000" cy="39243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7"/>
          <p:cNvSpPr/>
          <p:nvPr/>
        </p:nvSpPr>
        <p:spPr>
          <a:xfrm>
            <a:off x="74674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2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2" y="20200"/>
                </a:lnTo>
                <a:lnTo>
                  <a:pt x="33682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2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2" h="21600">
                <a:moveTo>
                  <a:pt x="17541" y="3837"/>
                </a:moveTo>
                <a:lnTo>
                  <a:pt x="20118" y="6448"/>
                </a:lnTo>
                <a:lnTo>
                  <a:pt x="20118" y="4707"/>
                </a:lnTo>
                <a:lnTo>
                  <a:pt x="21893" y="4707"/>
                </a:lnTo>
                <a:lnTo>
                  <a:pt x="21893" y="8224"/>
                </a:lnTo>
                <a:lnTo>
                  <a:pt x="24504" y="10800"/>
                </a:lnTo>
                <a:lnTo>
                  <a:pt x="22850" y="10800"/>
                </a:lnTo>
                <a:lnTo>
                  <a:pt x="22850" y="17989"/>
                </a:lnTo>
                <a:lnTo>
                  <a:pt x="12232" y="17989"/>
                </a:lnTo>
                <a:lnTo>
                  <a:pt x="12232" y="10800"/>
                </a:lnTo>
                <a:lnTo>
                  <a:pt x="10578" y="10800"/>
                </a:lnTo>
                <a:close/>
              </a:path>
              <a:path fill="darkenLess" w="35082" h="21600">
                <a:moveTo>
                  <a:pt x="20118" y="6448"/>
                </a:moveTo>
                <a:lnTo>
                  <a:pt x="20118" y="4707"/>
                </a:lnTo>
                <a:lnTo>
                  <a:pt x="21893" y="4707"/>
                </a:lnTo>
                <a:lnTo>
                  <a:pt x="21893" y="8224"/>
                </a:lnTo>
                <a:close/>
              </a:path>
              <a:path fill="darkenLess" w="35082" h="21600">
                <a:moveTo>
                  <a:pt x="16619" y="14299"/>
                </a:moveTo>
                <a:lnTo>
                  <a:pt x="18464" y="14299"/>
                </a:lnTo>
                <a:lnTo>
                  <a:pt x="18464" y="17989"/>
                </a:lnTo>
                <a:lnTo>
                  <a:pt x="22850" y="17989"/>
                </a:lnTo>
                <a:lnTo>
                  <a:pt x="22850" y="10800"/>
                </a:lnTo>
                <a:lnTo>
                  <a:pt x="12232" y="10800"/>
                </a:lnTo>
                <a:lnTo>
                  <a:pt x="12232" y="17989"/>
                </a:lnTo>
                <a:lnTo>
                  <a:pt x="1661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2"/>
          <a:stretch/>
        </p:blipFill>
        <p:spPr>
          <a:xfrm>
            <a:off x="4902120" y="29718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5405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4. В какой зоне тайги лежит город Лахденпохья?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Средняя тайг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460840" cy="40770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8"/>
          <p:cNvSpPr/>
          <p:nvPr/>
        </p:nvSpPr>
        <p:spPr>
          <a:xfrm>
            <a:off x="7772400" y="518148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3837"/>
                </a:moveTo>
                <a:lnTo>
                  <a:pt x="16075" y="6448"/>
                </a:lnTo>
                <a:lnTo>
                  <a:pt x="16075" y="4707"/>
                </a:lnTo>
                <a:lnTo>
                  <a:pt x="17851" y="4707"/>
                </a:lnTo>
                <a:lnTo>
                  <a:pt x="17851" y="8224"/>
                </a:lnTo>
                <a:lnTo>
                  <a:pt x="20462" y="10800"/>
                </a:lnTo>
                <a:lnTo>
                  <a:pt x="18808" y="10800"/>
                </a:lnTo>
                <a:lnTo>
                  <a:pt x="18808" y="17989"/>
                </a:lnTo>
                <a:lnTo>
                  <a:pt x="8190" y="17989"/>
                </a:lnTo>
                <a:lnTo>
                  <a:pt x="8190" y="10800"/>
                </a:lnTo>
                <a:lnTo>
                  <a:pt x="6536" y="10800"/>
                </a:lnTo>
                <a:close/>
              </a:path>
              <a:path fill="darkenLess" w="26998" h="21600">
                <a:moveTo>
                  <a:pt x="16075" y="6448"/>
                </a:moveTo>
                <a:lnTo>
                  <a:pt x="16075" y="4707"/>
                </a:lnTo>
                <a:lnTo>
                  <a:pt x="17851" y="4707"/>
                </a:lnTo>
                <a:lnTo>
                  <a:pt x="17851" y="8224"/>
                </a:lnTo>
                <a:close/>
              </a:path>
              <a:path fill="darkenLess" w="26998" h="21600">
                <a:moveTo>
                  <a:pt x="12576" y="14299"/>
                </a:moveTo>
                <a:lnTo>
                  <a:pt x="14422" y="14299"/>
                </a:lnTo>
                <a:lnTo>
                  <a:pt x="14422" y="17989"/>
                </a:lnTo>
                <a:lnTo>
                  <a:pt x="18808" y="17989"/>
                </a:lnTo>
                <a:lnTo>
                  <a:pt x="18808" y="10800"/>
                </a:lnTo>
                <a:lnTo>
                  <a:pt x="8190" y="10800"/>
                </a:lnTo>
                <a:lnTo>
                  <a:pt x="8190" y="17989"/>
                </a:lnTo>
                <a:lnTo>
                  <a:pt x="12576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юшина Анастс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5. . Какой тип леса характеризуется низким качеством древесины?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Еловый лес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7696080" y="5334120"/>
            <a:ext cx="1219320" cy="12189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6" h="21600">
                <a:moveTo>
                  <a:pt x="10803" y="3837"/>
                </a:moveTo>
                <a:lnTo>
                  <a:pt x="13379" y="6448"/>
                </a:lnTo>
                <a:lnTo>
                  <a:pt x="13379" y="4707"/>
                </a:lnTo>
                <a:lnTo>
                  <a:pt x="15155" y="4707"/>
                </a:lnTo>
                <a:lnTo>
                  <a:pt x="15155" y="8224"/>
                </a:lnTo>
                <a:lnTo>
                  <a:pt x="17766" y="10800"/>
                </a:lnTo>
                <a:lnTo>
                  <a:pt x="16112" y="10800"/>
                </a:lnTo>
                <a:lnTo>
                  <a:pt x="16112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0" y="10800"/>
                </a:lnTo>
                <a:close/>
              </a:path>
              <a:path fill="darkenLess" w="21606" h="21600">
                <a:moveTo>
                  <a:pt x="13379" y="6448"/>
                </a:moveTo>
                <a:lnTo>
                  <a:pt x="13379" y="4707"/>
                </a:lnTo>
                <a:lnTo>
                  <a:pt x="15155" y="4707"/>
                </a:lnTo>
                <a:lnTo>
                  <a:pt x="15155" y="8224"/>
                </a:lnTo>
                <a:close/>
              </a:path>
              <a:path fill="darkenLess" w="21606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2" y="17989"/>
                </a:lnTo>
                <a:lnTo>
                  <a:pt x="16112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351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бильный</dc:creator>
  <dc:description/>
  <dc:language>en-US</dc:language>
  <cp:lastModifiedBy>Мобильный</cp:lastModifiedBy>
  <dcterms:modified xsi:type="dcterms:W3CDTF">2015-03-03T15:59:5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