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0F3-7F5D-4EE3-8510-D35F91BC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817-DDCC-4D9F-88C6-707A953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8D7-994F-4CD7-BCA8-5B0571D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45B-1FE4-4E70-A819-ACD60210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731-AB4D-4799-869D-A2D660E9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F32-466C-4C15-8966-91DE0B9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3CB-1FC7-4B8E-B837-5D52748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9C2-2A60-4B8B-AE93-B726DB6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4B2-0EE7-4873-8234-C38DB40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18D-01AF-4DD0-A595-AE8B098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015-D938-4B47-BA03-1F1D254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4CC-B063-4CF7-B8A0-27F4307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84D-3D23-4F6F-BE21-4A63C5C66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вечн"/>
          <p:cNvPicPr/>
          <p:nvPr/>
        </p:nvPicPr>
        <p:blipFill>
          <a:blip r:embed="rId1"/>
          <a:stretch/>
        </p:blipFill>
        <p:spPr>
          <a:xfrm>
            <a:off x="-181080" y="-214200"/>
            <a:ext cx="9506160" cy="728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zagolovok"/>
          <p:cNvPicPr/>
          <p:nvPr/>
        </p:nvPicPr>
        <p:blipFill>
          <a:blip r:embed="rId2"/>
          <a:stretch/>
        </p:blipFill>
        <p:spPr>
          <a:xfrm>
            <a:off x="0" y="5229360"/>
            <a:ext cx="8964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обеда.wmv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4467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1\Фото-003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User\Desktop\1\Фото-0039.jpg"/>
          <p:cNvPicPr/>
          <p:nvPr/>
        </p:nvPicPr>
        <p:blipFill>
          <a:blip r:embed="rId1"/>
          <a:stretch/>
        </p:blipFill>
        <p:spPr>
          <a:xfrm>
            <a:off x="324000" y="380880"/>
            <a:ext cx="8569080" cy="6096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-594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726444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539640" y="5445000"/>
            <a:ext cx="8280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 праздником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Детские песни - Солнечный круг.mp3" descr=""/>
          <p:cNvPicPr/>
          <p:nvPr/>
        </p:nvPicPr>
        <p:blipFill>
          <a:blip r:embed="rId4"/>
          <a:stretch/>
        </p:blipFill>
        <p:spPr>
          <a:xfrm>
            <a:off x="8675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 rot="465000">
            <a:off x="4211280" y="333000"/>
            <a:ext cx="4392720" cy="604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84360" y="746280"/>
            <a:ext cx="7704000" cy="53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ВОЙНА\75487332_artlib_gallery23941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Sofiya_Rotaru-Legkiy_shkol'niy_val's_(voennie_pesni)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14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 rot="20668200">
            <a:off x="55080" y="4247640"/>
            <a:ext cx="4284720" cy="23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Бомбежк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24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адио.wmv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8975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ire"/>
          <p:cNvPicPr/>
          <p:nvPr/>
        </p:nvPicPr>
        <p:blipFill>
          <a:blip r:embed="rId1"/>
          <a:stretch/>
        </p:blipFill>
        <p:spPr>
          <a:xfrm>
            <a:off x="1042920" y="4292640"/>
            <a:ext cx="2772000" cy="270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ire"/>
          <p:cNvPicPr/>
          <p:nvPr/>
        </p:nvPicPr>
        <p:blipFill>
          <a:blip r:embed="rId2"/>
          <a:stretch/>
        </p:blipFill>
        <p:spPr>
          <a:xfrm>
            <a:off x="3780000" y="3716280"/>
            <a:ext cx="2771640" cy="32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ire"/>
          <p:cNvPicPr/>
          <p:nvPr/>
        </p:nvPicPr>
        <p:blipFill>
          <a:blip r:embed="rId3"/>
          <a:stretch/>
        </p:blipFill>
        <p:spPr>
          <a:xfrm>
            <a:off x="6516720" y="4005360"/>
            <a:ext cx="2771640" cy="299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fire"/>
          <p:cNvPicPr/>
          <p:nvPr/>
        </p:nvPicPr>
        <p:blipFill>
          <a:blip r:embed="rId4"/>
          <a:stretch/>
        </p:blipFill>
        <p:spPr>
          <a:xfrm>
            <a:off x="0" y="3933720"/>
            <a:ext cx="2771640" cy="3068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1476360" y="4437000"/>
            <a:ext cx="62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2  ию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763640" y="2349360"/>
            <a:ext cx="5400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часа у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468360" y="4005360"/>
            <a:ext cx="784872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a231e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941 год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a231e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4525E-007 L -0.00399 -0.55054 E">
                                      <p:cBhvr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239E-006 L -0.00399 -0.24867 E">
                                      <p:cBhvr>
                                        <p:cTn id="53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evitan4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Мой фильм1.wmv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9294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2943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751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talingradRu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468360" y="260280"/>
            <a:ext cx="431964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го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835280" y="1989000"/>
            <a:ext cx="630540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18 дне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79280" y="4221000"/>
            <a:ext cx="82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27 000 000 челове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Герои-пионеры.wmv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6803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На безымянной высоте.wmv.mp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57:54Z</dcterms:created>
  <dc:creator>Максим</dc:creator>
  <dc:description/>
  <dc:language>en-US</dc:language>
  <cp:lastModifiedBy>User</cp:lastModifiedBy>
  <dcterms:modified xsi:type="dcterms:W3CDTF">2012-05-05T05:16:13Z</dcterms:modified>
  <cp:revision>108</cp:revision>
  <dc:subject/>
  <dc:title>Слайд 1</dc:title>
</cp:coreProperties>
</file>