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2.png" ContentType="image/png"/>
  <Override PartName="/ppt/media/image20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130F9-2A58-44C9-82D1-082AB9846B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45A6F-B426-44D8-8D80-2F631F44F5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8CB9F-E5EC-4798-9B81-544605EAA2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52FE6-2445-4BF0-BB78-064EC6A185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FEBCA-2A56-4BDA-A2DF-C0355F505B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DC32C-DF61-413B-8887-3E2B579299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8939B-2070-4F85-A32D-38DE273FE5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54641-6364-4ADE-AEB1-781AD28480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0993C-C67F-4330-9610-B6E0BF72D4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9CE57-C0F3-49BF-89F0-5DD132EAF9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9433E-8C4D-4E1A-9977-06725F8AB4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5C361-F9E9-4703-A86B-2FE42A2AF9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5BCC0-1BA1-4D1C-A033-DAE7FCD874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2A9-6E18-4C7C-9833-3D0430C5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031E-954B-4EAF-8894-0456EC05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AB7-D8A8-47D0-84A2-1861BAC1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266-4EEC-41EC-A861-4B38AFB3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840-5C24-4C37-8D09-F314070D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13D0-D805-4CE5-8A73-8BFE843B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E5B-2392-470C-98D2-CA15235F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972-C348-49F1-9797-219853AD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4C6-D294-4906-8A41-DBAE5155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1AB-F822-4F60-AD86-DEBECFBF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303-4FB6-4000-A1B7-48551931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DB5-3A53-4C0D-AC03-8601889F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88241-C1CC-4BFC-8E7C-87F7F92C94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640" y="672840"/>
            <a:ext cx="907128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тературно-музыкальная композиц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1515960" y="3348000"/>
            <a:ext cx="694872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74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Здравствуйте, 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541840" y="6480000"/>
            <a:ext cx="41468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и учащиеся 10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ный руководитель Волкова О.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360360" y="360360"/>
            <a:ext cx="410364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5184720" y="360360"/>
            <a:ext cx="4086360" cy="3095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3044880" y="4105440"/>
            <a:ext cx="408312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Танец.avi" descr=""/>
          <p:cNvPicPr/>
          <p:nvPr/>
        </p:nvPicPr>
        <p:blipFill>
          <a:blip r:embed="rId1"/>
          <a:stretch/>
        </p:blipFill>
        <p:spPr>
          <a:xfrm>
            <a:off x="1611360" y="14940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sviridov_-_vals_metel_(zaycev.net).mp3" descr=""/>
          <p:cNvPicPr/>
          <p:nvPr/>
        </p:nvPicPr>
        <p:blipFill>
          <a:blip r:embed="rId1"/>
          <a:stretch/>
        </p:blipFill>
        <p:spPr>
          <a:xfrm>
            <a:off x="4735440" y="3475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36623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талья Николаевна Гонча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4694400" y="2205000"/>
            <a:ext cx="525600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972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декабре 1828 года Пушкин знакомится с московской красавицей 16-летней Натальей Гончаровой. По собственному признанию, он полюбил её с первой встречи. В конце апреля 1829 года Пушкин сделал предложение Гончаров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60360" y="1284120"/>
            <a:ext cx="4546440" cy="529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sviridov_-_vals_metel_(zaycev.net).mp3" descr=""/>
          <p:cNvPicPr/>
          <p:nvPr/>
        </p:nvPicPr>
        <p:blipFill>
          <a:blip r:embed="rId1"/>
          <a:stretch/>
        </p:blipFill>
        <p:spPr>
          <a:xfrm>
            <a:off x="4735440" y="3475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36623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58323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.С.Пушкин «Мет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44360" y="466560"/>
            <a:ext cx="4103640" cy="41767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3"/>
          <p:cNvSpPr/>
          <p:nvPr/>
        </p:nvSpPr>
        <p:spPr>
          <a:xfrm>
            <a:off x="3473280" y="2060640"/>
            <a:ext cx="304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5761080" y="431640"/>
            <a:ext cx="4030560" cy="41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http://nkozlov.ru/upload/images/0409/040915094916.jpg"/>
          <p:cNvPicPr/>
          <p:nvPr/>
        </p:nvPicPr>
        <p:blipFill>
          <a:blip r:embed="rId1"/>
          <a:stretch/>
        </p:blipFill>
        <p:spPr>
          <a:xfrm>
            <a:off x="1871640" y="179280"/>
            <a:ext cx="6121440" cy="72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39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360" y="6297480"/>
            <a:ext cx="8983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арскосельский 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421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8760" y="62974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арскосельский 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431640" y="503280"/>
            <a:ext cx="1916280" cy="2379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7543800" y="4387680"/>
            <a:ext cx="1887480" cy="2379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7497720" y="536400"/>
            <a:ext cx="1935360" cy="2379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3419640" y="2160720"/>
            <a:ext cx="2984400" cy="298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5"/>
          <a:stretch/>
        </p:blipFill>
        <p:spPr>
          <a:xfrm>
            <a:off x="431640" y="4330800"/>
            <a:ext cx="1968840" cy="24001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4064040" y="5256360"/>
            <a:ext cx="220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algn="just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63480" y="6883560"/>
            <a:ext cx="17463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И. Пущ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7229520" y="3103560"/>
            <a:ext cx="2373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К. Кюхельбекк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76280" y="3016080"/>
            <a:ext cx="16844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А. Дельви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7475400" y="6927840"/>
            <a:ext cx="1941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.Н. Мясое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кунина Екатери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800440" y="1803240"/>
            <a:ext cx="4368600" cy="550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omans-na-stihi-Pushkinamuzyka-Glinka-1840-Ya-pomnyu-chudnoe-mgnoven_e(muzofon.com).mp3" descr=""/>
          <p:cNvPicPr/>
          <p:nvPr/>
        </p:nvPicPr>
        <p:blipFill>
          <a:blip r:embed="rId1"/>
          <a:stretch/>
        </p:blipFill>
        <p:spPr>
          <a:xfrm>
            <a:off x="4735440" y="3475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526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на Петровна Кер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4176720" y="1625760"/>
            <a:ext cx="590400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41360" indent="-7956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Пушкиным Анна Петровна впервые встретилась в 1819 году в петербургском доме своей тётки Елизаветы Олениной. Впечатления на неё тогда он не произвёл, даже показался грубоватым. Однако после того, как она познакомилась с творчеством Пушкина, её отношение к нему изменилось. От его поэзии она была в полном восторг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63440" y="1563840"/>
            <a:ext cx="4267440" cy="48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503280" y="46044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503280" y="6480000"/>
            <a:ext cx="89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шкин на лицейском экзамене в Царском Селе. Картина И. Репина (19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92280" y="635040"/>
            <a:ext cx="8982000" cy="58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533520" y="345960"/>
            <a:ext cx="9048600" cy="692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05:06:56Z</dcterms:created>
  <dc:creator/>
  <dc:description/>
  <dc:language>en-US</dc:language>
  <cp:lastModifiedBy>catrin</cp:lastModifiedBy>
  <dcterms:modified xsi:type="dcterms:W3CDTF">2015-02-13T10:01:26Z</dcterms:modified>
  <cp:revision>25</cp:revision>
  <dc:subject/>
  <dc:title>Литературно-музыкальная композиция:</dc:title>
</cp:coreProperties>
</file>