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6CDDBC-7CF5-4ED6-9333-6FE6426E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97C32D-C08A-4A6E-BCF4-AC192FF6F4B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60D-585C-4268-964C-8FFE8118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FBF-87AC-41D1-B386-CA066871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791-D3B6-4F4C-AAA5-A1BF8360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624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7420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10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624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7420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189-E890-4C2F-BC9B-EB31F79E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A9F1-D6D7-45ED-AACB-C0087AF0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F2CB-EAD5-4A72-B299-06D41E1B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D96D-F75D-4708-AFAE-157E8246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9F89-DCFE-4935-A149-5A532C21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7F5E-A978-4F29-B19A-7FBC4F42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39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E0FB-E3B0-4575-99F0-58064187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E7B3-70CA-433E-A2B2-241595AE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889-99C0-47A7-9CA9-3F6EB3E7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F35F-41C7-47F9-80AB-52257B13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065C-3A2F-43BD-82E3-B8B5B0F0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9F8C-6C20-469F-9FA2-FEAEA31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A8F6-AE2E-4584-8CEA-9C147208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624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7420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10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624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7420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CF06-B5D8-485C-A5C8-43A18720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BE1F-D601-4D30-86C1-79BB2B01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B0F7-7430-4378-9FCA-7240431E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7AED-697D-4657-8D0B-6D90DCF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70C5-F4AD-42B3-B620-780AB0F3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07689-1C39-45AF-99DD-097A125F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AF8-FCDA-4AC7-9CD4-C9AC1AC2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39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7EFD-603A-4B8D-A860-8CCA110B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0C51-270C-44AA-9241-DCBEA915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E731-287B-4869-8D75-1B18413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25BF7-914D-4BB1-A65F-BD2961A9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87D4-D6F1-4CF5-B40A-07FB1FF1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E6E0E-17CD-4FEF-851E-F9C2FDA8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624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7420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10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624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17420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9608-C442-46AB-9DAC-2529169F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9120D-B1EB-4DC3-BCC8-D4FCC1C3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68F4-8FD2-4FB9-8D99-9D918F37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739E-E54F-48BC-9518-6C44096B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852-4603-4E57-9A7A-8B49E97B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770B-6AE7-4BD6-9FD3-AF1E36E9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FE8A0-EA8B-495F-A572-58EE90BC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39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93A7-72F2-4DC1-9296-A6575E28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F9B3-2B53-425F-A305-4C0A55CF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B7FE-D731-43D6-8406-6411CAB5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9195-69BD-407A-9AE3-838E5AE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6AF3B-58FE-4DC2-9B23-197C700D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83DC-9C35-4280-88F6-11C509B4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624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17420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7510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9624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17420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32FA-5AFF-4648-A7A7-20AEE95A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E45D-9D72-4F62-A6BF-58647642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71D-8586-47B9-9311-6BF970B8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3953B-3282-4E48-9877-EA690052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38E4E-C1B4-4FCD-9CEA-4461B22C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9BF3C-89F8-4A19-AC24-971996CA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E695-0B17-4225-8CAD-7E1A9B3A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39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19E9A-006A-481E-A373-6020E61F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D3533-19A3-4514-883B-AD8023D5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A1C5-38A0-4E17-817A-8C5F076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68790-6BFA-4DE1-8691-7C6997F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7F026-8901-431C-8451-2497AC19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7C6B1-E543-409A-A89C-5B62DE7E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39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787-74E1-4EEF-9652-0B58887B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9624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7420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7510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9624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17420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C564B-BE00-4291-8B7D-A765C996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370B5-8F0D-4E40-9C88-7156E92D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CB783-0827-4C1A-8399-755DD1FB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01AAA-EB37-44E7-B076-80782C2A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9F6B5-8E5F-450A-8684-4473084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91826-764F-4808-9790-DBFD9ABC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39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57EC-2EC2-48CC-95CF-C0F58F39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70511-5A60-486B-A4A3-BDF3E9A0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4987E-97B1-44BD-BBFB-B132E4E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7718B-E42F-4538-8FA3-0D3299F1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AF1-BC01-4E3E-8E61-8E041EAC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F3651-BD9B-472E-8438-2B81F2C8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90E50-5EFD-4CBA-8C0C-79D75425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96244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74200" y="153504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7510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296244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4174200" y="1869480"/>
            <a:ext cx="1153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66B7F-ED53-4D9D-9BE5-323C4ECA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7040" y="186948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E56-8FA4-4D4F-A82A-994B6B8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1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7040" y="1535040"/>
            <a:ext cx="174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1040" y="1869480"/>
            <a:ext cx="3582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FE2-AF92-4E96-BE14-38437C5D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920" y="2590920"/>
            <a:ext cx="426672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2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D9CA32-5598-4BB3-A755-206BB3C2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chemeClr val="accent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chemeClr val="accent2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2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F2B1BB-6148-4FD0-8899-1EA248DEE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chemeClr val="accent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chemeClr val="accent2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2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3960" cy="498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2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</a:rPr>
              <a:t>Второй уровень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</a:rPr>
              <a:t>Третий уровень</a:t>
            </a:r>
            <a:endParaRPr b="0" lang="en-US" sz="1800" spc="-1" strike="noStrike">
              <a:solidFill>
                <a:schemeClr val="accent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333399"/>
              </a:buClr>
              <a:buFont typeface="Symbol" charset="2"/>
              <a:buChar char=""/>
            </a:pPr>
            <a:r>
              <a:rPr b="0" lang="ru-RU" sz="1600" spc="-1" strike="noStrike">
                <a:solidFill>
                  <a:schemeClr val="accent2"/>
                </a:solidFill>
                <a:latin typeface="Arial"/>
              </a:rPr>
              <a:t>Четвертый уровень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333399"/>
              </a:buClr>
              <a:buFont typeface="StarSymbol"/>
              <a:buChar char="»"/>
            </a:pPr>
            <a:r>
              <a:rPr b="0" lang="ru-RU" sz="1600" spc="-1" strike="noStrike">
                <a:solidFill>
                  <a:schemeClr val="accent2"/>
                </a:solidFill>
                <a:latin typeface="Arial"/>
              </a:rPr>
              <a:t>Пятый уровень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F3F76-9C0C-4586-893E-6A049719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6688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Образец загол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6688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en-US" sz="32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2666880" y="536724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</a:rPr>
              <a:t>Образец текста</a:t>
            </a:r>
            <a:endParaRPr b="0" lang="en-US" sz="1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AF3DBF-41A3-4694-833F-77D30585E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480" y="272880"/>
            <a:ext cx="2590560" cy="116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Образец загол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343400" y="272880"/>
            <a:ext cx="4343040" cy="5852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chemeClr val="accent2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chemeClr val="accent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33399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2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1752480" y="1434960"/>
            <a:ext cx="2590560" cy="4690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</a:rPr>
              <a:t>Образец текста</a:t>
            </a:r>
            <a:endParaRPr b="0" lang="en-US" sz="1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E2A3B5-41F7-4F8D-B78A-7896EEC06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2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751040" y="1535040"/>
            <a:ext cx="358272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body"/>
          </p:nvPr>
        </p:nvSpPr>
        <p:spPr>
          <a:xfrm>
            <a:off x="1751040" y="2174760"/>
            <a:ext cx="3582720" cy="395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2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</a:rPr>
              <a:t>Второй уровень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</a:rPr>
              <a:t>Третий уровень</a:t>
            </a:r>
            <a:endParaRPr b="0" lang="en-US" sz="1800" spc="-1" strike="noStrike">
              <a:solidFill>
                <a:schemeClr val="accent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333399"/>
              </a:buClr>
              <a:buFont typeface="Symbol" charset="2"/>
              <a:buChar char=""/>
            </a:pPr>
            <a:r>
              <a:rPr b="0" lang="ru-RU" sz="1600" spc="-1" strike="noStrike">
                <a:solidFill>
                  <a:schemeClr val="accent2"/>
                </a:solidFill>
                <a:latin typeface="Arial"/>
              </a:rPr>
              <a:t>Четвертый уровень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333399"/>
              </a:buClr>
              <a:buFont typeface="StarSymbol"/>
              <a:buChar char="»"/>
            </a:pPr>
            <a:r>
              <a:rPr b="0" lang="ru-RU" sz="1600" spc="-1" strike="noStrike">
                <a:solidFill>
                  <a:schemeClr val="accent2"/>
                </a:solidFill>
                <a:latin typeface="Arial"/>
              </a:rPr>
              <a:t>Пятый уровень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5334120" y="1535040"/>
            <a:ext cx="335232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5334120" y="2174760"/>
            <a:ext cx="3352320" cy="395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2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</a:rPr>
              <a:t>Второй уровень</a:t>
            </a:r>
            <a:endParaRPr b="0" lang="en-US" sz="2000" spc="-1" strike="noStrike">
              <a:solidFill>
                <a:schemeClr val="accent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</a:rPr>
              <a:t>Третий уровень</a:t>
            </a:r>
            <a:endParaRPr b="0" lang="en-US" sz="1800" spc="-1" strike="noStrike">
              <a:solidFill>
                <a:schemeClr val="accent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333399"/>
              </a:buClr>
              <a:buFont typeface="Symbol" charset="2"/>
              <a:buChar char=""/>
            </a:pPr>
            <a:r>
              <a:rPr b="0" lang="ru-RU" sz="1600" spc="-1" strike="noStrike">
                <a:solidFill>
                  <a:schemeClr val="accent2"/>
                </a:solidFill>
                <a:latin typeface="Arial"/>
              </a:rPr>
              <a:t>Четвертый уровень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333399"/>
              </a:buClr>
              <a:buFont typeface="StarSymbol"/>
              <a:buChar char="»"/>
            </a:pPr>
            <a:r>
              <a:rPr b="0" lang="ru-RU" sz="1600" spc="-1" strike="noStrike">
                <a:solidFill>
                  <a:schemeClr val="accent2"/>
                </a:solidFill>
                <a:latin typeface="Arial"/>
              </a:rPr>
              <a:t>Пятый уровень</a:t>
            </a:r>
            <a:endParaRPr b="0" lang="en-US" sz="16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8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A0A956-6ABA-44D4-B1F0-304C3EF18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348000" y="1556640"/>
            <a:ext cx="426672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9f2936"/>
                </a:solidFill>
                <a:latin typeface="Arial"/>
              </a:rPr>
              <a:t>Правильное и здоровое питание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143240" y="3809880"/>
            <a:ext cx="4785840" cy="1047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50141b"/>
                </a:solidFill>
                <a:latin typeface="Arial"/>
              </a:rPr>
              <a:t>Подготовила: воспитатель МАД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50141b"/>
                </a:solidFill>
                <a:latin typeface="Arial"/>
              </a:rPr>
              <a:t>д \ с «Алён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50141b"/>
                </a:solidFill>
                <a:latin typeface="Arial"/>
              </a:rPr>
              <a:t>Конощук Юлия Александ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705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Book Antiqua"/>
              </a:rPr>
              <a:t>Витамин В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835640" y="3789000"/>
            <a:ext cx="3582720" cy="26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Он помогает усвоению углеводов и обеспечивает нормальную работу нервной системы, способствует хорошему аппетиту.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80" name="Объект 6"/>
          <p:cNvSpPr/>
          <p:nvPr/>
        </p:nvSpPr>
        <p:spPr>
          <a:xfrm>
            <a:off x="1331640" y="836640"/>
            <a:ext cx="3582720" cy="2781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20000" y="1340640"/>
            <a:ext cx="3672000" cy="136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Витамин В1 (тиамин) содержится в постном мясе, орехах, злаках.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82" name="Объект 7"/>
          <p:cNvSpPr/>
          <p:nvPr/>
        </p:nvSpPr>
        <p:spPr>
          <a:xfrm>
            <a:off x="5652000" y="3716640"/>
            <a:ext cx="3352320" cy="2880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52480" y="272880"/>
            <a:ext cx="7067520" cy="63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Book Antiqua"/>
              </a:rPr>
              <a:t>Витамин В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бъект 4"/>
          <p:cNvSpPr/>
          <p:nvPr/>
        </p:nvSpPr>
        <p:spPr>
          <a:xfrm>
            <a:off x="4644000" y="1989000"/>
            <a:ext cx="4343040" cy="41259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52480" y="836640"/>
            <a:ext cx="3251160" cy="528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Витамин В2 (рибофлабин) содержится в печени, молоке, йогурте и твороге. Помогает организму усваивать калории, а также вырабатывать калории самими клетками организма, помогает сохранить здоровыми кожу и ткани глаз, а также полноценное зрение. 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332640"/>
            <a:ext cx="3744000" cy="86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Book Antiqua"/>
              </a:rPr>
              <a:t>Ниац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бъект 4"/>
          <p:cNvSpPr/>
          <p:nvPr/>
        </p:nvSpPr>
        <p:spPr>
          <a:xfrm>
            <a:off x="4644000" y="2133000"/>
            <a:ext cx="4343040" cy="3139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52480" y="476640"/>
            <a:ext cx="3179160" cy="597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Ниацин (никотиновая кислота) содержится в печени, мясе, птице, рыбе, арахисе и злаках. Помогает организму усваивать калории и углеводы, а также способствует возникновению жировых клеток, способствует пищеварению и аппетиту. 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32000" y="548640"/>
            <a:ext cx="3960000" cy="885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Book Antiqua"/>
              </a:rPr>
              <a:t>Каль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бъект 4"/>
          <p:cNvSpPr/>
          <p:nvPr/>
        </p:nvSpPr>
        <p:spPr>
          <a:xfrm>
            <a:off x="4644000" y="2421000"/>
            <a:ext cx="4343040" cy="2487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52480" y="476640"/>
            <a:ext cx="2963160" cy="597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Содержится в молоке и молочных продуктах (включая сыры и йогурты), рыбе, зелени. Способствует росту и укреплению костей и зубов, стимулирует свертываемость крови и нормальную работу мышц нервной системы.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716000" y="272880"/>
            <a:ext cx="4176000" cy="116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Book Antiqua"/>
              </a:rPr>
              <a:t>Же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Объект 4" descr=""/>
          <p:cNvPicPr/>
          <p:nvPr/>
        </p:nvPicPr>
        <p:blipFill>
          <a:blip r:embed="rId1"/>
          <a:stretch/>
        </p:blipFill>
        <p:spPr>
          <a:xfrm>
            <a:off x="4572000" y="2061000"/>
            <a:ext cx="4343040" cy="35082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640" y="260640"/>
            <a:ext cx="3384000" cy="63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Содержится в печени, свежем мясе, сушенных бобах и горохе, черносливе. Железо важнейшая составная часть гемоглобина, красных кровяных телец, которые снабжают клетки кислородом и выводят из них углекислый газ, необходимо для профилактики малокровия и вызываемой им утомляемости.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7920360" cy="416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Book Antiqua"/>
              </a:rPr>
              <a:t>Продукты, которые содержат 10 основных питательных веществ: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Book Antiqua"/>
              </a:rPr>
              <a:t>-молоко и молочные продукты, содержат кальций, рибофлавин и белок;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Book Antiqua"/>
              </a:rPr>
              <a:t>-мясо, яйца, бобовые, содержат белок, ниацин, железо и тиамин;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Book Antiqua"/>
              </a:rPr>
              <a:t>-фрукты и овощи содержат витамины А и С, а также клетчатку;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Book Antiqua"/>
              </a:rPr>
              <a:t>-зерно и продукты из зерна – содержат углеводы, тиамин, железо, ниацин и клетчатку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Объект 3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417600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87640" y="332640"/>
            <a:ext cx="3672000" cy="626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chemeClr val="accent2"/>
                </a:solidFill>
                <a:latin typeface="Book Antiqua"/>
              </a:rPr>
              <a:t>Итак, главный принцип правильного питания – пища ребенка должна быть разнообразной и включать все выше перечисленные питательные вещества, чтобы его организм получал все необходимое для роста и развития. При чем, ребенок должен получать определенное количество жиров, белков и углеводов, в зависимости от возраста.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98" name="Объект 8"/>
          <p:cNvSpPr/>
          <p:nvPr/>
        </p:nvSpPr>
        <p:spPr>
          <a:xfrm>
            <a:off x="4644000" y="2061000"/>
            <a:ext cx="4343040" cy="340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47640" y="274680"/>
            <a:ext cx="7416360" cy="27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7030a0"/>
                </a:solidFill>
                <a:latin typeface="Book Antiqua"/>
              </a:rPr>
              <a:t>Так для детей 1-3 лет, суточное количество белка 53 гр., жира тоже 53 гр., углеводов 212 гр. Соотношение белка, жира и углеводов равняется 1:1:4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Book Antiqua"/>
              </a:rPr>
              <a:t>Для детей 3-7 лет ежедневная потребность в белке 68 гр., в жире 68 гр., в углеводах 270 гр.. Оптимальное соотношение белков, жиров и углеводов в рационе ребенка 1:1: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Объект 3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7027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4691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Book Antiqua"/>
              </a:rPr>
              <a:t>Будьте здоро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бъект 9"/>
          <p:cNvSpPr/>
          <p:nvPr/>
        </p:nvSpPr>
        <p:spPr>
          <a:xfrm>
            <a:off x="2286000" y="1428840"/>
            <a:ext cx="5571720" cy="4428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6322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chemeClr val="accent2"/>
                </a:solidFill>
                <a:latin typeface="Book Antiqua"/>
              </a:rPr>
              <a:t>Правильное питание-основа здоровья ребёнка. Правильное питание для детей – это получение ребенком во время еды всех необходимых питательных веществ , для нормальной жизнедеятельности организма ( ежедневно требуется около 50 компонентов питательных веществ) . Если ежедневный рацион ребенка включает в себя 10 наиболее важных питательных веществ, то и 40 остальных, тоже, как правило поступают в орган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7640" y="5733360"/>
            <a:ext cx="693396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/>
                </a:solidFill>
                <a:latin typeface="Book Antiqua"/>
              </a:rPr>
              <a:t>Вот они самые важные  питательные вещества, которые должен получать растущий организ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3"/>
          <p:cNvSpPr/>
          <p:nvPr/>
        </p:nvSpPr>
        <p:spPr>
          <a:xfrm>
            <a:off x="1907640" y="404640"/>
            <a:ext cx="7056360" cy="4968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Book Antiqua"/>
              </a:rPr>
              <a:t>Белок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Book Antiqua"/>
              </a:rPr>
              <a:t>- содержится в мясе, птицы, соевых продуктах, бобах, горохе, яйцах, сыре, молоке и молочных продуктах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Book Antiqua"/>
              </a:rPr>
              <a:t>Это основное вещество, необходимо для построения новых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бъект 3"/>
          <p:cNvSpPr/>
          <p:nvPr/>
        </p:nvSpPr>
        <p:spPr>
          <a:xfrm>
            <a:off x="5292000" y="2204640"/>
            <a:ext cx="2857320" cy="42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51640" y="47664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Угле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исунок 4"/>
          <p:cNvSpPr/>
          <p:nvPr/>
        </p:nvSpPr>
        <p:spPr>
          <a:xfrm>
            <a:off x="3275640" y="2348640"/>
            <a:ext cx="5486040" cy="4114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835640" y="980640"/>
            <a:ext cx="7128360" cy="129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Book Antiqua"/>
              </a:rPr>
              <a:t>Они содержатся в злаках, картофеле, кукурузе, хлебе и сахаре. Это источник калорий. Наряду с белками и жирами входят в состав всех тканей и клеток, принимают участие в обмене веществ, способствуют лучшему усвоению  белков и жиров.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51640" y="33264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Book Antiqua"/>
              </a:rPr>
              <a:t>Жи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исунок 4"/>
          <p:cNvSpPr/>
          <p:nvPr/>
        </p:nvSpPr>
        <p:spPr>
          <a:xfrm>
            <a:off x="3492000" y="2420640"/>
            <a:ext cx="5486040" cy="4114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051640" y="1052640"/>
            <a:ext cx="6984360" cy="804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Book Antiqua"/>
              </a:rPr>
              <a:t>Содержатся в пищевых жирах, растительных маслах, сливочном масле, маргарине и жире. Жиры дают организму больше калорий на единицу веса, чем белки и углеводы.Это важнейшая составляющая стенок клеток. Жиры также снабжают организм кислотами, необходимыми для многих жизненных функций. Кроме того, в жирах содержатся растворенные в них витамины, такие как А, Д, Е, К.</a:t>
            </a:r>
            <a:endParaRPr b="0" lang="en-US" sz="18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67640" y="332640"/>
            <a:ext cx="6192360" cy="201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chemeClr val="accent2"/>
                </a:solidFill>
                <a:latin typeface="Book Antiqua"/>
              </a:rPr>
              <a:t>Не забывайте о продуктах, которые содержат витам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4" descr=""/>
          <p:cNvPicPr/>
          <p:nvPr/>
        </p:nvPicPr>
        <p:blipFill>
          <a:blip r:embed="rId1"/>
          <a:srcRect l="0" t="2082" r="0" b="2082"/>
          <a:stretch/>
        </p:blipFill>
        <p:spPr>
          <a:xfrm>
            <a:off x="2627640" y="2493000"/>
            <a:ext cx="548604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52480" y="272880"/>
            <a:ext cx="6635520" cy="70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Book Antiqua"/>
              </a:rPr>
              <a:t>Витамин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Объект 4" descr=""/>
          <p:cNvPicPr/>
          <p:nvPr/>
        </p:nvPicPr>
        <p:blipFill>
          <a:blip r:embed="rId1"/>
          <a:stretch/>
        </p:blipFill>
        <p:spPr>
          <a:xfrm>
            <a:off x="4572000" y="1556640"/>
            <a:ext cx="4343040" cy="401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52480" y="1052640"/>
            <a:ext cx="3107160" cy="540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Book Antiqua"/>
              </a:rPr>
              <a:t>Витамин А (ре-тинол) содержится в печени, моркови, сладком картофеле, зелени, маргарине, сливочном масле. Важен для кожи и клеток слизистой, усиливает сопротивляемость инфекциям, улучшает способность видеть.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92000" y="260640"/>
            <a:ext cx="3744000" cy="70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Витамин 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бъект 4"/>
          <p:cNvSpPr/>
          <p:nvPr/>
        </p:nvSpPr>
        <p:spPr>
          <a:xfrm>
            <a:off x="4800600" y="2205000"/>
            <a:ext cx="4343040" cy="325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71640" y="188640"/>
            <a:ext cx="460800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Book Antiqua"/>
              </a:rPr>
              <a:t>Витамин С (аскорбиновая кислота) содержится в цветной капусте, цитрусовых, манго, землянике и других овощах и фруктах.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Book Antiqua"/>
              </a:rPr>
              <a:t>Он необходим для биохимических процессов, создающих связующие элементы для скрепления отдельных клеток; эти элементы укрепляют кровеносные сосуды,  способствуют заживлению ран и усиливают сопротивляемость инфекциям, также помогает усвоению железа.</a:t>
            </a:r>
            <a:endParaRPr b="0" lang="en-US" sz="24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F_The_Feast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F_The_Feast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F_The_Feast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F_The_Feast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F_The_Feast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AF_The_Feast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0BEB498C-04CB-4F7F-A3A6-97B181C8DE44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F_The_Feast</Template>
  <TotalTime>0</TotalTime>
  <Application>LibreOffice/7.4.7.2$Linux_X86_64 LibreOffice_project/40$Build-2</Application>
  <AppVersion>15.0000</AppVersion>
  <Words>620</Words>
  <Paragraphs>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9T14:03:55Z</dcterms:created>
  <dc:creator/>
  <dc:description/>
  <dc:language>en-US</dc:language>
  <cp:lastModifiedBy/>
  <dcterms:modified xsi:type="dcterms:W3CDTF">2015-03-04T18:54:4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  <property fmtid="{D5CDD505-2E9C-101B-9397-08002B2CF9AE}" pid="5" name="_TemplateID">
    <vt:lpwstr>TC103368189990</vt:lpwstr>
  </property>
</Properties>
</file>