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1.jpeg" ContentType="image/jpeg"/>
  <Override PartName="/ppt/media/image16.jpeg" ContentType="image/jpeg"/>
  <Override PartName="/ppt/media/image20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4ACA-5F0B-45F1-9C13-5F60DB9EBE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0A9F-F7BF-442D-A249-20E40E724D0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3F4-8D8C-4135-B8DF-46A7CDA9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AE8-1D01-4E89-8C90-F7EA96E8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848-ADF6-4A81-ADF1-9A95DC44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8DD-8A7B-4B57-805D-8B8E24CA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DA97-5F72-44F7-A050-956CB7E1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8EDC-F982-48BD-A386-B46BF56B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838D-58DB-40E1-98F3-7F01CF57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EB72-9301-46D3-AAD1-0CDF2048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7551-2FAE-47E8-BAA9-5CF47BDD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8EB8-080B-4203-AA7F-4E1F12B0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BDF2-E131-479E-9EA7-57B57C7E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DA7-BA30-499A-8CE1-77F99487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9438-48DB-41E6-86F0-1FEA847D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ADD9-70D7-42D2-970A-6D0681A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9001-EAED-46DE-8A11-09F3A40D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AAF7-F421-4620-95FC-E34A391B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59C1-F5FA-484B-B355-8C5D56E3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B2E6-B279-4955-9569-B7AC8DBC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B2B2-3AF6-4B77-AFEA-AFEE7A4C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D815F-E788-459F-B010-07C66C97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82F7-DB9B-471F-B0DF-62B337DF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9F28-D3CF-4407-ADA4-721FB3F3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3DC-1898-4604-8663-C2012A17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7784-9A16-4BC6-99ED-4EE23FA6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0AC5-93FE-40A5-A1FE-05F5FA0E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D71C-6947-48B1-9987-3710DE9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DD42-5B15-425A-87BA-B2899815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2AA9-4071-49E5-BC82-085316AF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3DDA-E883-4AAB-A5F4-AAAC059F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8E96-4B8E-42F2-A7A3-C0BF96B6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67653-6442-4F57-9736-000BCE01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86E7-1F75-4127-A6C4-3EF8CF12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DB41-A630-472A-B2BB-D0C9BA2E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6A9-AA3D-4865-8295-9D3C0806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18EC-7B88-4F04-B301-EF4815BD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A3D9D-49B5-402B-A809-1BF98220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80B6-9C1B-4452-BF6B-C22477E2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6826-58BC-4E46-A03E-C4CD2D1D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293DB-8651-4078-B3ED-C1089242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BD77-6422-47B0-A702-35782C0D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D5928-DFC9-4C78-8681-83C8AA59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5B5A-5CD9-4414-8F08-33537689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CB65-ED48-4CB3-9140-5917A107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19B3-D2F4-4547-AB7B-28C316E9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932-0041-42A7-A21F-436A4066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0766F-DFCC-46E6-B8F3-1C65E079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8B22E-6A50-4127-AB0F-6FA27DED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01B94-D181-4BC2-B83F-B994FB3A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814E0-27E7-464F-8BFD-CEB4B9FB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2D3A7-10FC-4E4A-B8EF-B670A5A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A9E66-3F5A-47B8-8F88-BCB13FC8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4C22-326B-404E-A08D-06B6B73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2E2B3-D878-479B-9631-73F39761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A195A-3E81-48DB-BBDC-D8FC9F4B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5796-5B5A-48C4-A223-2A12598F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635-1ED9-4D7A-9599-6A290365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E86F3-3769-4213-BE79-62218BB7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BF0DD-31BD-4839-99BA-3586558E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2B6D-5116-49AF-B78E-18F22BC2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96C6C-5B52-4CC5-B149-FFD0E5DE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7E44-8F22-4E58-9628-F5EC41E9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A69C4-D4F0-4C82-A9B1-A75F217D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3A45B-8877-4ED3-8DBC-4CDE8886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2BE2A-134A-49E7-92FB-C861EEBE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FC2D1-BA45-43AB-B13A-427FBC36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70B9C-3ACF-4100-BCD6-B37D74EA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FEC-53AA-4A5F-BE02-0884289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E0678-49EB-4B93-89E1-C72670F0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851F-E173-4409-9F11-D3C9C109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A06B9-38F0-4CC0-9725-2711C8FD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B4374-1DC4-4B2A-AB6B-4F4FBB8B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752AE-13AD-4D17-B8DA-0274E414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156DA-49D3-4ECE-B36E-84A63FD2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2E43F-D31A-4DC6-982D-73E63810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EC028-98F2-487D-8C61-F1B2392B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D4A07-219A-41BD-AE8F-E6A1DFE1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FA05D-E9BA-49D3-9290-C4920652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10F-E2C4-4835-B00A-5F421AD2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CB72E-2B3F-4E90-94E2-706F00C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87EDA-C7C0-4BE0-95FE-F5F0AB2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ECC52-1EE4-488C-8D47-67DD938F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C7719-64A5-47FF-9C9A-2FED8001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9BD36-DEA1-4990-BFA3-2539E900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B43-5040-4CCC-8ABA-58BFF54A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bddc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C68E-88DD-48ED-9420-401A18DE5441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bddc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0B06-BE4B-40FB-A00E-6F48C86F5266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8d6a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bddc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195E-F8B9-4919-9177-2F1A495729E4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bddc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7DCD-3E4B-407F-B1EE-26B5D3AA8E5A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204" name="Прямая соединительная линия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08" name="Прямая соединительная линия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212" name="Прямая соединительная линия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bddc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7887-3419-4596-BC78-F0A831AAAA67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6DF0-76B7-40C4-BD5E-744DD867291F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bddc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B8C5-0B85-472E-BBB1-3E7BACC8CF2B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uroparl.europa.eu/eplive/expert/photo/20051125PHT02897/pict_20051125PHT02897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okerlistings.ru/photos/large/the-blue-marble/the-blue-marble-17045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3;&#1072;&#1079;" TargetMode="External"/><Relationship Id="rId3" Type="http://schemas.openxmlformats.org/officeDocument/2006/relationships/hyperlink" Target="http://ru.wikipedia.org/wiki/&#1043;&#1077;&#1086;&#1089;&#1092;&#1077;&#1088;&#1072;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3413160" y="2036880"/>
            <a:ext cx="2603520" cy="1303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28800" y="49968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rbel"/>
              </a:rPr>
              <a:t>АТМОСФЕРА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5" name="Picture 5" descr="Картинка 2 из 2516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857680"/>
            <a:ext cx="9144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Номер слайда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F1E1-1578-4FF4-86B0-BD768C50F131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Метеорология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етеорология - наука о земной атмосфере и происходящих в ней процессах. Метеорология изучает: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состав и строение атмосферы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теплооборот и тепловой режим в атмосфере и на земной поверхности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влагооборот и фазовые превращения воды в атмосфере, движения воздушных масс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электрические, оптические и акустические явления в атмосфер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дна из главных задач метеорологии - прогноз погоды на различные сроки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94E4-2CAC-4785-9E1B-828DED63C5CB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5" descr="Картинка 17 из 1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63B3-17D0-48DA-84F9-2E139E28D698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ЗАКОНЧИ ПРЕДЛОЖЕНИЕ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Атмосфера-это……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Тропосфера является…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Озоновый слой  находится  в…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9668-55E1-484D-81D4-CB166BD705ED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3af"/>
                </a:solidFill>
                <a:latin typeface="Consolas"/>
              </a:rPr>
              <a:t>ТЕСТ</a:t>
            </a:r>
            <a:endParaRPr b="0" lang="en-US" sz="28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orbel"/>
              </a:rPr>
              <a:t>1.Слой атмосферы, где происходят все погодные явления, -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1=стратосфер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2=озонов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3=тропосфер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4=мезосфер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orbel"/>
              </a:rPr>
              <a:t>2. Воздух вблизи поверхности Земли содержит больше всего</a:t>
            </a: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1=кислород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2=пыли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3=азот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rbel"/>
              </a:rPr>
              <a:t>4=</a:t>
            </a: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углекислого</a:t>
            </a:r>
            <a:r>
              <a:rPr b="1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газ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orbel"/>
              </a:rPr>
              <a:t>3.С высотой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температура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orbel"/>
              </a:rPr>
              <a:t> воздуха..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1=повышается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2=понижается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3=сначала понижается, потом повышается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4=не изменяется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8AE2-B0B2-4EB9-9D56-D1BE9B81A865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Object 2"/>
          <p:cNvGraphicFramePr/>
          <p:nvPr/>
        </p:nvGraphicFramePr>
        <p:xfrm>
          <a:off x="631800" y="2590920"/>
          <a:ext cx="8381880" cy="398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2590920"/>
                    <a:ext cx="838188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Какая температура  должна  ожидаться на каждом этапе подъема   в горы?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A926-3E0B-45D7-991C-F739BB5A0FE3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2" descr="i?id=13217652&amp;tov=2"/>
          <p:cNvPicPr/>
          <p:nvPr/>
        </p:nvPicPr>
        <p:blipFill>
          <a:blip r:embed="rId1"/>
          <a:stretch/>
        </p:blipFill>
        <p:spPr>
          <a:xfrm>
            <a:off x="7236000" y="1268280"/>
            <a:ext cx="1428480" cy="10764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ЗАДАЧА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ссчитайте, какова температур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здуха   у  земли,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если   на высоте  4 км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на равна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t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=  -  10   С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Line 5"/>
          <p:cNvSpPr/>
          <p:nvPr/>
        </p:nvSpPr>
        <p:spPr>
          <a:xfrm>
            <a:off x="7164360" y="1700280"/>
            <a:ext cx="0" cy="4464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6"/>
          <p:cNvSpPr/>
          <p:nvPr/>
        </p:nvSpPr>
        <p:spPr>
          <a:xfrm>
            <a:off x="716436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7"/>
          <p:cNvSpPr/>
          <p:nvPr/>
        </p:nvSpPr>
        <p:spPr>
          <a:xfrm>
            <a:off x="7236000" y="4508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8"/>
          <p:cNvSpPr/>
          <p:nvPr/>
        </p:nvSpPr>
        <p:spPr>
          <a:xfrm>
            <a:off x="7164360" y="3645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9"/>
          <p:cNvSpPr/>
          <p:nvPr/>
        </p:nvSpPr>
        <p:spPr>
          <a:xfrm>
            <a:off x="7164360" y="2852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8101080" y="50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8172360" y="4365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810108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7380360" y="59500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7956720" y="263700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-10  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Номер слайда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5E91-76D6-4DBA-BC80-B1A3D276D66C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2" descr="i?id=13217652&amp;tov=2"/>
          <p:cNvPicPr/>
          <p:nvPr/>
        </p:nvPicPr>
        <p:blipFill>
          <a:blip r:embed="rId1"/>
          <a:stretch/>
        </p:blipFill>
        <p:spPr>
          <a:xfrm>
            <a:off x="7236000" y="1268280"/>
            <a:ext cx="1428480" cy="10764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ЗАДАЧА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ссчитайте, какова температур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здуха за бортом  самолета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етящего на высоте  5 км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если  у зем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ой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поверхност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на равна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t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= + 18    С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Line 5"/>
          <p:cNvSpPr/>
          <p:nvPr/>
        </p:nvSpPr>
        <p:spPr>
          <a:xfrm>
            <a:off x="7164360" y="1700280"/>
            <a:ext cx="0" cy="4464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716436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7236000" y="4508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8"/>
          <p:cNvSpPr/>
          <p:nvPr/>
        </p:nvSpPr>
        <p:spPr>
          <a:xfrm>
            <a:off x="7164360" y="3645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7164360" y="2852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7380360" y="5734080"/>
            <a:ext cx="1001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8101080" y="50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8172360" y="4365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810108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7956720" y="270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E373-B4B9-473B-940E-C6AEEE05F28E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63680" y="639720"/>
            <a:ext cx="8130960" cy="331632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9" name="Picture 5" descr="Картинка 29 из 49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28800" y="3571920"/>
            <a:ext cx="4357440" cy="2901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p33_2_1"/>
          <p:cNvPicPr/>
          <p:nvPr/>
        </p:nvPicPr>
        <p:blipFill>
          <a:blip r:embed="rId4"/>
          <a:stretch/>
        </p:blipFill>
        <p:spPr>
          <a:xfrm>
            <a:off x="6929280" y="285840"/>
            <a:ext cx="188928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Номер слайда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A813-7450-4B0C-863B-699438B824A2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Picture 4" descr="p33_2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омер слайда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4856-9B2D-4933-80E2-D835D710910E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3af"/>
                </a:solidFill>
                <a:latin typeface="Consolas"/>
              </a:rPr>
              <a:t>Атмосфера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(от. </a:t>
            </a:r>
            <a:r>
              <a:rPr b="0" lang="ru-RU" sz="2400" spc="-1" strike="noStrike" u="sng">
                <a:solidFill>
                  <a:srgbClr val="f7b615"/>
                </a:solidFill>
                <a:uFillTx/>
                <a:latin typeface="Corbel"/>
                <a:hlinkClick r:id="rId1"/>
              </a:rPr>
              <a:t>др.-греч.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ἀτμός — пар и σφαῖρα — шар) — </a:t>
            </a:r>
            <a:r>
              <a:rPr b="0" lang="ru-RU" sz="2400" spc="-1" strike="noStrike" u="sng">
                <a:solidFill>
                  <a:srgbClr val="f7b615"/>
                </a:solidFill>
                <a:uFillTx/>
                <a:latin typeface="Corbel"/>
                <a:hlinkClick r:id="rId2"/>
              </a:rPr>
              <a:t>газовая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оболочка (</a:t>
            </a:r>
            <a:r>
              <a:rPr b="0" lang="ru-RU" sz="2400" spc="-1" strike="noStrike" u="sng">
                <a:solidFill>
                  <a:srgbClr val="f7b615"/>
                </a:solidFill>
                <a:uFillTx/>
                <a:latin typeface="Corbel"/>
                <a:hlinkClick r:id="rId3"/>
              </a:rPr>
              <a:t>геосфер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), окружающая планету Земля. Внутренняя её поверхность покрывает гидросферу и частично кору, внешняя граничит с околоземной часть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Picture 4" descr="p33_1_1"/>
          <p:cNvPicPr/>
          <p:nvPr/>
        </p:nvPicPr>
        <p:blipFill>
          <a:blip r:embed="rId4"/>
          <a:stretch/>
        </p:blipFill>
        <p:spPr>
          <a:xfrm>
            <a:off x="3995640" y="1557360"/>
            <a:ext cx="514836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0923-0D89-4F54-8005-13E7AE591A3B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СТРОЕНИЕ </a:t>
            </a:r>
            <a:br>
              <a:rPr sz="4000"/>
            </a:b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 АТМОСФЕРЫ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Сегодня наша атмосфера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на 78,1% состоит из азота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на 21% из кислорода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на 0,9% из аргона, на 0,04% из диоксида углерода. Совсем малые доли по сравнению с основными газами составляют неон, гелий, метан, криптон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2" name="Picture 6" descr="Файл:Atmosphere layers ru.svg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3F0D-1AC2-4AE9-84A9-A72EF95C6182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e3af"/>
                </a:solidFill>
                <a:latin typeface="Consolas"/>
              </a:rPr>
              <a:t> </a:t>
            </a:r>
            <a:r>
              <a:rPr b="0" i="1" lang="en-US" sz="3200" spc="-1" strike="noStrike">
                <a:solidFill>
                  <a:srgbClr val="ffe3af"/>
                </a:solidFill>
                <a:latin typeface="Consolas"/>
              </a:rPr>
              <a:t>СРАВНИТЕ  тропосферу</a:t>
            </a:r>
            <a:r>
              <a:rPr b="0" lang="en-US" sz="3200" spc="-1" strike="noStrike">
                <a:solidFill>
                  <a:srgbClr val="ffe3af"/>
                </a:solidFill>
                <a:latin typeface="Consolas"/>
              </a:rPr>
              <a:t> и   стратосферу</a:t>
            </a:r>
            <a:endParaRPr b="0" lang="en-US" sz="3200" spc="-1" strike="noStrike">
              <a:solidFill>
                <a:srgbClr val="ffe3af"/>
              </a:solidFill>
              <a:latin typeface="Consola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500040" y="785880"/>
          <a:ext cx="8643960" cy="5986440"/>
        </p:xfrm>
        <a:graphic>
          <a:graphicData uri="http://schemas.openxmlformats.org/drawingml/2006/table">
            <a:tbl>
              <a:tblPr/>
              <a:tblGrid>
                <a:gridCol w="2962440"/>
                <a:gridCol w="2800080"/>
                <a:gridCol w="2881440"/>
              </a:tblGrid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 срав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опосф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осф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Толщ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 к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35 к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Плот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% вс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дух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% всег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дух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Сост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зот-7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слород-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тальные газы -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дух  сильн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режен.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З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Изменение  температуры  с  высот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иж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ижается, затем  незначитель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ыш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676C-16BB-413A-A80D-440C3873DE76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ОЗОН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7" descr="420px-Atmospheric_Ozone_Rus"/>
          <p:cNvPicPr/>
          <p:nvPr/>
        </p:nvPicPr>
        <p:blipFill>
          <a:blip r:embed="rId1"/>
          <a:stretch/>
        </p:blipFill>
        <p:spPr>
          <a:xfrm>
            <a:off x="-500040" y="1357200"/>
            <a:ext cx="101520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578E-CC20-4B2F-B0A7-E916167068BA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af"/>
                </a:solidFill>
                <a:latin typeface="Consolas"/>
              </a:rPr>
              <a:t>ЗНАЧЕНИЕ  АТМОСФЕРЫ</a:t>
            </a:r>
            <a:endParaRPr b="0" lang="en-US" sz="40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70000"/>
              </a:lnSpc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rbel"/>
              </a:rPr>
              <a:t>Атмосферный воздух - это источник дыхания человека, животных и растительности, сырьё для процессов горения и синтеза химических веществ; он является материалом, применяемым для охлаждения различных промышленных и транспортных установок, а также средой, в которую выбрасываются отходы жизнедеятельности человека, высших и низших животных и растений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70000"/>
              </a:lnSpc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rbel"/>
              </a:rPr>
              <a:t>Важную роль во всех природных процессах играет атмосфера. Она служит надежной защитой от вредных космических излучений, определяет климат данной местности и планеты в целом. Воздух атмосферы является одним из основных жизненно важных элементов окружающей среды, её животворным источником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70000"/>
              </a:lnSpc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rbel"/>
              </a:rPr>
              <a:t>Беречь его, сохранять в чистоте - значит сохранять жизнь на Земле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ebddc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4" name="Picture 8" descr="Картинка 9 из 5270"/>
          <p:cNvPicPr/>
          <p:nvPr/>
        </p:nvPicPr>
        <p:blipFill>
          <a:blip r:embed="rId1"/>
          <a:stretch/>
        </p:blipFill>
        <p:spPr>
          <a:xfrm>
            <a:off x="4643280" y="1847880"/>
            <a:ext cx="4032360" cy="38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73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Номер слайда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4C42-6C59-4EDE-9E5F-CDD331AB3578}" type="slidenum">
              <a:rPr b="0" lang="ru-RU" sz="1200" spc="-1" strike="noStrike">
                <a:solidFill>
                  <a:srgbClr val="ebddc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3af"/>
                </a:solidFill>
                <a:latin typeface="Consolas"/>
              </a:rPr>
              <a:t>ИЗУЧЕНИЕ  атмосферы</a:t>
            </a:r>
            <a:br>
              <a:rPr sz="2800"/>
            </a:br>
            <a:r>
              <a:rPr b="0" lang="en-US" sz="2800" spc="-1" strike="noStrike">
                <a:solidFill>
                  <a:srgbClr val="ffe3af"/>
                </a:solidFill>
                <a:latin typeface="Consolas"/>
              </a:rPr>
              <a:t>Составить рассказ по фотографиям</a:t>
            </a:r>
            <a:endParaRPr b="0" lang="en-US" sz="2800" spc="-1" strike="noStrike">
              <a:solidFill>
                <a:srgbClr val="ffe3a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8" name="Picture 5" descr="i?id=59550229&amp;tov=7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i?id=48120&amp;tov=8"/>
          <p:cNvPicPr/>
          <p:nvPr/>
        </p:nvPicPr>
        <p:blipFill>
          <a:blip r:embed="rId2"/>
          <a:stretch/>
        </p:blipFill>
        <p:spPr>
          <a:xfrm>
            <a:off x="5508720" y="4292640"/>
            <a:ext cx="3097080" cy="1832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i?id=22862853&amp;tov=2"/>
          <p:cNvPicPr/>
          <p:nvPr/>
        </p:nvPicPr>
        <p:blipFill>
          <a:blip r:embed="rId3"/>
          <a:stretch/>
        </p:blipFill>
        <p:spPr>
          <a:xfrm>
            <a:off x="3419640" y="3141720"/>
            <a:ext cx="2065320" cy="2160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i?id=17682098&amp;tov=4"/>
          <p:cNvPicPr/>
          <p:nvPr/>
        </p:nvPicPr>
        <p:blipFill>
          <a:blip r:embed="rId4"/>
          <a:stretch/>
        </p:blipFill>
        <p:spPr>
          <a:xfrm>
            <a:off x="1692360" y="3860640"/>
            <a:ext cx="1654200" cy="2232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3" descr="i?id=14125198&amp;tov=6"/>
          <p:cNvPicPr/>
          <p:nvPr/>
        </p:nvPicPr>
        <p:blipFill>
          <a:blip r:embed="rId5"/>
          <a:stretch/>
        </p:blipFill>
        <p:spPr>
          <a:xfrm>
            <a:off x="5435640" y="1484280"/>
            <a:ext cx="1344600" cy="2160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5" descr="i?id=5393315&amp;tov=8"/>
          <p:cNvPicPr/>
          <p:nvPr/>
        </p:nvPicPr>
        <p:blipFill>
          <a:blip r:embed="rId6"/>
          <a:stretch/>
        </p:blipFill>
        <p:spPr>
          <a:xfrm>
            <a:off x="250920" y="4581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7" descr="i?id=35872869&amp;tov=2"/>
          <p:cNvPicPr/>
          <p:nvPr/>
        </p:nvPicPr>
        <p:blipFill>
          <a:blip r:embed="rId7"/>
          <a:stretch/>
        </p:blipFill>
        <p:spPr>
          <a:xfrm>
            <a:off x="6877080" y="1484280"/>
            <a:ext cx="2087640" cy="1576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9" descr="i?id=37759371&amp;tov=2"/>
          <p:cNvPicPr/>
          <p:nvPr/>
        </p:nvPicPr>
        <p:blipFill>
          <a:blip r:embed="rId8"/>
          <a:stretch/>
        </p:blipFill>
        <p:spPr>
          <a:xfrm>
            <a:off x="3492360" y="1413000"/>
            <a:ext cx="1943280" cy="125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4:30:56Z</dcterms:created>
  <dc:creator>Плотникова З.Л.</dc:creator>
  <dc:description/>
  <dc:language>en-US</dc:language>
  <cp:lastModifiedBy>дом</cp:lastModifiedBy>
  <dcterms:modified xsi:type="dcterms:W3CDTF">2015-03-05T19:02:38Z</dcterms:modified>
  <cp:revision>62</cp:revision>
  <dc:subject/>
  <dc:title>Слайд 1</dc:title>
</cp:coreProperties>
</file>