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DEB-79CA-4168-8C41-F9A4C75A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3FC-E066-4761-BDB5-A4DCAC98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F71-0D9C-44C8-9FC3-7A56F2A1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A00-36D4-4184-A412-2320BC1A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A9B-FD99-4853-B617-48A31743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4457-6A16-46D8-A079-28E45BDC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B1F-E5A5-46B1-82DC-742C16CA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57C-FC25-4277-9361-D57769A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0860-AEC1-4D7C-9CB5-543B750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BD8-EE86-452E-B20D-9DDCD25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F0AD-ABDA-4A43-86BF-69849E7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DF1-D8DE-4FA5-9311-94363D6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6880-3D5A-4539-9348-B9C6BFF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D9A-3D82-430D-9741-E565F1C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E08-3D76-4340-B3DD-E570B96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FA35-0C0E-4E58-9FF3-7F498AEF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7AE-72A3-4FE7-9CCC-FD752210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602-5D4A-43FC-A1AD-4FE2FD0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993-9F04-4D8D-BABC-5AFD20AA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98E-0E54-4CEC-9864-AA7F0E46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FEB-33C0-40BC-808D-C3483330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753-9C35-46F9-ACBD-F79B68D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1D4-43FC-4CFB-AACD-A529703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916-A93F-4BDE-A58C-986850A1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7DF7-7216-4DDF-916D-D0EB2BBC7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EA4C-B33A-4A95-BD3D-A4383B802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Картинка 0 из 5719"/>
          <p:cNvPicPr/>
          <p:nvPr/>
        </p:nvPicPr>
        <p:blipFill>
          <a:blip r:embed="rId2"/>
          <a:stretch/>
        </p:blipFill>
        <p:spPr>
          <a:xfrm>
            <a:off x="1805040" y="152280"/>
            <a:ext cx="5052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Пес Уголек в капсуле, в которой полетит на орбиту"/>
          <p:cNvPicPr/>
          <p:nvPr/>
        </p:nvPicPr>
        <p:blipFill>
          <a:blip r:embed="rId2"/>
          <a:stretch/>
        </p:blipFill>
        <p:spPr>
          <a:xfrm>
            <a:off x="1562040" y="304920"/>
            <a:ext cx="5699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Уголек и Ветерок готовятся к 22-х дневному полету на спутнике КОСМОС 110"/>
          <p:cNvPicPr/>
          <p:nvPr/>
        </p:nvPicPr>
        <p:blipFill>
          <a:blip r:embed="rId2"/>
          <a:stretch/>
        </p:blipFill>
        <p:spPr>
          <a:xfrm>
            <a:off x="380880" y="533520"/>
            <a:ext cx="845820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Белка и Стрелка - собаки совершившие знаменитый орбитальный полет на корабле Спутник-2"/>
          <p:cNvPicPr/>
          <p:nvPr/>
        </p:nvPicPr>
        <p:blipFill>
          <a:blip r:embed="rId2"/>
          <a:stretch/>
        </p:blipFill>
        <p:spPr>
          <a:xfrm>
            <a:off x="1920960" y="1447920"/>
            <a:ext cx="4653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Герметическая кабина с собаками"/>
          <p:cNvPicPr/>
          <p:nvPr/>
        </p:nvPicPr>
        <p:blipFill>
          <a:blip r:embed="rId2"/>
          <a:stretch/>
        </p:blipFill>
        <p:spPr>
          <a:xfrm>
            <a:off x="2090880" y="304920"/>
            <a:ext cx="4973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Козявка перед полетом"/>
          <p:cNvPicPr/>
          <p:nvPr/>
        </p:nvPicPr>
        <p:blipFill>
          <a:blip r:embed="rId2"/>
          <a:stretch/>
        </p:blipFill>
        <p:spPr>
          <a:xfrm>
            <a:off x="1996920" y="228600"/>
            <a:ext cx="4581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Собака Малышка после благополучного приземления с высоты 110 км"/>
          <p:cNvPicPr/>
          <p:nvPr/>
        </p:nvPicPr>
        <p:blipFill>
          <a:blip r:embed="rId2"/>
          <a:stretch/>
        </p:blipFill>
        <p:spPr>
          <a:xfrm>
            <a:off x="838080" y="301680"/>
            <a:ext cx="72392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Собака Малышка после полета в скафандре"/>
          <p:cNvPicPr/>
          <p:nvPr/>
        </p:nvPicPr>
        <p:blipFill>
          <a:blip r:embed="rId2"/>
          <a:stretch/>
        </p:blipFill>
        <p:spPr>
          <a:xfrm>
            <a:off x="2057400" y="304920"/>
            <a:ext cx="4875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Памятник собаке Лайка в Москве"/>
          <p:cNvPicPr/>
          <p:nvPr/>
        </p:nvPicPr>
        <p:blipFill>
          <a:blip r:embed="rId2"/>
          <a:stretch/>
        </p:blipFill>
        <p:spPr>
          <a:xfrm>
            <a:off x="2398680" y="304920"/>
            <a:ext cx="4336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Памятные доски на здании Института Авиационной и космической медицины, собакам, которые рискуя жизнями первыми испытали космос - Лайке, Белке и Стрелке"/>
          <p:cNvPicPr/>
          <p:nvPr/>
        </p:nvPicPr>
        <p:blipFill>
          <a:blip r:embed="rId2"/>
          <a:stretch/>
        </p:blipFill>
        <p:spPr>
          <a:xfrm>
            <a:off x="2209680" y="152280"/>
            <a:ext cx="4327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Собака Лайка - первое живое существо на орбите Земли"/>
          <p:cNvPicPr/>
          <p:nvPr/>
        </p:nvPicPr>
        <p:blipFill>
          <a:blip r:embed="rId2"/>
          <a:stretch/>
        </p:blipFill>
        <p:spPr>
          <a:xfrm>
            <a:off x="762120" y="3049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Памятник собаке Звездочке в Ижевске"/>
          <p:cNvPicPr/>
          <p:nvPr/>
        </p:nvPicPr>
        <p:blipFill>
          <a:blip r:embed="rId2"/>
          <a:stretch/>
        </p:blipFill>
        <p:spPr>
          <a:xfrm>
            <a:off x="2438280" y="0"/>
            <a:ext cx="38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ргей Павлович Корол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4 из 2664"/>
          <p:cNvPicPr/>
          <p:nvPr/>
        </p:nvPicPr>
        <p:blipFill>
          <a:blip r:embed="rId2"/>
          <a:stretch/>
        </p:blipFill>
        <p:spPr>
          <a:xfrm>
            <a:off x="2590920" y="1447920"/>
            <a:ext cx="4029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такую капсулу собак помещали на время полетов первых советских космических кора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В такой капсуле собаки находились во время полетов первых советских космических кораблей"/>
          <p:cNvPicPr/>
          <p:nvPr/>
        </p:nvPicPr>
        <p:blipFill>
          <a:blip r:embed="rId2"/>
          <a:stretch/>
        </p:blipFill>
        <p:spPr>
          <a:xfrm>
            <a:off x="45720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ыган и Дез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Картинка 3 из 82"/>
          <p:cNvPicPr/>
          <p:nvPr/>
        </p:nvPicPr>
        <p:blipFill>
          <a:blip r:embed="rId2"/>
          <a:stretch/>
        </p:blipFill>
        <p:spPr>
          <a:xfrm>
            <a:off x="1066680" y="1893960"/>
            <a:ext cx="73152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мел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ш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430360" y="1295280"/>
            <a:ext cx="426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и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76520" y="1577880"/>
            <a:ext cx="60195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Собака Козявка на предполетной подготовке"/>
          <p:cNvPicPr/>
          <p:nvPr/>
        </p:nvPicPr>
        <p:blipFill>
          <a:blip r:embed="rId2"/>
          <a:stretch/>
        </p:blipFill>
        <p:spPr>
          <a:xfrm>
            <a:off x="1981080" y="228600"/>
            <a:ext cx="5029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4-09T17:53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