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B47-BAB3-43A8-B0D7-0A5B8607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A8A-C360-4FC5-B0BB-8022A0EA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871-57DD-4D63-B132-553E7C96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6F9-7EB4-44F0-9E7B-97A8B90D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3C18-FE11-4E42-8C30-43CCE948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39D5-6C38-40EE-9349-F31AA99C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44CF-663F-4C43-8D87-5BA6C713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F47B-DCE1-4520-A809-BEA5F063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248D-1B2F-401C-AA76-189E8B6E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779E-2A0F-488A-A7E6-9557E156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38D9-4D09-436C-A9BF-69D8C955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C28-9A81-43E2-8E86-BC63C1E9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82A7-A341-44B7-8607-B4205E2D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C522-EBB0-4648-8249-92796005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6B2E-1653-4BB8-B3DB-40E66E01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8FC1-8440-4758-B633-C31B7046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BEA5-AC77-4027-93B9-9F17C0C0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1C4-A617-4223-A992-9EDB0550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18D-81FC-493C-8A2D-EC64C37C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B11-456F-44B3-AA47-FC573875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D90-0825-49C8-A181-7A8C55FD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570-79D1-4666-8F24-F789EDC5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138-F8A6-4F20-883C-5CE5D0D1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2E4-ADDF-43CA-AFB6-379EBC4A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6C8E-0641-4DC5-B3D6-FA0BEADF89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0262-1D41-475D-A719-6BEC9FD964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8;&#1080;&#1089;&#1091;&#1085;&#1086;&#1082;%20&#1074;&#1072;&#1079;&#1099;&amp;noreask=1&amp;img_url=http%3A%2F%2Fsandalhouse-spb.ru%2Fpublished%2Fpublicdata%2FSANDALHOUSE%2Fattachments%2FSC%2Fproducts_pictures%2FA463_1s.jpg&amp;pos=41&amp;rpt=simage&amp;lr=19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7756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Урок обобщения знаний по теме «Имя числительное» </a:t>
            </a:r>
            <a:br>
              <a:rPr sz="4400"/>
            </a:b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в 6 класс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1640" y="3962160"/>
            <a:ext cx="40323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Автор рабо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Хомякова Оль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Владимировна, учитель русского языка и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Физкульминут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0000"/>
                </a:solidFill>
                <a:latin typeface="Arial"/>
              </a:rPr>
              <a:t>7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0" lang="ru-RU" sz="4400" spc="-1" strike="noStrike">
                <a:solidFill>
                  <a:srgbClr val="e70000"/>
                </a:solidFill>
                <a:latin typeface="Arial"/>
              </a:rPr>
              <a:t>10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4400" spc="-1" strike="noStrike">
                <a:solidFill>
                  <a:srgbClr val="e70000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ru-RU" sz="4400" spc="-1" strike="noStrike">
                <a:solidFill>
                  <a:srgbClr val="e70000"/>
                </a:solidFill>
                <a:latin typeface="Arial"/>
              </a:rPr>
              <a:t>10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0000"/>
                </a:solidFill>
                <a:latin typeface="Arial"/>
              </a:rPr>
              <a:t>10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70000"/>
                </a:solidFill>
                <a:latin typeface="Arial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«Опыты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группа 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/6+1/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5/8- 3 1/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4/5+ 3 1/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+2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груп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345+25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7-3/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«Химический анализ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фемный разбор  имени числите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группа: Один в поле не во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группа: Семь раз отмерь – один отреж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группа: Семеро одного не жд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Сотворчество «Кластер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0000"/>
                </a:solidFill>
                <a:latin typeface="Arial"/>
              </a:rPr>
              <a:t>Разряды                                                                                                                                        Ь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0000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e70000"/>
                </a:solidFill>
                <a:latin typeface="Arial"/>
              </a:rPr>
              <a:t>в середине         на конц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0000"/>
                </a:solidFill>
                <a:latin typeface="Arial"/>
              </a:rPr>
              <a:t>Простые, составные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0000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e70000"/>
                </a:solidFill>
                <a:latin typeface="Arial"/>
              </a:rPr>
              <a:t>количественные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0000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e70000"/>
                </a:solidFill>
                <a:latin typeface="Arial"/>
              </a:rPr>
              <a:t>разные члены предло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e70000"/>
                </a:solidFill>
                <a:latin typeface="Arial"/>
              </a:rPr>
              <a:t>Целые                    дробные          собир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3"/>
          <p:cNvSpPr/>
          <p:nvPr/>
        </p:nvSpPr>
        <p:spPr>
          <a:xfrm>
            <a:off x="2987640" y="1700280"/>
            <a:ext cx="3384720" cy="12747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ительное</a:t>
            </a: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5"/>
          <p:cNvCxnSpPr/>
          <p:nvPr/>
        </p:nvCxnSpPr>
        <p:spPr>
          <a:xfrm flipH="1">
            <a:off x="1907280" y="2492280"/>
            <a:ext cx="1080360" cy="93744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1" name="Прямая со стрелкой 9"/>
          <p:cNvCxnSpPr/>
          <p:nvPr/>
        </p:nvCxnSpPr>
        <p:spPr>
          <a:xfrm flipH="1">
            <a:off x="3994920" y="2060640"/>
            <a:ext cx="505800" cy="223272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2" name="Прямая со стрелкой 11"/>
          <p:cNvCxnSpPr/>
          <p:nvPr/>
        </p:nvCxnSpPr>
        <p:spPr>
          <a:xfrm flipH="1">
            <a:off x="2484000" y="2707920"/>
            <a:ext cx="936000" cy="18010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3" name="Прямая со стрелкой 12"/>
          <p:cNvCxnSpPr/>
          <p:nvPr/>
        </p:nvCxnSpPr>
        <p:spPr>
          <a:xfrm>
            <a:off x="5076360" y="2997360"/>
            <a:ext cx="1583640" cy="20880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4" name="Прямая со стрелкой 13"/>
          <p:cNvCxnSpPr/>
          <p:nvPr/>
        </p:nvCxnSpPr>
        <p:spPr>
          <a:xfrm>
            <a:off x="6084360" y="2565360"/>
            <a:ext cx="1296360" cy="7200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5" name="Прямая со стрелкой 19"/>
          <p:cNvCxnSpPr/>
          <p:nvPr/>
        </p:nvCxnSpPr>
        <p:spPr>
          <a:xfrm flipH="1">
            <a:off x="2410560" y="4581360"/>
            <a:ext cx="1081800" cy="9360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6" name="Прямая со стрелкой 20"/>
          <p:cNvCxnSpPr/>
          <p:nvPr/>
        </p:nvCxnSpPr>
        <p:spPr>
          <a:xfrm flipH="1">
            <a:off x="3418920" y="4724280"/>
            <a:ext cx="432360" cy="8661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7" name="Прямая со стрелкой 21"/>
          <p:cNvCxnSpPr/>
          <p:nvPr/>
        </p:nvCxnSpPr>
        <p:spPr>
          <a:xfrm>
            <a:off x="4284720" y="4653000"/>
            <a:ext cx="288000" cy="79272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8" name="Прямая со стрелкой 30"/>
          <p:cNvCxnSpPr/>
          <p:nvPr/>
        </p:nvCxnSpPr>
        <p:spPr>
          <a:xfrm flipH="1">
            <a:off x="7092720" y="3573360"/>
            <a:ext cx="288000" cy="2880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129" name="Прямая со стрелкой 34"/>
          <p:cNvCxnSpPr/>
          <p:nvPr/>
        </p:nvCxnSpPr>
        <p:spPr>
          <a:xfrm>
            <a:off x="7532640" y="3573360"/>
            <a:ext cx="496080" cy="2880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троль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Тест - пятиминут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Укажите строку, в которой приведены простые числи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шестьсот, сорок, двадцать пять, миллио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три, двести, миллион, пятитысячн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шестьсот, пять тысяч, три седьмы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двадцать два, пять тысяч, пятитысяч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Найдите собирательное числительно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ять книг; б) одна третья сада; в) двое оч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Укажите количественное числительно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двадцатый век; б) три стола; в) первое сентяб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Нужен ли Ь в числительных девят..сот, восем..надца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в 1-м слове – нужен, во 2-м – не нуже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в 1-м слове – не нужен, во 2-м –нуже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в обоих словах Ь не нуже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в обоих словах Ь  нуж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Найди правильный 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                   Б)                    В)                  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тыр..мя словами           Ь                      -                      Ь                   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м..сот                             Ь                      -                      Ь                   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ест..надцать                   Ь                      -                      -                    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ят..десят человек            Ь                      -                      Ь                   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укет настроен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i?id=513830620-2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125360"/>
            <a:ext cx="7848720" cy="5445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6"/>
          <p:cNvSpPr/>
          <p:nvPr/>
        </p:nvSpPr>
        <p:spPr>
          <a:xfrm>
            <a:off x="4284720" y="4797360"/>
            <a:ext cx="1150920" cy="36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4572000" y="2349360"/>
            <a:ext cx="1150920" cy="360360"/>
          </a:xfrm>
          <a:prstGeom prst="cloudCallout">
            <a:avLst>
              <a:gd name="adj1" fmla="val 6277"/>
              <a:gd name="adj2" fmla="val -7026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3203640" y="1844640"/>
            <a:ext cx="1150920" cy="503280"/>
          </a:xfrm>
          <a:prstGeom prst="cloudCallout">
            <a:avLst>
              <a:gd name="adj1" fmla="val 150138"/>
              <a:gd name="adj2" fmla="val 641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3348000" y="5373720"/>
            <a:ext cx="1150920" cy="36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4932360" y="3068640"/>
            <a:ext cx="1150920" cy="360360"/>
          </a:xfrm>
          <a:prstGeom prst="cloudCallout">
            <a:avLst>
              <a:gd name="adj1" fmla="val -62550"/>
              <a:gd name="adj2" fmla="val -301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419640" y="2781360"/>
            <a:ext cx="1150920" cy="36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 flipV="1">
            <a:off x="5076720" y="4220280"/>
            <a:ext cx="1150920" cy="505080"/>
          </a:xfrm>
          <a:prstGeom prst="cloudCallout">
            <a:avLst>
              <a:gd name="adj1" fmla="val -43796"/>
              <a:gd name="adj2" fmla="val 358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3780000" y="3429000"/>
            <a:ext cx="1150920" cy="36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4788000" y="5157720"/>
            <a:ext cx="1150920" cy="36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3059280" y="4581360"/>
            <a:ext cx="1150920" cy="36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5219640" y="1700280"/>
            <a:ext cx="1150920" cy="36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7"/>
          <p:cNvSpPr/>
          <p:nvPr/>
        </p:nvSpPr>
        <p:spPr>
          <a:xfrm>
            <a:off x="3851280" y="4149720"/>
            <a:ext cx="1150920" cy="36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5435640" y="3573360"/>
            <a:ext cx="1150920" cy="433440"/>
          </a:xfrm>
          <a:prstGeom prst="cloudCallout">
            <a:avLst>
              <a:gd name="adj1" fmla="val -25032"/>
              <a:gd name="adj2" fmla="val -282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4716360" y="5877000"/>
            <a:ext cx="1150920" cy="36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0000"/>
                </a:solidFill>
                <a:latin typeface="Arial"/>
              </a:rPr>
              <a:t>Что мы знаем об имени числительн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006600"/>
                </a:solidFill>
                <a:latin typeface="Times New Roman"/>
              </a:rPr>
              <a:t>Эпиграф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Arial"/>
              </a:rPr>
              <a:t>Один в поле не во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Arial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Пос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00"/>
                </a:solidFill>
                <a:latin typeface="Times New Roman"/>
              </a:rPr>
              <a:t>Прием «Кроссворд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860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такое 5, возьмите корень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В слове учитель возьмите два суффи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С помощью какого суффикса образовалось слово СОНН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Определите окончание в слове У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0033"/>
                </a:solidFill>
                <a:latin typeface="Times New Roman"/>
              </a:rPr>
              <a:t>Числ</a:t>
            </a:r>
            <a:r>
              <a:rPr b="0" i="1" lang="ru-RU" sz="6600" spc="-1" strike="noStrike">
                <a:solidFill>
                  <a:srgbClr val="330033"/>
                </a:solidFill>
                <a:latin typeface="Times New Roman"/>
              </a:rPr>
              <a:t>итель</a:t>
            </a:r>
            <a:r>
              <a:rPr b="1" lang="ru-RU" sz="6600" spc="-1" strike="noStrike">
                <a:solidFill>
                  <a:srgbClr val="330033"/>
                </a:solidFill>
                <a:latin typeface="Times New Roman"/>
              </a:rPr>
              <a:t>н</a:t>
            </a:r>
            <a:r>
              <a:rPr b="0" lang="ru-RU" sz="6600" spc="-1" strike="noStrike">
                <a:solidFill>
                  <a:srgbClr val="330033"/>
                </a:solidFill>
                <a:latin typeface="Times New Roman"/>
              </a:rPr>
              <a:t>ое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00"/>
                </a:solidFill>
                <a:latin typeface="Times New Roman"/>
              </a:rPr>
              <a:t>Контрольно-подготовительный эта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«Найди ошибк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рослое р..стение кукурузы за сутки испаряет около восемьсот граммов воды. Банан достигает высоты шесть-семь метров, а бамбук – сорок метров. На обеих деревьях мы заметили гнезда птиц. Сосны достигают тридцать- сорок метров, а живут до триста пятидесяти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«Лаборатория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600200"/>
          <a:ext cx="7772400" cy="2108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лые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Дроб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обира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ьдесят пя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 восемьдесят пя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ок девя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пят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ь с четвер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ь целых две втор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а втор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е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е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1:29:21Z</dcterms:created>
  <dc:creator>Бажанова ВИ</dc:creator>
  <dc:description/>
  <dc:language>en-US</dc:language>
  <cp:lastModifiedBy>Ольга</cp:lastModifiedBy>
  <dcterms:modified xsi:type="dcterms:W3CDTF">2015-03-01T17:01:55Z</dcterms:modified>
  <cp:revision>50</cp:revision>
  <dc:subject/>
  <dc:title>Использование современных образовательных технологий на уроках русского языка и литературы</dc:title>
</cp:coreProperties>
</file>