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CC7-6C64-4F2D-A822-A9281D63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6A6-513F-46B1-8EB9-1B77CCC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EAB-7CD8-4BAF-8BC3-2581AE31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41C-8AE7-4F03-B41E-FE4A5914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05633-4A02-4DE6-995B-44531B29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5E6AD-6593-461E-B460-1F4302D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2A23-A5AE-4593-84D9-5217672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55803-B105-4D92-AC66-0DC337A4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73FF0-7915-4A69-9CDA-CE135AE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CB1B7-3321-45BC-B44B-C9D1D5F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57DB8-8BB6-43AE-B839-2939340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58B-4412-4098-9C15-8EEBEB7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D9B6E-59AB-4C64-B284-9E088C7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8087E-865E-46B2-B6C0-353A32A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66518-FC43-4D58-8F22-FAE9240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B0CC2-E648-4064-A716-ED5731E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22BA4-3428-42F5-A36B-A835D3C1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72F-F6D0-4A92-9EA6-8DB4DB7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9CE-EB64-40EC-8294-A4EB75F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81F-5FE3-4828-AE20-6D5C73D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125-2B3F-408A-AC48-4A4CB2C8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D1F-AB64-4A7B-AFAF-5A3C54A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D1B-9A04-41DF-9606-58FE4E3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957-72B4-4A4E-97BD-E5AB212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4BFE-A3B4-414E-9BDF-0C6DEF846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16A-4964-49E8-BBF0-8407D3D1A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3ff"/>
                </a:solidFill>
                <a:latin typeface="Arial"/>
              </a:rPr>
              <a:t>Молодежные субкультуры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3e3ff"/>
                </a:solidFill>
                <a:latin typeface="Arial"/>
              </a:rPr>
              <a:t>«Ремонт»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— совместные действия по «оздоровлению» общества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Гопни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и ходят на дискотеки в дешевых спортивных костюмах,  они агрессивны, невоспитанны и нетолерантн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e3e3ff"/>
                </a:solidFill>
                <a:latin typeface="Arial"/>
              </a:rPr>
              <a:t>Влияние западных молодежных субкультурных феноменов</a:t>
            </a:r>
            <a:endParaRPr b="0" lang="en-US" sz="53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Скинхе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волна – 60-е года, Великобр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волна – 70-е года, Великобр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ци-скины – 70-е года, Великобр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e3ff"/>
                </a:solidFill>
                <a:latin typeface="Arial"/>
              </a:rPr>
              <a:t>Скинхеды в России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3e3ff"/>
                </a:solidFill>
                <a:latin typeface="Arial"/>
              </a:rPr>
              <a:t>Появление в России – начало 90-х гг.</a:t>
            </a:r>
            <a:br>
              <a:rPr sz="3700"/>
            </a:br>
            <a:r>
              <a:rPr b="0" lang="ru-RU" sz="3700" spc="-1" strike="noStrike">
                <a:solidFill>
                  <a:srgbClr val="e3e3ff"/>
                </a:solidFill>
                <a:latin typeface="Arial"/>
              </a:rPr>
              <a:t>1992г. – около десятка скинхедов</a:t>
            </a:r>
            <a:br>
              <a:rPr sz="3700"/>
            </a:br>
            <a:r>
              <a:rPr b="0" lang="ru-RU" sz="3700" spc="-1" strike="noStrike">
                <a:solidFill>
                  <a:srgbClr val="e3e3ff"/>
                </a:solidFill>
                <a:latin typeface="Arial"/>
              </a:rPr>
              <a:t>1999г. – свыше 20 тысяч человек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рганизации скинхед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– «Скинлегион»,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&amp;Hono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Русский филиал», «Объединенные бригады 88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– «Русский кулак», «Коловра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ижнем Новгороде – «Сев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Ярославле –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 Bea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Футбольные болельщики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наты московского «Спартака»:        85 тыс.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Ред-уайт хулиганс»,«Гладиаторы», «Восточный фронт», «Северный фрон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авы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олдырь бой-фрон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Экологисты</a:t>
            </a: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6920" y="2349360"/>
            <a:ext cx="6472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и ориентированные группы немногочисленны и в известной мере являются подражанием формам молодежной активности Запа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Байкеры , мотоциклист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одражать западным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айкера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гут преимущественно состоятельные 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тоциклис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вижение формируется в среде молодых людей из семей с небольшим достат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бкультура –совокупность специфических социально-психологических  признаков,  влияющих на стиль жизни и мышление  определенных групп людей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3e3ff"/>
                </a:solidFill>
                <a:latin typeface="Arial"/>
              </a:rPr>
              <a:t>Рейвер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йв -«дикая вечеринк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ld part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танцы или ситуация отчаянного поведен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блике рейверов и стилистике поведения реализуется идея отхода человека от природы. Индустриальные ритмы, характерные для музыкального стиля рейверов, — своего рода альтернатива рок-музы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Го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илистическая основа - "готическая эстетика", музыка - "готический, dead металл". Любимые темы - вампириз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Хип-хоп культур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-«уличная культура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ейк-д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э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ф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-дже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ит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лл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Романтическая компенсация повседневной рутины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игге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исследователи подземных коммуника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кинис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вижение основанное на проведение ролевых игр, которые основываются на сюжетах книг Джона Рональда Роуэла Толкиена «Хоббит», «Властелин колец» и «Сильмарилио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деанис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увлечение индейской культур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300" spc="-1" strike="noStrike">
                <a:solidFill>
                  <a:srgbClr val="e3e3ff"/>
                </a:solidFill>
                <a:latin typeface="Arial"/>
              </a:rPr>
              <a:t>Флешмоберры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бкультуры – это выход социальной активности молоде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бкультуры могут служить платформой как для негативных тенденций, так и иметь позитивное общественное зна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молодежных субкультур  позволяет  лучше понимать устремления современной молоде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Российская специф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иальная и экономическая неустойчивость российского общества и обнищание основной части насе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бенности социальной мобильности в российском общест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омия в российском общест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Основные черты российских молодежных субкульту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язь с субкультурами кримин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лиянием западной молодежной м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еноменом романтической компенсации повседневной рути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спроизводством некоторых черт советского прошл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3e3ff"/>
                </a:solidFill>
                <a:latin typeface="Arial"/>
              </a:rPr>
              <a:t>Криминализация молодежных субкультур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вершено преступлений среди молодых людей в возрасте 18-24 го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90 г. -  189,5 тыс.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6 г. - 465,4 тыс.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2006 г.среди преступников –      932,8 тыс. молодых россиян (53,6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Число осужденных в возрасте до 30 лет в период между 1990 и 2006 г. составило 5576,3 тыс. человек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В середине 1990-х годов в России по официальным данным насчитывалось более 5 тыс.  группировок криминального характера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Люберы</a:t>
            </a:r>
            <a:r>
              <a:rPr b="1" i="1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— одна из молодежных групп криминального характера, получившая широкую известность как модель агрессивного поведения молодежи в условиях социальной аномии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09:54Z</dcterms:created>
  <dc:creator>Elena</dc:creator>
  <dc:description/>
  <dc:language>en-US</dc:language>
  <cp:lastModifiedBy>Elena</cp:lastModifiedBy>
  <dcterms:modified xsi:type="dcterms:W3CDTF">2007-11-18T15:14:14Z</dcterms:modified>
  <cp:revision>42</cp:revision>
  <dc:subject/>
  <dc:title>Молодежные субкультуры</dc:title>
</cp:coreProperties>
</file>