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F0C-514F-40C3-B5E0-1235DB09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E21-99EA-47A3-B0B2-EB110CDC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C3A-A862-4659-AE6C-2FEB5C63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C8E-6902-468C-942A-AE85B530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0E5-EFAA-447A-9D8B-73981466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900-EB37-471B-8C33-BA42F6FC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6E9-EF52-4575-AB20-88721C89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D92-E369-4FBB-B392-69BA49BD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216-3322-40CA-BEBB-8D7DEF80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4D8-5A37-4DBD-81F2-E23C57B6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F0E-EFC1-4D16-AEF9-6DFA5C6D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911-B5DA-40DE-BB92-7EEF3702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434C-DB07-4BE9-8BBE-EF8EF5F49F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я родослов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Рамки для фотошопа - Тачки &quot; Оформление детского сада, все для детского сада, родительский уголок, папки передвижки - SkyClipA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539640" y="620640"/>
            <a:ext cx="79930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Я РОДОСЛОВНАЯ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203640" y="4280040"/>
            <a:ext cx="568944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оект выполнил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ченица 2б кла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ухинова Стел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атлыбаева Наз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.06.1951-6.05.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ботала медсест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3708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дед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узов Алексей Андре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ник Великой Отечественной войны, воевал под Смолен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грузов алексей андреевич"/>
          <p:cNvPicPr/>
          <p:nvPr/>
        </p:nvPicPr>
        <p:blipFill>
          <a:blip r:embed="rId2"/>
          <a:stretch/>
        </p:blipFill>
        <p:spPr>
          <a:xfrm>
            <a:off x="4643280" y="1341360"/>
            <a:ext cx="372132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дед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хинов Явид Вали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ник Великой Отечественной войны, был разведч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Мухинов Явид Валиевич"/>
          <p:cNvPicPr/>
          <p:nvPr/>
        </p:nvPicPr>
        <p:blipFill>
          <a:blip r:embed="rId2"/>
          <a:stretch/>
        </p:blipFill>
        <p:spPr>
          <a:xfrm>
            <a:off x="4572000" y="1268280"/>
            <a:ext cx="36496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дед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тлыбаев Гафар Хасан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ник Великой Отечественной войны, был связ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татлыбаев гафар хасанович"/>
          <p:cNvPicPr/>
          <p:nvPr/>
        </p:nvPicPr>
        <p:blipFill>
          <a:blip r:embed="rId2"/>
          <a:stretch/>
        </p:blipFill>
        <p:spPr>
          <a:xfrm>
            <a:off x="4788000" y="1197000"/>
            <a:ext cx="352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Проходной балл 2014 генеалогическое древо шаблон Поступаем вместе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428472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633680" y="39528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т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6100200" y="39528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2771640" y="32320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681480" y="26557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5590800" y="25131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7524720" y="280044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-65160" y="14320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ка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990720" y="9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2101680" y="2152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3289320" y="162864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4505040" y="1144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ди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5776200" y="928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ф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7009200" y="14320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8150040" y="11444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5"/>
          <p:cNvSpPr/>
          <p:nvPr/>
        </p:nvSpPr>
        <p:spPr>
          <a:xfrm>
            <a:off x="3132000" y="4508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6"/>
          <p:cNvSpPr/>
          <p:nvPr/>
        </p:nvSpPr>
        <p:spPr>
          <a:xfrm>
            <a:off x="2987640" y="4797360"/>
            <a:ext cx="1346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3059280" y="42926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б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а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хино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е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ась 21 ноября 2006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ца 2 б класса Габишевско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"/>
          <p:cNvPicPr/>
          <p:nvPr/>
        </p:nvPicPr>
        <p:blipFill>
          <a:blip r:embed="rId2"/>
          <a:stretch/>
        </p:blipFill>
        <p:spPr>
          <a:xfrm>
            <a:off x="4718160" y="1600200"/>
            <a:ext cx="38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ти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ухинов Робе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ся 18 июля 2013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ро пойдет в дет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1799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м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хино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тал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.03.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тель в строительном университ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4284720" y="907920"/>
            <a:ext cx="43862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хинов Рен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6.05.19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нимается строитель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1180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б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рузова Там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04.19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нсионерка, работала директором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4284720" y="1197000"/>
            <a:ext cx="4402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д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узов Александ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01.19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нсионер, работал директором совхоза, учите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427640" y="1197000"/>
            <a:ext cx="35542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б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хинов Яку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4.01.1949-19.12.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л на кра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4284720" y="1268280"/>
            <a:ext cx="4248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6:06:26Z</dcterms:created>
  <dc:creator>Пользователь</dc:creator>
  <dc:description/>
  <dc:language>en-US</dc:language>
  <cp:lastModifiedBy>Кузиева Юлия</cp:lastModifiedBy>
  <dcterms:modified xsi:type="dcterms:W3CDTF">2015-03-04T11:46:35Z</dcterms:modified>
  <cp:revision>6</cp:revision>
  <dc:subject/>
  <dc:title>Моя родословная</dc:title>
</cp:coreProperties>
</file>