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46C-4058-4852-BD7D-25DE990F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081-2375-4563-A9AD-A8AA5434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18E-6711-4FB8-9BC5-1DB230F3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592-65CF-4315-B8EA-92DB87A9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200F-CE0F-41A5-A137-6882E83F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3359-D44C-4D63-9C34-D1816243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4F0-B924-400F-8A87-7934F92F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658B-E6DA-40C6-B54A-85A33D87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590A-0F82-4AA1-BE88-58730914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AF4F-9D62-4103-9FED-DC446CF0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4310-7F9E-4BDE-B91F-84C0B5D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D33-3FD3-425E-96C6-0D9F7402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8230-05F4-4FA1-81D8-803B4E0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8DF9-E90B-475A-A67E-1186C39B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50CB-2730-43C5-9955-2089AC80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A3CE-6BD6-4975-9B2B-806851CF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BD3F-A00A-4B8D-86C0-EE282CEA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6B2C-4035-4725-8FC8-5F2B2FF7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7426-5DA8-4DA2-96C7-9617ECB6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406B-D0E5-4164-87D7-524EF79E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C6AA-5CD5-43F3-9D98-E23F9CB8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01B3-E69B-458D-A05A-5B9BA1EF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448-31A3-437E-931A-9434E4DC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C8A6-2DEA-4B57-9F7F-911FC7BB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559A-8855-49B0-AC12-EDA6DA0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C10D-A5F1-4272-84C6-5C3DCC2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DA5E-FFF3-4151-84A9-6D1C352C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BD8E-93E6-4238-BDB7-4CC56088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FA0A-3CE2-4072-98C9-4DC1C27D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690D-F9EE-4B24-BE24-7DF5DFB4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196F-FC35-4EEB-8850-1580372E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0B68-4B32-4014-9CAD-8EE2DB9E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EE39-E027-4831-AF59-4092368E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DC8-4855-4F07-B738-E8D4E7CE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8EEB-3255-46AC-B117-B12D1CDE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431E-B548-41CF-8030-F8E1F921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7269-A5D6-4F89-AB69-72B2B77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F23E-6852-4D42-9901-73B3EEA6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111E-052D-4180-A828-98688A56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E413-830F-4C52-B826-AE43F28D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59B4B-8C5E-4125-A9B9-55D9217A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9D84C-DDE6-4CDD-A083-C030F05F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F929-EAE2-43D3-93A9-9F45F697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FDC2-64F3-4835-B3C6-E0651BD9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632-5AA1-46F1-B700-19AC883A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FAA8-97A0-4716-BF67-7B032B5C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5CF5-2978-43CB-BCED-DA4BB0CF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8E2A-576D-46DD-AAC0-60B2FDF6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C9182-9D65-4BE8-9ECB-80296FEF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BB7EB-A4FE-45BF-A69F-8EFAB507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AA117-4091-4F8B-8226-817329D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2CAC-27A4-4327-BB2B-FBDF8FC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A93D-C87B-4172-811D-B59BD6A0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EFDAE-7902-4414-91AD-0EEF984B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B546-7049-4D59-958F-BD931ED3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645-AA4C-4235-B4D5-9E22E48A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422F9-2B85-4902-A272-41D76130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4689D-61AA-4A77-A0C7-0C5C867D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077F2-50D0-4A52-B2BE-6C9C71D8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CC17-97D1-4575-9168-CEFBCC84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61B40-23E8-454F-B227-A3F3374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D386B-2109-4123-BAF9-F280E93B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C1E5A-6477-4DE2-83DD-292EF9A0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6AFAB-B5C9-4DBE-904F-C91A3CC8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176D3-77F3-4AB6-AA44-F78EE3C6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98A9F-A3EF-4778-9835-BC06376B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3C3-B71D-4AA4-83CC-EFD79FB1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A2BD3-FBCD-4492-8530-F738B737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00249-521B-4EB3-8C32-A2201D4D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590A-6703-41DA-81F1-A2AC5067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56E28-8F87-4237-A699-629FAF0E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34DEC-F016-48B0-931C-1D5ABF92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9441C-8618-445C-B0A7-3AABE682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82953-594A-4D62-92C2-7F631C7A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A8ACB-EA92-4F12-AD84-C4C1981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867C0-97E7-4D3E-B4EE-5F44EC10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7FBF2-77EA-4B9B-BCA4-8A6C4F92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4A6-FDD7-4042-BCF7-35F4453A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AA99-FD7E-4AA7-96D6-B94F1537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E63D-BEBC-4C62-9A94-D43C35E6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70EB3-DE51-441D-80B5-3C5F31F4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8D153-7861-4526-AFE1-A454EB03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7A4DA-0B9D-4CFE-BFA9-657D705A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9B8-C142-4AD6-AB9D-7A16753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CF2B-8158-4954-BA8E-4302002FBB6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E659-5F10-4A46-84CB-4DE5855A61C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DA5-926D-4982-8B90-65ACD7EAA89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BE30-1EE3-48D6-B738-B5BFAF857D3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CB90-BB0E-4DB1-89DB-33D88896FEB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8B85-C1CF-446D-88C9-A83D06BD99E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0D18-6DA6-4B57-A21A-F9200D61858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8454960" cy="20782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дготовил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Баринова Светлана Викторовна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итель начальных классов,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квалификационная категор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БОУ СОШ № 5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Русь опоясана реками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 дебрями окружена,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 болотами и журавлями,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 с мутным взором колдуна…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Где разноликие народы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з края в край, из дола в дол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едут ночные хороводы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 заревом горящих сёл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Где все пути и все распутья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Живой клюкой измождены,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 вихрь свистящий в голых прутьях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ёт преданье старины…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06320" y="2071440"/>
            <a:ext cx="5718240" cy="37861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rbel"/>
              </a:rPr>
              <a:t>Страна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rbel"/>
              </a:rPr>
              <a:t>Государство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rbel"/>
              </a:rPr>
              <a:t>Родина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42600" y="499680"/>
            <a:ext cx="815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olas"/>
              </a:rPr>
              <a:t>Россия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olas"/>
              </a:rPr>
              <a:t>Что такое символ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Символ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– условный знак какого – нибудь  понятия, явления, иде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Государственные символы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ают наглядное  и доступное представление о стране как для самих граждан , так и для других народов и стра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olas"/>
              </a:rPr>
              <a:t>Герб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старину непременной частью вооружения воинов являлся щит, на котором изображался личный родовой знак. Эти знаки передавались из поколения в поколение. Так появились герб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6801120" cy="59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Русский князь  Иван </a:t>
            </a: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III 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женился на дочери византийского императора Софье (Зое) Палеолог. Византия была очень сильным и богатым государством. На гербе Византии был изображён орёл как символ непобедимости и силы.</a:t>
            </a:r>
            <a:br>
              <a:rPr sz="28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Так с 1497 года гербом Российского государства стал византийский герб – двуглавый орёл.  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001000" y="4786200"/>
            <a:ext cx="57168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C:\Documents and Settings\Администратор\Мои документы\Мои рисунки\Герб и флаг\22.jpeg"/>
          <p:cNvPicPr/>
          <p:nvPr/>
        </p:nvPicPr>
        <p:blipFill>
          <a:blip r:embed="rId1"/>
          <a:stretch/>
        </p:blipFill>
        <p:spPr>
          <a:xfrm>
            <a:off x="6215040" y="4429080"/>
            <a:ext cx="2768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olas"/>
              </a:rPr>
              <a:t>Флаг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«Отцом» Российского флага историки считают первого императора России Петра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Необходимость создания флага была вызвана началом строительства  торгового флота. В 1883 году было опубликовано высочайшее повеление: «…дозволить украшение зданий флагами, употреблять исключительно русский флаг, состоящий из трёх полос: верхней – белого, средней – синего, нижней – красного цветов»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230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olas"/>
              </a:rPr>
              <a:t>Гимн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Исконное значение гимна как торжественной песни в честь героев и богов сохранилось вплоть до петровских времён. Первым русским гимном в 1791 году стал торжественный хор Осипа Козловского «Гром победы раздавайся!» на слова Г. Державина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о велению Николая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ыл создан новый гимн А. Львовым на слова В. Жуковского «Боже, царя храни!», который оставался государственным символом до свержения царя в 1917 году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В 1943 году Б. Александровым был написан новый гимн, который просуществовал до августа 1991 года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В 2000 году указом президента России В. В. Путиным был утверждён государственный гимн на музыку Б. Александрова и слова С. Михалкова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Гимн РФ.mp3" descr=""/>
          <p:cNvPicPr/>
          <p:nvPr/>
        </p:nvPicPr>
        <p:blipFill>
          <a:blip r:embed="rId1"/>
          <a:stretch/>
        </p:blipFill>
        <p:spPr>
          <a:xfrm>
            <a:off x="7715160" y="578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79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58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В Европе с Азией страна 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Раскинулась широко – 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Меж океанов и морей,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От запада к востоку.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Вот и взирает птица – царь 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В две стороны внимательно: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В порядке ль всё, не шёл чтоб враг,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Следит он обязательно.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В руках держава, скипетр есть,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Над главами короны.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И всадник на коне верхом,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И змей, копьём сражённый.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Флаг России – триколор,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Полотнище в три цвета.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В нём яркой красной полосой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Страна наша воспета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  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49:51Z</dcterms:created>
  <dc:creator>Customer</dc:creator>
  <dc:description/>
  <dc:language>en-US</dc:language>
  <cp:lastModifiedBy>Леново</cp:lastModifiedBy>
  <dcterms:modified xsi:type="dcterms:W3CDTF">2015-03-05T18:30:22Z</dcterms:modified>
  <cp:revision>11</cp:revision>
  <dc:subject/>
  <dc:title>«Овеянные славою флаг наш и герб»</dc:title>
</cp:coreProperties>
</file>