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A2B-3C7F-4BB3-B099-6ADCCF09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3EC-8568-41FD-8320-922CCDB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E89-D0F5-4D9D-9310-90C291D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237-B861-431A-9875-25C6AF87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016-3E14-4DA4-8017-8C0E1D9C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DD82-05EC-44E8-B419-BF8B44E2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9A61-EAA4-4B41-891F-6728966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7100-FFB2-42A9-BC51-805C22F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FAF-DC78-425C-A655-989AB1E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C8A-3282-4645-89B4-BCA6C436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287B-3A93-420E-8D77-037CBBE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CD4-87EC-4326-AA94-7747DE27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4F0-EEE1-4B8D-B434-7DD25C9F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B206-5718-49B2-9408-57CA791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F91-37B0-48A2-BF80-F3B2E20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BC06-989A-4B68-8453-3991F96A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F526-1D40-409A-A806-6A2CD11E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255-9ECC-42AD-97DB-25D8147D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5DB-AB2A-4635-A02C-694E60D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6CF-2E83-4D94-94C8-E6367FFD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676-C91F-4191-9BD0-8BB76A9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6B0-1883-43C8-9655-6A36DA2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1A3-E501-4B13-A975-4F2768B5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22B-2B8F-4E1B-B0D6-278ACCD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FBB3-A83B-4E3C-B37D-8F6F39947F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505-3D90-42FE-9688-6EFBF6564D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Внеклассное мероприятие на тему: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Рисунок 5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0" y="1295280"/>
            <a:ext cx="914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Почетно это звание – электрик!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0" y="4419720"/>
            <a:ext cx="3505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ыполнила: мастер п/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рупеня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4.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Кто и когда впервые  изобрел электрическую лампочку?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А. Белл в 1876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А.С. Попов в 1895 году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А.Н.Лодыгин в 1872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9999"/>
                </a:solidFill>
                <a:uFillTx/>
                <a:latin typeface="Arial"/>
              </a:rPr>
              <a:t>ответ 4: 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68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3. А.Н.Лодыгин в 1872 году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5: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Кто из ученых открыл явление электромагнитной индукции?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И. Ньюто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М. Фара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А. Столе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69999"/>
                </a:solidFill>
                <a:uFillTx/>
                <a:latin typeface="Arial"/>
              </a:rPr>
              <a:t>ОТВЕТ 5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2. М. Фарадей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6.</a:t>
            </a:r>
            <a:br>
              <a:rPr sz="2600"/>
            </a:b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Какой принцип лежит в основе работы магнитного пускателя?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Принцип Ле Шател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Принцип электромагнитной ин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Принцип действия закона Джоуля - Лен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Ответ 6.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2. Принцип электромагнитной индукции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7: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Что означает первая буква в марке провода АППВ?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Алюминиевая жи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Токоведущая жила из ме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Плоский пров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69999"/>
                </a:solidFill>
                <a:uFillTx/>
                <a:latin typeface="Arial"/>
              </a:rPr>
              <a:t>ОТВЕТ 7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1. Алюминиевая жила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8.</a:t>
            </a:r>
            <a:r>
              <a:rPr b="1" lang="ru-RU" sz="26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Что представляет собой процесс опрессовки жил проводов и кабелей?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Один из способов оконцевания и соединения жил проводов и каб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Приспособление для соединения провод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Прокладка кабе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ОТВЕТ 8. 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1. Один из способов оконцевания и соединения жил проводов и кабелей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669999"/>
                </a:solidFill>
                <a:uFillTx/>
                <a:latin typeface="Arial"/>
              </a:rPr>
              <a:t>ЦЕЛЬ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звитие познавательного интереса к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сширение кругоз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вышение мотиваци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бобщения знаний по спец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ff0000"/>
                </a:solidFill>
                <a:uFillTx/>
                <a:latin typeface="Arial"/>
              </a:rPr>
              <a:t>Конкурс "Черный ящик"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Вносятся ящик. В нем лежит прибор. Ваша задача узнать что за прибор находится в «черном ящик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Рассказать для чего применяется этот прибо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7632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98760" indent="-316080">
              <a:spcBef>
                <a:spcPts val="16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Спасибо все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2280" y="13712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ДРУГ ПОГАС В КВАРТИРЕ С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АК НАМ БЫТЬ КТО ДАСТ СОВ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ОН ПРИХОДИТ СРАЗУ В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РЕМОНТИРУЕТ ПРОВО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ЕЙСТВУЕТ УМЕЛО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 ЭЛЕКТРИЧЕСТВОМ, ДРУЗЬЯ,БЫТЬ БЕСПЕЧНЫМИ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НЕЛЬЗ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6430" r="0" b="0"/>
          <a:stretch/>
        </p:blipFill>
        <p:spPr>
          <a:xfrm>
            <a:off x="0" y="977760"/>
            <a:ext cx="4768920" cy="384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4648320" y="1523880"/>
          <a:ext cx="5114880" cy="2981520"/>
        </p:xfrm>
        <a:graphic>
          <a:graphicData uri="http://schemas.openxmlformats.org/drawingml/2006/table">
            <a:tbl>
              <a:tblPr/>
              <a:tblGrid>
                <a:gridCol w="341280"/>
                <a:gridCol w="341280"/>
                <a:gridCol w="339840"/>
                <a:gridCol w="341280"/>
                <a:gridCol w="341280"/>
                <a:gridCol w="341280"/>
                <a:gridCol w="341280"/>
                <a:gridCol w="339840"/>
                <a:gridCol w="341280"/>
                <a:gridCol w="341280"/>
                <a:gridCol w="341280"/>
                <a:gridCol w="341280"/>
                <a:gridCol w="339840"/>
                <a:gridCol w="341280"/>
                <a:gridCol w="341280"/>
              </a:tblGrid>
              <a:tr h="42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4"/>
          <p:cNvSpPr/>
          <p:nvPr/>
        </p:nvSpPr>
        <p:spPr>
          <a:xfrm>
            <a:off x="6144120" y="23385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318080" cy="672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9999"/>
                </a:solidFill>
                <a:latin typeface="Arial"/>
              </a:rPr>
              <a:t>КОНКУР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ВОПРОСОВ И ОТВЕ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«ЭРУДИ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669999"/>
                </a:solidFill>
                <a:uFillTx/>
                <a:latin typeface="Arial"/>
              </a:rPr>
              <a:t>Вопрос 1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Почему момент включения наиболее опасен для ламп накаливания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669999"/>
                </a:solidFill>
                <a:uFillTx/>
                <a:latin typeface="Arial"/>
              </a:rPr>
              <a:t>Вопрос 2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Для защиты электрических сетей используются различного рода предохранители. В быту это чаще всего пробки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669999"/>
                </a:solidFill>
                <a:latin typeface="Arial"/>
              </a:rPr>
              <a:t>Что может вызвать их выход из строя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9999"/>
                </a:solidFill>
                <a:uFillTx/>
                <a:latin typeface="Arial"/>
              </a:rPr>
              <a:t>Вопрос 3</a:t>
            </a: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Кто первый из великих русских ученых обратил внимание на электрические явления и сумел дать им материалистическое объяснение?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1. Михаил Васильевич Ломоно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2. Иван Иванович Ползун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Arial"/>
              </a:rPr>
              <a:t>3. Иван Петрович Кулибин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69999"/>
                </a:solidFill>
                <a:uFillTx/>
                <a:latin typeface="Arial"/>
              </a:rPr>
              <a:t>Ответ 3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Arial"/>
              </a:rPr>
              <a:t>1. Михаил Васильевич Ломоносов.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ina</cp:lastModifiedBy>
  <dcterms:modified xsi:type="dcterms:W3CDTF">2014-05-29T18:37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