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gif" ContentType="image/gif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1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677-5B2E-4463-AF8D-43D86F26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38F-74AC-4DDF-8D77-03D7CF18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81D2-6A3E-4402-855E-0AC719A4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60AD-81F9-42F5-84DA-738B379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DF66C-C400-4A39-8217-B85AE19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CC3FD-F63F-42D9-AB42-271847B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4E83-A52D-4A17-B274-0BB27C4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A25A6-67A4-4113-B22C-AF574FD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2BFFF-C07C-4888-9F28-8B3A7BFD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208B6-FB9C-4F9D-A80E-0789B5C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7D4AE-119B-4902-8F0C-7191650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279E6-5B49-449B-B7C7-FB0A125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BEB-79E2-4BA9-8D79-9945DE63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3B39E-4B0C-41B0-974E-CC30FFA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E2C12-AFBE-4C6E-BC49-AF67CA1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E3CF0-9032-4866-9D5A-128E45EB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A5191-EA88-4734-9657-B7F8DDEB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E93E4-7104-4F5C-A1A8-69F0FB2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F5C48-1C7A-4CC8-9A16-CC5FFA32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9466F-588E-4DC1-8960-88A8C45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C8A56-0B85-4D7E-86C4-12E333E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2BE26-3591-485B-8B08-A954E60A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5CA8-B43F-496E-8DA8-28A835D2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1F6-235F-4CC3-8713-3D7F3FA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7F485-442E-4033-916F-8B2C1CEF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5523D-3C08-4078-9DD9-BA8A5161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3E649-5E93-4545-8E6E-2D02F10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4775-CA53-4148-BB3F-94E62CC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A0133-91D7-4C23-9504-F4DD813D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CD28-C5F5-4C95-AC15-A858671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25D1F-3638-46F8-83B5-1C8D60A5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EC91A-7140-4C18-93CF-C4A4B52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6B19-6039-49EF-B1C6-7CFF9BF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6F48-F2AC-4C78-92A2-CCA128EE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B77E-364F-4744-AAA3-EB24CDF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703E7-E8B9-47DD-AFBB-D82B51C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0B24-C73D-472A-8328-A52B4ED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E908-E3D9-4476-BCA2-13A56DD0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35CA-E154-49AE-B8C8-0650A3EF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6CD60-BBE4-4D77-AF23-9062CEC7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43490-77F8-443A-B4C2-153094D5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317E8-1A2A-495E-9B98-80F5C84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3FA69-615D-42FE-B346-8D724E8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5B5EC-BFE9-4031-B600-CC4AC05A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F3B1C-539F-4DEF-8813-A892D8B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5491-DEDE-423E-97A5-46B5E89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DA733-C867-4C84-BC21-96D4615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9FDC-46E3-40E8-9DC4-6134018D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973AE-9338-4F79-9262-9995B0F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1A8B0-8BFA-45D0-884C-910FAD9A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09F7F-755E-465B-AA66-B7B36A13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C8910-B7B4-4015-921F-0BD6B968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EFC56-39A7-4683-A229-292788B4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9869A-615B-4290-B7E9-9F6B28D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460E5-10B3-43EC-B7FC-89E0D90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204C7-C21D-4BE0-A59E-6DF8379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C36-4EA1-4FD9-93C2-F254858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623E1-67A2-418D-AB0F-7DAD93C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248D8-F4F4-4ED1-B97E-6AE77A7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BBCD3-7A3F-4968-8673-5896ACC9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09A01-A4B1-4CA9-A19B-EDCA1B2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3F176-1A54-4E6D-BFED-CF6AD35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C4C69-C942-4789-B909-097BD97E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D8179-7554-42BB-AD18-EF3E4291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93377-3EEB-4D72-B466-B6B474F7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31771-9F5E-4D56-951D-1016EC72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3C371-4F54-483A-85E4-8C376AF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BF28-3838-458B-A611-9ADE9B6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6F8D0-1D0A-4448-B45B-BC46AA9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7C733-0B5E-4255-A835-3F2AC6E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5335C-A4EA-4B2E-A43F-143DA22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3C128-10E3-4338-92E5-1B2FD0F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BC872-FD4D-45A7-AA69-F6E4A3F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79DD5-342A-42B0-821F-9D4787E4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95CC4-6A6C-4593-8557-FA2F96D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2F05A-57F3-4FCA-B27E-6CB21F07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1CB37-E204-48FC-8A3E-105A8FA3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AD52-9C48-4491-B707-C44CB94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7D6F-F658-4F54-A940-118CB88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3D5C-4C8A-4738-AED0-A362CA8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E54-8CDB-4590-924A-C726D580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C5D-009B-4CFF-B362-8715DFD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7307-8242-4778-9FAD-305E2E3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CD3-CAC7-451F-87E3-1136481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7D54-F40F-4665-A560-0421BBCF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D38C-5867-4525-966D-08615C5B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0D3E-CBFA-425D-B9EB-61ACA1A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C5D8-E1A8-4AF5-99E0-D7BF85FB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D602-29FE-4733-88B6-9E90980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281E-6B69-4BA3-B879-D9FCA702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0BA3-352B-4736-B2E1-637B4D39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E49-71EA-4DF2-92BD-4205124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30D9-658E-408A-B30C-9417F80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CB9F-ACCB-48AE-A2DB-C3DF9F4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1BC3-03CD-43B7-9989-EE6FACF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B2B2-E568-4877-9737-AF5310D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6AB5-A9C5-4303-B4E7-95602783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F918-5181-4D4B-ACB1-4168EB9F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16D4-E34F-4811-AA52-4F09DAD1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E11F-BBB5-4DA9-AF2E-5E4FD98F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B9C1-A879-4963-A0F5-54EA3F3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5793-4CFB-4448-B11A-68518F1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A24-DE0F-4B7E-8E96-11542B2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D32D-2E03-42C9-803B-2E15D6D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99A3-67BA-420F-9F96-5E86ED1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F94B-0820-40BB-AE3B-1A3312D0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0F48-EC20-4B1D-BE6A-F868720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3821-E10E-404B-AFBF-09BF986C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02B6-E682-4CBE-AEA2-E95C115F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734D-1DE5-4091-8315-4A64D216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06F4-56C8-4D47-984D-E6256D5A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7427-0519-4F10-A922-FA7DEF7A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FD35-A73F-4993-B1A1-3F3CE96A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CD1-DDA6-4DD4-A413-ACCF5F23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1736-068F-421A-825F-4756344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E27B-F16D-4174-8838-CF6D9BA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97D4-2FD7-4B09-BA5F-E5244B0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5AC4-FA08-4F8B-9182-10CA0885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8DB5-4C2C-4544-A17D-407E377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4387-CD25-46A4-94D7-6370E46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5AB9-8707-4DA3-A4F1-B68182D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9BEB-0CA5-4307-AC56-877003A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4952-C0FC-4164-9D2B-C6A85DB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F47EA-AB43-45CB-B6AB-080843CD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1C0-E5E8-4A98-973B-4A174AAD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F31C-B324-42D7-9A1D-55FBB0E7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3F6B-6371-4D76-9BB0-2D909E6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DFA23-DA37-4B98-B48F-03C7C71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DF4D-3DE3-4AE3-8845-CDAB9E6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C0C13-0657-4708-93BC-60C0895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8268-FC82-4303-A3AD-BF72A8B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18FA-F108-4159-89DB-A278870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454D7-714E-4D86-8D33-33A71287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0FA7-ABE0-461A-B196-870305D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20031-B63A-4281-B003-7B705DB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3F1-8D4D-46DC-8364-72FB6507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0B88D-0D93-4234-9D8A-86EAAB0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7837-B00B-4AB5-B95D-05F613B7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E410-0BD3-440A-AC87-052D589D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CA534-771F-4744-898D-B672942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B640-91AE-4048-AFDD-0670A04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5C94-6BAF-460E-8296-ADA3413E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AED1D-8BAE-479B-87B9-D1C3A86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FFC0-A890-4C0C-A67D-1D149B40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CBF1-69DB-4399-AB5A-395A5D1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1921-1530-4D96-B389-4A9EB18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143-1A96-48A9-81BB-9040D70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F76AB-B7AA-4958-87D5-6F9E64E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0C755-F892-4CBE-8CEF-B45A0CD2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B941C-0B26-413C-A09A-3D5083C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0B69-6C34-454F-8755-8BFF1484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B55B-51AA-4AE7-A2B3-D7D523D7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A3AD-15CD-4E3D-B5D8-BD52DFCA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A33A5-DA63-4A36-876F-EF0EB37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23D9-72CB-42A4-AA64-89F9CD4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D075-E630-4869-9079-DC368249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AF22B-5164-43DF-B764-F496F1B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2DE-6C0C-43CA-9890-98A9C27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85716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6D2D4-5665-49B1-87E2-9DD4905D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568C9-604E-48FA-B2AC-C039C46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27EF6-C74D-4888-8824-56E9D23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9572-238F-4421-A56E-2627C34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C580-961A-4C67-8171-555D78C7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A279-790F-4496-A6E9-693B9BF0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E5E12-FF2B-4A7B-935C-1B2670ED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A4FF-2E7D-440D-9375-109FF14B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BD3BB-BDE5-409E-9306-67E7FD4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4DBE2-83AB-403E-8F95-3A0E814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пероe.gif"/>
          <p:cNvPicPr/>
          <p:nvPr/>
        </p:nvPicPr>
        <p:blipFill>
          <a:blip r:embed="rId3"/>
          <a:stretch/>
        </p:blipFill>
        <p:spPr>
          <a:xfrm>
            <a:off x="7543800" y="485784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7"/>
          <p:cNvSpPr/>
          <p:nvPr/>
        </p:nvSpPr>
        <p:spPr>
          <a:xfrm>
            <a:off x="7447320" y="6357960"/>
            <a:ext cx="121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7f7f7f"/>
                </a:solidFill>
                <a:latin typeface="Arial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7" descr="о сколько.jpg"/>
          <p:cNvPicPr/>
          <p:nvPr/>
        </p:nvPicPr>
        <p:blipFill>
          <a:blip r:embed="rId4"/>
          <a:stretch/>
        </p:blipFill>
        <p:spPr>
          <a:xfrm>
            <a:off x="928800" y="142920"/>
            <a:ext cx="3781440" cy="13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E22-CBE5-496C-A619-47FA0E4A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9" descr="otzyvy.jpg"/>
          <p:cNvPicPr/>
          <p:nvPr/>
        </p:nvPicPr>
        <p:blipFill>
          <a:blip r:embed="rId2"/>
          <a:srcRect l="14683" t="7695" r="14683" b="5594"/>
          <a:stretch/>
        </p:blipFill>
        <p:spPr>
          <a:xfrm>
            <a:off x="642960" y="142920"/>
            <a:ext cx="7858080" cy="664380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10"/>
          <p:cNvSpPr/>
          <p:nvPr/>
        </p:nvSpPr>
        <p:spPr>
          <a:xfrm>
            <a:off x="972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996633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92B-1B98-4178-B055-A6E102B88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7" descr="ryd6b_XL.png"/>
          <p:cNvPicPr/>
          <p:nvPr/>
        </p:nvPicPr>
        <p:blipFill>
          <a:blip r:embed="rId2"/>
          <a:stretch/>
        </p:blipFill>
        <p:spPr>
          <a:xfrm>
            <a:off x="-428760" y="-142920"/>
            <a:ext cx="10001520" cy="75726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3D1D-5B47-437C-999B-3F900A06D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8"/>
          <p:cNvSpPr/>
          <p:nvPr/>
        </p:nvSpPr>
        <p:spPr>
          <a:xfrm>
            <a:off x="0" y="6642000"/>
            <a:ext cx="128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996633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7" descr="ryd6b_XL.png"/>
          <p:cNvPicPr/>
          <p:nvPr/>
        </p:nvPicPr>
        <p:blipFill>
          <a:blip r:embed="rId2"/>
          <a:stretch/>
        </p:blipFill>
        <p:spPr>
          <a:xfrm>
            <a:off x="-428760" y="-142920"/>
            <a:ext cx="10001520" cy="75726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8"/>
          <p:cNvSpPr/>
          <p:nvPr/>
        </p:nvSpPr>
        <p:spPr>
          <a:xfrm>
            <a:off x="0" y="6642000"/>
            <a:ext cx="128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996633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Прямоугольник 9"/>
          <p:cNvGrpSpPr/>
          <p:nvPr/>
        </p:nvGrpSpPr>
        <p:grpSpPr>
          <a:xfrm>
            <a:off x="493560" y="1639800"/>
            <a:ext cx="8156880" cy="4437000"/>
            <a:chOff x="493560" y="1639800"/>
            <a:chExt cx="8156880" cy="4437000"/>
          </a:xfrm>
        </p:grpSpPr>
        <p:pic>
          <p:nvPicPr>
            <p:cNvPr id="48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493560" y="1639800"/>
              <a:ext cx="815688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00040" y="1643040"/>
              <a:ext cx="814392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8A9-9A2C-440F-89AE-C15529AEF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Рисунок 9" descr="otzyvy.jpg"/>
          <p:cNvPicPr/>
          <p:nvPr/>
        </p:nvPicPr>
        <p:blipFill>
          <a:blip r:embed="rId2"/>
          <a:srcRect l="14683" t="7695" r="14683" b="5594"/>
          <a:stretch/>
        </p:blipFill>
        <p:spPr>
          <a:xfrm>
            <a:off x="642960" y="142920"/>
            <a:ext cx="7858080" cy="66438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10"/>
          <p:cNvSpPr/>
          <p:nvPr/>
        </p:nvSpPr>
        <p:spPr>
          <a:xfrm>
            <a:off x="6480" y="6642000"/>
            <a:ext cx="121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996633"/>
                </a:solidFill>
                <a:latin typeface="Arial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C1C2-7658-405C-9B49-337D1CC7C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6" descr="6s.jpg"/>
          <p:cNvPicPr/>
          <p:nvPr/>
        </p:nvPicPr>
        <p:blipFill>
          <a:blip r:embed="rId3"/>
          <a:srcRect l="1666" t="5204" r="4454" b="4163"/>
          <a:stretch/>
        </p:blipFill>
        <p:spPr>
          <a:xfrm rot="4894800">
            <a:off x="-215640" y="244440"/>
            <a:ext cx="1928520" cy="166212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8" descr="111502.jpg"/>
          <p:cNvPicPr/>
          <p:nvPr/>
        </p:nvPicPr>
        <p:blipFill>
          <a:blip r:embed="rId4"/>
          <a:stretch/>
        </p:blipFill>
        <p:spPr>
          <a:xfrm>
            <a:off x="4643280" y="5643720"/>
            <a:ext cx="1500480" cy="15001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5716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9EB-7D15-4F16-AE96-C01AA0739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Прямоугольник 9"/>
          <p:cNvSpPr/>
          <p:nvPr/>
        </p:nvSpPr>
        <p:spPr>
          <a:xfrm>
            <a:off x="972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f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6" descr="пероe.gif"/>
          <p:cNvPicPr/>
          <p:nvPr/>
        </p:nvPicPr>
        <p:blipFill>
          <a:blip r:embed="rId3"/>
          <a:stretch/>
        </p:blipFill>
        <p:spPr>
          <a:xfrm>
            <a:off x="7543800" y="485784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C6E-8EB6-4A6E-A9BF-28BF1249E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7447320" y="6357960"/>
            <a:ext cx="121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7f7f7f"/>
                </a:solidFill>
                <a:latin typeface="Arial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8"/>
          <p:cNvSpPr/>
          <p:nvPr/>
        </p:nvSpPr>
        <p:spPr>
          <a:xfrm>
            <a:off x="7447320" y="6357960"/>
            <a:ext cx="121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7f7f7f"/>
                </a:solidFill>
                <a:latin typeface="Arial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500960" y="6356520"/>
            <a:ext cx="11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2" descr="80313256_tolstoy.jpg"/>
          <p:cNvPicPr/>
          <p:nvPr/>
        </p:nvPicPr>
        <p:blipFill>
          <a:blip r:embed="rId3"/>
          <a:stretch/>
        </p:blipFill>
        <p:spPr>
          <a:xfrm>
            <a:off x="0" y="21420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" descr="1550_bibliothek.jpg"/>
          <p:cNvPicPr/>
          <p:nvPr/>
        </p:nvPicPr>
        <p:blipFill>
          <a:blip r:embed="rId4"/>
          <a:srcRect l="0" t="69814" r="0" b="0"/>
          <a:stretch/>
        </p:blipFill>
        <p:spPr>
          <a:xfrm>
            <a:off x="0" y="5986440"/>
            <a:ext cx="914400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4" descr="64423182_miscellaneous_31.gif"/>
          <p:cNvPicPr/>
          <p:nvPr/>
        </p:nvPicPr>
        <p:blipFill>
          <a:blip r:embed="rId5"/>
          <a:stretch/>
        </p:blipFill>
        <p:spPr>
          <a:xfrm>
            <a:off x="7943760" y="0"/>
            <a:ext cx="1200240" cy="19051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5"/>
          <p:cNvSpPr/>
          <p:nvPr/>
        </p:nvSpPr>
        <p:spPr>
          <a:xfrm>
            <a:off x="9720" y="59292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F53-54A6-47E7-BE59-889B4CBA2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0" descr="1550_bibliothek.jpg"/>
          <p:cNvPicPr/>
          <p:nvPr/>
        </p:nvPicPr>
        <p:blipFill>
          <a:blip r:embed="rId3"/>
          <a:srcRect l="0" t="69814" r="0" b="0"/>
          <a:stretch/>
        </p:blipFill>
        <p:spPr>
          <a:xfrm>
            <a:off x="0" y="5986440"/>
            <a:ext cx="9144000" cy="8715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book.jpg"/>
          <p:cNvPicPr/>
          <p:nvPr/>
        </p:nvPicPr>
        <p:blipFill>
          <a:blip r:embed="rId4"/>
          <a:stretch/>
        </p:blipFill>
        <p:spPr>
          <a:xfrm>
            <a:off x="6910560" y="5440320"/>
            <a:ext cx="2233440" cy="1417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64423182_miscellaneous_31.gif"/>
          <p:cNvPicPr/>
          <p:nvPr/>
        </p:nvPicPr>
        <p:blipFill>
          <a:blip r:embed="rId5"/>
          <a:stretch/>
        </p:blipFill>
        <p:spPr>
          <a:xfrm>
            <a:off x="7943760" y="0"/>
            <a:ext cx="1200240" cy="1905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EEB-5A17-4F8E-9C25-69DBBE8B9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9720" y="59292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2" descr="1550_bibliothek.jpg"/>
          <p:cNvPicPr/>
          <p:nvPr/>
        </p:nvPicPr>
        <p:blipFill>
          <a:blip r:embed="rId3"/>
          <a:srcRect l="0" t="69814" r="0" b="0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3" descr="1550_bibliothek.jpg"/>
          <p:cNvPicPr/>
          <p:nvPr/>
        </p:nvPicPr>
        <p:blipFill>
          <a:blip r:embed="rId4"/>
          <a:srcRect l="0" t="69814" r="0" b="0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4"/>
          <p:cNvSpPr/>
          <p:nvPr/>
        </p:nvSpPr>
        <p:spPr>
          <a:xfrm>
            <a:off x="9720" y="607068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A9D-9A75-4BEE-8217-5EE0C87A6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2" descr="64423182_miscellaneous_31.gif"/>
          <p:cNvPicPr/>
          <p:nvPr/>
        </p:nvPicPr>
        <p:blipFill>
          <a:blip r:embed="rId3"/>
          <a:stretch/>
        </p:blipFill>
        <p:spPr>
          <a:xfrm>
            <a:off x="7943760" y="0"/>
            <a:ext cx="1200240" cy="1905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3" descr="1550_bibliothek.jpg"/>
          <p:cNvPicPr/>
          <p:nvPr/>
        </p:nvPicPr>
        <p:blipFill>
          <a:blip r:embed="rId4"/>
          <a:srcRect l="0" t="69814" r="0" b="0"/>
          <a:stretch/>
        </p:blipFill>
        <p:spPr>
          <a:xfrm>
            <a:off x="0" y="598644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14"/>
          <p:cNvSpPr/>
          <p:nvPr/>
        </p:nvSpPr>
        <p:spPr>
          <a:xfrm>
            <a:off x="9720" y="59292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32AA-73D7-4561-B325-94071AE40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12" descr="1550_bibliothek.jpg"/>
          <p:cNvPicPr/>
          <p:nvPr/>
        </p:nvPicPr>
        <p:blipFill>
          <a:blip r:embed="rId3"/>
          <a:srcRect l="0" t="69814" r="0" b="0"/>
          <a:stretch/>
        </p:blipFill>
        <p:spPr>
          <a:xfrm>
            <a:off x="0" y="598644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13"/>
          <p:cNvSpPr/>
          <p:nvPr/>
        </p:nvSpPr>
        <p:spPr>
          <a:xfrm>
            <a:off x="9720" y="59292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D1F-50F4-4612-B83B-01CC469A2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2" descr="1550_bibliothek.jpg"/>
          <p:cNvPicPr/>
          <p:nvPr/>
        </p:nvPicPr>
        <p:blipFill>
          <a:blip r:embed="rId3"/>
          <a:srcRect l="0" t="69814" r="0" b="0"/>
          <a:stretch/>
        </p:blipFill>
        <p:spPr>
          <a:xfrm>
            <a:off x="0" y="598644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3"/>
          <p:cNvSpPr/>
          <p:nvPr/>
        </p:nvSpPr>
        <p:spPr>
          <a:xfrm>
            <a:off x="9720" y="59292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3C1-6D97-4240-98CC-166F5B884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4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п Рр Ии Сс Тт Аа Вв Кк 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/>
          <p:nvPr/>
        </p:nvSpPr>
        <p:spPr>
          <a:xfrm>
            <a:off x="250920" y="364500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ошка,  плывёт, берёза, телеф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37160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вадцать третье октяб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«Правописание приставок с глаголам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/>
          <p:nvPr/>
        </p:nvSpPr>
        <p:spPr>
          <a:xfrm>
            <a:off x="1403280" y="836640"/>
            <a:ext cx="683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Тема нашего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374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 двор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самолёт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 дорожк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д землё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 дом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 луж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/>
          <p:nvPr/>
        </p:nvSpPr>
        <p:spPr>
          <a:xfrm>
            <a:off x="5003640" y="1268280"/>
            <a:ext cx="374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прыга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лива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ежа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лете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гляде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мокну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1640" y="1341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56360" y="134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2360" y="1989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5164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443640" y="263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96000" y="33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227640" y="3357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24360" y="40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27640" y="4005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51640" y="465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5636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98600" cy="27129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716436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11280" y="278064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Разбросать, исправить, здоровый, разный, мазать, плыть, раскраска, вбежать, запрыгну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ая соединительная линия 25"/>
          <p:cNvSpPr/>
          <p:nvPr/>
        </p:nvSpPr>
        <p:spPr>
          <a:xfrm flipV="1">
            <a:off x="5940360" y="1844640"/>
            <a:ext cx="438120" cy="4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24"/>
          <p:cNvSpPr/>
          <p:nvPr/>
        </p:nvSpPr>
        <p:spPr>
          <a:xfrm flipV="1">
            <a:off x="4859280" y="1989000"/>
            <a:ext cx="0" cy="6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оле 23"/>
          <p:cNvSpPr/>
          <p:nvPr/>
        </p:nvSpPr>
        <p:spPr>
          <a:xfrm>
            <a:off x="3635280" y="2781360"/>
            <a:ext cx="23068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22"/>
          <p:cNvSpPr/>
          <p:nvPr/>
        </p:nvSpPr>
        <p:spPr>
          <a:xfrm flipH="1" flipV="1">
            <a:off x="3276360" y="1915920"/>
            <a:ext cx="447480" cy="40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21"/>
          <p:cNvSpPr/>
          <p:nvPr/>
        </p:nvSpPr>
        <p:spPr>
          <a:xfrm flipH="1">
            <a:off x="2195640" y="32846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20"/>
          <p:cNvSpPr/>
          <p:nvPr/>
        </p:nvSpPr>
        <p:spPr>
          <a:xfrm flipV="1">
            <a:off x="6443640" y="3213000"/>
            <a:ext cx="9716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9"/>
          <p:cNvSpPr/>
          <p:nvPr/>
        </p:nvSpPr>
        <p:spPr>
          <a:xfrm>
            <a:off x="5724360" y="4149720"/>
            <a:ext cx="64944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8"/>
          <p:cNvSpPr/>
          <p:nvPr/>
        </p:nvSpPr>
        <p:spPr>
          <a:xfrm flipH="1">
            <a:off x="3419280" y="4149720"/>
            <a:ext cx="533160" cy="6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7"/>
          <p:cNvSpPr/>
          <p:nvPr/>
        </p:nvSpPr>
        <p:spPr>
          <a:xfrm>
            <a:off x="4788000" y="4149720"/>
            <a:ext cx="0" cy="6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00" y="28116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43280" y="112536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-        пере-       вы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187280" y="2852640"/>
            <a:ext cx="11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24720" y="2781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16360" y="4653000"/>
            <a:ext cx="55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-        при-       у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800" y="28116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203640" y="2349360"/>
            <a:ext cx="273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867280" y="39337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32000" y="4076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. 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56360" y="134136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.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116000" y="148428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 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659640" y="3716280"/>
            <a:ext cx="944640" cy="14050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324000" y="2781360"/>
            <a:ext cx="3743280" cy="407664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Выберите в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вержд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) глаголы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отребляться 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 глаголы пишу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ько с пристав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) глаголы пишу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с приставками, и 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292720" y="2852640"/>
            <a:ext cx="3851280" cy="360072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Выберите, в какой ст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е слова записаны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р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) поплыл, не до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  поплыл, недо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) по плыл, не до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24000" y="0"/>
            <a:ext cx="3384360" cy="295272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гол – это часть ре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торая обозначает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) признак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) 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92720" y="0"/>
            <a:ext cx="3851280" cy="314172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Выберите, в какой ст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е слова записаны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р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) поплыл, взлетел, уп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  по мыл, проехал, съ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) посмотрел, по ел, зат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18:26:35Z</dcterms:created>
  <dc:creator>BOSS</dc:creator>
  <dc:description/>
  <dc:language>en-US</dc:language>
  <cp:lastModifiedBy>BOSS</cp:lastModifiedBy>
  <dcterms:modified xsi:type="dcterms:W3CDTF">2014-10-22T18:08:46Z</dcterms:modified>
  <cp:revision>29</cp:revision>
  <dc:subject/>
  <dc:title>Урок русского языка в 4 классе</dc:title>
</cp:coreProperties>
</file>