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3A07-5544-4133-AB60-27E0181C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8B94-9757-40FB-B740-C0F8C649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AA67-218B-4596-80E7-050C0948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FE20-9EF0-440B-AEAB-DEF4E899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C219C-6474-4096-BCC2-467E852D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92512-086D-4EF1-B7AC-EAA7C43F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A8C35-78BE-4D94-96A5-B238768C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8E79A-3BC3-40A0-B5D8-44D961C9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DB24F-E590-4CEA-8F0B-EC9BBA9F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B6BE7-914E-485A-8113-C7C5FBED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C5283-11E3-4FAA-9150-472577A0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BA7B-3E08-4458-964D-E70A541C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547C8-6EB2-4D69-8D1C-C014333B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C8951-A976-41FF-9F29-D5F34C4B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1FAB1-FE21-490A-BA1F-A0E4A344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4B62C-E2A7-441F-A7B8-4DA6EA14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60DA3-4BFF-40B0-8069-18EF8EE2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3951-B3D2-4A2A-89F2-1E43140A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C57C-DB31-48D7-9454-8B7B722A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A9A3-61CC-4D29-ABBD-868590DE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60B1-D8B9-43FE-94FF-16A9B043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9758-644A-46E1-B417-2E366DCC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BAF8-A61F-401D-A363-B755DD4D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9FA0-54EC-4745-9BCF-0E3D8A1F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BB10-1FA4-4C62-99DE-9ABE952048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B038-2537-4CE5-BB5B-7DA44E8FB0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hyperlink" Target="mailto:redscorpy2014@gmail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Проект ГБОУ школа №120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Мещерякова Ирина Алексеевна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учитель Изо и Черчения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стер-класс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«Проектная деятельность на уроках изобразительного искусств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6400800" cy="43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lackadder ITC"/>
              </a:rPr>
              <a:t>Мастер-Класс</a:t>
            </a:r>
            <a:r>
              <a:rPr b="1" i="1" lang="en-US" sz="3200" spc="-1" strike="noStrike">
                <a:solidFill>
                  <a:srgbClr val="ffffff"/>
                </a:solidFill>
                <a:latin typeface="Blackadder ITC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lackadder ITC"/>
              </a:rPr>
              <a:t>«Народное творчество –  плетение лапте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lackadder ITC"/>
              </a:rPr>
              <a:t>Из опыта рабо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.Санкт-Петербург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15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8756640" cy="6335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496000" cy="6337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785440" cy="6337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396280" cy="6337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829720" cy="648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828280" cy="648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83560" cy="6264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86800" cy="640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8461440" cy="5821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8538840" cy="640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713800" cy="6335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756640" cy="6337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616720" cy="3720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73120" y="4308480"/>
            <a:ext cx="570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т и завершилась работа над плетением лаптя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дачи в творчестве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 уважением, Ирина Алексеевна Мещеряк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04760" y="6093000"/>
            <a:ext cx="4225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.почта: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redscorpy2014@g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л. 8911278498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8577000" cy="5681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8793360" cy="5824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719920" cy="5775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503920" cy="6191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40720" cy="612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538840" cy="6264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640720" cy="648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9T13:27:48Z</dcterms:created>
  <dc:creator>Ирина</dc:creator>
  <dc:description/>
  <dc:language>en-US</dc:language>
  <cp:lastModifiedBy>c26pc13</cp:lastModifiedBy>
  <dcterms:modified xsi:type="dcterms:W3CDTF">2015-03-04T07:10:43Z</dcterms:modified>
  <cp:revision>5</cp:revision>
  <dc:subject/>
  <dc:title>Проект ГБОУ школа №120 Мещерякова Ирина Алексеевна учитель Изо и Черчения  Мастер-класс «Проектная деятельность на уроках изобразительного искусства»</dc:title>
</cp:coreProperties>
</file>