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2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5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43.jpeg" ContentType="image/jpe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4860-2962-4EBA-BA6C-3ACD6404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A56F-82FD-47FF-852F-2E6C8D6B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15D1-740E-4A84-9A69-884608CA1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166A-1E43-4FCF-BA21-53BB3A79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0BD0-5D37-439A-BFC2-88B8B7DC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8C88-559F-4497-9FC1-BD3945F0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AEED-AD86-4057-9EFB-803377F3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91B1-ED45-49B4-9099-B3947AE0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38CD-CE6F-4888-80E9-C3AE27FC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B2CF-10F9-45E4-B133-ED7ACFCE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64E6-9D73-4505-881C-C461B6CD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68D3-05BD-4046-9CD1-43A63E91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CCC9-324E-40E9-A382-B8750037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C241-5BE1-4E5F-BE33-7BC427ED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1C6C-4EF3-494B-844D-9C069661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C1EE-96A8-4400-BE40-47992714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590C-7BA1-43F6-A3F0-D3B5D866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7504-ECA0-4698-AB1B-ED5EBDE0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9333-17C1-4843-8452-6DC30A77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D53E-9A2C-4A5E-8353-8C697D34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906E-A204-4850-838E-E26A6EDB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8189-CB64-45EA-A360-268EEA51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E099-5E95-4812-8632-C1FE7C78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547D-8EEB-4BA1-B895-4609A7F4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1FEE-7DF0-4E97-88CC-B3C8431A02D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A9C5-9F5D-47FE-BA51-A7D97B209BE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7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5029200" y="228600"/>
            <a:ext cx="373392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962160" y="2971800"/>
            <a:ext cx="51814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Wide Latin"/>
              </a:rPr>
              <a:t>Canada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i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0" y="1828800"/>
            <a:ext cx="3886200" cy="2847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4"/>
          <a:stretch/>
        </p:blipFill>
        <p:spPr>
          <a:xfrm>
            <a:off x="3048120" y="4952880"/>
            <a:ext cx="3352680" cy="16002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2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13" descr=""/>
          <p:cNvPicPr/>
          <p:nvPr/>
        </p:nvPicPr>
        <p:blipFill>
          <a:blip r:embed="rId5"/>
          <a:stretch/>
        </p:blipFill>
        <p:spPr>
          <a:xfrm>
            <a:off x="2362320" y="304920"/>
            <a:ext cx="21333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9. What is the highest mountain in Canada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Mount For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 Mount Log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 Mount Kitche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) Mount Lefr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3429000" cy="2724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819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30f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0. What is the longest river in Canada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Fraser R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 St. Laurence R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 Mackenzie R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) Red R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4724280" y="3505320"/>
            <a:ext cx="3429000" cy="2666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819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30f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773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. Which of the following people is not Canadian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Justin Drew Bieb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b) Rae Dawn Cho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) Alan Alexander Mil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d) Brendan James Fras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5486400" y="4038480"/>
            <a:ext cx="1685880" cy="2286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819000" cy="609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user\Downloads\url.jpg"/>
          <p:cNvPicPr/>
          <p:nvPr/>
        </p:nvPicPr>
        <p:blipFill>
          <a:blip r:embed="rId3"/>
          <a:stretch/>
        </p:blipFill>
        <p:spPr>
          <a:xfrm>
            <a:off x="7467480" y="1635120"/>
            <a:ext cx="1447920" cy="2174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user\Downloads\brendan-fraser.jpg"/>
          <p:cNvPicPr/>
          <p:nvPr/>
        </p:nvPicPr>
        <p:blipFill>
          <a:blip r:embed="rId4"/>
          <a:stretch/>
        </p:blipFill>
        <p:spPr>
          <a:xfrm>
            <a:off x="5562720" y="1600200"/>
            <a:ext cx="1747800" cy="2209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Users\user\Downloads\thumb_3bf2e1aeed7e6b9c2ef452d011482d1a_Resize_400_600.jpg"/>
          <p:cNvPicPr/>
          <p:nvPr/>
        </p:nvPicPr>
        <p:blipFill>
          <a:blip r:embed="rId5"/>
          <a:stretch/>
        </p:blipFill>
        <p:spPr>
          <a:xfrm>
            <a:off x="7391520" y="4038480"/>
            <a:ext cx="156204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30f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15328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2. How many countries border Canada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3452760" y="1905120"/>
            <a:ext cx="3176640" cy="2543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819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30f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. What is the capital city of Canada (the national capital)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ro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taw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ncouv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2066760" cy="1905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5715000" y="23623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3"/>
          <a:stretch/>
        </p:blipFill>
        <p:spPr>
          <a:xfrm>
            <a:off x="4267080" y="44956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819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30f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5. Which animal doesn’t live         in  Canada?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av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 Mo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 Grizzly B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Ko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1"/>
          <a:stretch/>
        </p:blipFill>
        <p:spPr>
          <a:xfrm>
            <a:off x="6324480" y="4648320"/>
            <a:ext cx="2610000" cy="1752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819000" cy="609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-_1_~1"/>
          <p:cNvPicPr/>
          <p:nvPr/>
        </p:nvPicPr>
        <p:blipFill>
          <a:blip r:embed="rId3"/>
          <a:stretch/>
        </p:blipFill>
        <p:spPr>
          <a:xfrm>
            <a:off x="6934320" y="1371600"/>
            <a:ext cx="1944720" cy="2558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290691_3"/>
          <p:cNvPicPr/>
          <p:nvPr/>
        </p:nvPicPr>
        <p:blipFill>
          <a:blip r:embed="rId4"/>
          <a:stretch/>
        </p:blipFill>
        <p:spPr>
          <a:xfrm>
            <a:off x="3048120" y="4114800"/>
            <a:ext cx="2879640" cy="1884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MPj04022590000[1]"/>
          <p:cNvPicPr/>
          <p:nvPr/>
        </p:nvPicPr>
        <p:blipFill>
          <a:blip r:embed="rId5"/>
          <a:stretch/>
        </p:blipFill>
        <p:spPr>
          <a:xfrm>
            <a:off x="3962520" y="1676520"/>
            <a:ext cx="26668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30f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6. Canada’s currency is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anadian pou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anadian fra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anadian dol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anadian eu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1981080" y="4572000"/>
            <a:ext cx="5181840" cy="1905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819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30f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7. What is the "big prize" for the Canadian Football League ("CFL") called?  The ________ cup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HITE c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REY c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REEN c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ROWN c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5029200" y="2590920"/>
            <a:ext cx="2619360" cy="190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30f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8. Who is the patron saint of Canada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St. Dav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 St. Andr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 St. Geor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2181240" cy="2095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819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30f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9. When did Montreal host Olympics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19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 197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 198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) 198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2776680" cy="3124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819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30f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. What does the Indian word Canada stand for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small huts along the sh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 the land of fish ea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 an animal hunters’ vill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4495680" y="4191120"/>
            <a:ext cx="3505320" cy="2305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190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30f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0. When did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  <a:ea typeface="Tahoma"/>
              </a:rPr>
              <a:t>Vancouver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host Olympics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199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) 20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65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30f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21. Which country has larger area than Canada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The U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 Ch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Russ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) Braz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3429000" y="1905120"/>
            <a:ext cx="4410000" cy="2700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30f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22. Which are the official languages of Canada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English and Span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 Spanish and Fren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 French and Russ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) English and Fren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2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30f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5. Name these attraction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5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819000" cy="609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Bow Lake and Flowers, Banff National Park, Alberta, Canada"/>
          <p:cNvPicPr/>
          <p:nvPr/>
        </p:nvPicPr>
        <p:blipFill>
          <a:blip r:embed="rId2"/>
          <a:stretch/>
        </p:blipFill>
        <p:spPr>
          <a:xfrm>
            <a:off x="3886200" y="1219320"/>
            <a:ext cx="333540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2" descr="Toronto_skyline_edit[1]"/>
          <p:cNvPicPr/>
          <p:nvPr/>
        </p:nvPicPr>
        <p:blipFill>
          <a:blip r:embed="rId3"/>
          <a:stretch/>
        </p:blipFill>
        <p:spPr>
          <a:xfrm>
            <a:off x="5808600" y="3962520"/>
            <a:ext cx="3335400" cy="23619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198" name="Прямоугольник 10"/>
          <p:cNvSpPr/>
          <p:nvPr/>
        </p:nvSpPr>
        <p:spPr>
          <a:xfrm>
            <a:off x="6906600" y="648828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N Tow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Прямоугольник 11"/>
          <p:cNvSpPr/>
          <p:nvPr/>
        </p:nvSpPr>
        <p:spPr>
          <a:xfrm>
            <a:off x="3826080" y="342900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nff national par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Прямоугольник 12"/>
          <p:cNvSpPr/>
          <p:nvPr/>
        </p:nvSpPr>
        <p:spPr>
          <a:xfrm>
            <a:off x="869040" y="472428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Niagara Fal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10" descr="Niagara_Falls"/>
          <p:cNvPicPr/>
          <p:nvPr/>
        </p:nvPicPr>
        <p:blipFill>
          <a:blip r:embed="rId4"/>
          <a:stretch/>
        </p:blipFill>
        <p:spPr>
          <a:xfrm>
            <a:off x="380880" y="213372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Slide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Slide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. How many parts does Canada consist of?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10 provinces and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errito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 fifteen 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 10 provinces and 2 reg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438280" y="3657600"/>
            <a:ext cx="4648320" cy="2743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819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30f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. What country were the first colonists in Canada from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F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 Brit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 the U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4419720" y="4343400"/>
            <a:ext cx="2076480" cy="1523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5715000" y="1981080"/>
            <a:ext cx="2286000" cy="1638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8190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30f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. What is the second largest French-speaking city in the world, often called “the Paris of North America”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Toro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 Ottaw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 Montre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3657600" y="1905120"/>
            <a:ext cx="2562120" cy="198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26668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3"/>
          <a:stretch/>
        </p:blipFill>
        <p:spPr>
          <a:xfrm>
            <a:off x="5562720" y="4038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819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30f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5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. What is the national tree of Canada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the maple tr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 the pine tr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 the oak tr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19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30f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6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. What are Canada’s two national sports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Ice Hockey, Basketb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 Baseball, Tenn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 Basketball, Lacros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) Lacrosse, Ice Hock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7086600" y="2590920"/>
            <a:ext cx="1857240" cy="1542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5943600" y="4724280"/>
            <a:ext cx="2438280" cy="1752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838080" y="4800600"/>
            <a:ext cx="1981440" cy="1371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"/>
          <p:cNvPicPr/>
          <p:nvPr/>
        </p:nvPicPr>
        <p:blipFill>
          <a:blip r:embed="rId4"/>
          <a:stretch/>
        </p:blipFill>
        <p:spPr>
          <a:xfrm>
            <a:off x="3200400" y="4952880"/>
            <a:ext cx="2514600" cy="1438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5"/>
          <a:stretch/>
        </p:blipFill>
        <p:spPr>
          <a:xfrm>
            <a:off x="5029200" y="2743200"/>
            <a:ext cx="1828800" cy="1847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30f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3818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. How many lakes are there in Canada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Unkn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 500 thous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 About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) 5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4191120" y="2590920"/>
            <a:ext cx="2819160" cy="276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819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30f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8. How many time zones are there in Canada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)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4419720" cy="2819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30f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5-03-05T12:39:27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