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35B-7D85-4CD6-AE54-B6F8FDDD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0D9-8A0F-437B-8CFD-52B890B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AF1-8971-4311-9FA7-5C9AD538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7AB-B520-4267-BE7A-6C84D9E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6B5-DA5B-44E2-AD61-36A41F35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7A62-F8BD-4D9A-B191-1BDE129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6AB9-0626-42D6-9258-0330E33E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F33D-26E0-49AB-B91F-B517234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600-E566-4012-B389-E9830664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F9BF-C450-4E6A-B9CA-57ED1BF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A03-DDF3-42AD-AFB1-FEDA105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F21-32F8-451B-8EAE-C0D2522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55E3-92E9-40B7-B7F8-A2136D6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8ADD-C51B-4781-8525-958B72AD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DF04-FBA9-453A-BB00-50A658B5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65BB-3043-423A-AAFD-7300D9B7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B874-6379-40F1-850A-F1ECB3FF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C10-F2AB-4016-B173-1758B19C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55A-380D-4AF2-BF76-24AA86C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EC7-9F0C-456A-A614-79A61A82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76D-8DCC-469D-B374-66EA2466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C3C-0DE4-451D-B445-8A20311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926-BC56-4BB8-B69A-62BBAF7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BD0-1438-45C0-BB01-7840800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A230-1EEE-4227-9C46-60A70DDAD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C043-980A-4B4D-B00E-E7172AC0D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baikal.ru/foto/mybai/19fo.htm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marshruty.ru/Photos/Photos.aspx?AlbumID=25421997-4305-4631-8ba2-0c44a5671a58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6.jpeg"/><Relationship Id="rId8" Type="http://schemas.openxmlformats.org/officeDocument/2006/relationships/hyperlink" Target="javascript:shown(&apos;9&apos;,&apos;geysers_valley_2007/133b.jpg&apos;,657,480);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0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2.jpeg"/><Relationship Id="rId6" Type="http://schemas.openxmlformats.org/officeDocument/2006/relationships/image" Target="../media/image6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javascript:shown(&apos;1&apos;,&apos;geysers_valley_2007/031b.jpg&apos;,648,480);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Семь  чудес  Росс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  презен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сильева  Алла 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25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020000" y="5445000"/>
            <a:ext cx="21240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Местонахожд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229600" cy="463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а  Эльбру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бардино-Балкария,Карачаево-Черке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ерго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нкт- Петербур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ам  Василия  Блаженн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еро  Байк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рятия,Иркутская  обл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бы  выветри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ублика  Ко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маев  кург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гогра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ина  гейзе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мча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Определ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ина-это  удлиненная  впадина  вдоль  речного  русла  или  среди  г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еро-замкнутый  в  берегах  большой  естественный  водо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йзер-это  источник, выбрасывающий  фонтан  горячей  воды  и  пара  высотой  до  20 м  и  бол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ган-это  древний  могильный  хол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а- значительная  возвышен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ам- это  здание  для  богослужения,  церков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ник- скульптура  или  архитектурное  сооружение в  память  кого-либо  или  чего-либо, памятники  природы- природные  объекты,  охраняемые  государств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340000" cy="1644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Эльбрус 200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40000" y="4653000"/>
            <a:ext cx="280836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bigFoto" descr=""/>
          <p:cNvPicPr/>
          <p:nvPr/>
        </p:nvPicPr>
        <p:blipFill>
          <a:blip r:embed="rId7"/>
          <a:stretch/>
        </p:blipFill>
        <p:spPr>
          <a:xfrm>
            <a:off x="5181480" y="4292640"/>
            <a:ext cx="3962520" cy="2565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мчатка. Долина Гейзеров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013360"/>
            <a:ext cx="237492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мчатка. Долина Гейзеров"/>
          <p:cNvPicPr/>
          <p:nvPr/>
        </p:nvPicPr>
        <p:blipFill>
          <a:blip r:embed="rId10"/>
          <a:stretch/>
        </p:blipFill>
        <p:spPr>
          <a:xfrm>
            <a:off x="6012000" y="2060640"/>
            <a:ext cx="3132000" cy="217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2411280" y="0"/>
            <a:ext cx="3456000" cy="40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Долина гейзеров"/>
          <p:cNvPicPr/>
          <p:nvPr/>
        </p:nvPicPr>
        <p:blipFill>
          <a:blip r:embed="rId12"/>
          <a:stretch/>
        </p:blipFill>
        <p:spPr>
          <a:xfrm>
            <a:off x="0" y="0"/>
            <a:ext cx="2268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Петергоф. Петродворец. Церковь"/>
          <p:cNvPicPr/>
          <p:nvPr/>
        </p:nvPicPr>
        <p:blipFill>
          <a:blip r:embed="rId2"/>
          <a:stretch/>
        </p:blipFill>
        <p:spPr>
          <a:xfrm>
            <a:off x="3059280" y="0"/>
            <a:ext cx="2304720" cy="2349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Вид со стороны площади «Стоявших насмерть»"/>
          <p:cNvPicPr/>
          <p:nvPr/>
        </p:nvPicPr>
        <p:blipFill>
          <a:blip r:embed="rId3"/>
          <a:stretch/>
        </p:blipFill>
        <p:spPr>
          <a:xfrm>
            <a:off x="3059280" y="2349360"/>
            <a:ext cx="2304720" cy="2054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Петергоф. Петродворец. Аллея-туннель."/>
          <p:cNvPicPr/>
          <p:nvPr/>
        </p:nvPicPr>
        <p:blipFill>
          <a:blip r:embed="rId4"/>
          <a:stretch/>
        </p:blipFill>
        <p:spPr>
          <a:xfrm>
            <a:off x="2627280" y="4411800"/>
            <a:ext cx="3675240" cy="2446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Мамаев курган и статуя Родины-матери"/>
          <p:cNvPicPr/>
          <p:nvPr/>
        </p:nvPicPr>
        <p:blipFill>
          <a:blip r:embed="rId5"/>
          <a:stretch/>
        </p:blipFill>
        <p:spPr>
          <a:xfrm>
            <a:off x="0" y="4076640"/>
            <a:ext cx="264168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Собор Василия Блаженного"/>
          <p:cNvPicPr/>
          <p:nvPr/>
        </p:nvPicPr>
        <p:blipFill>
          <a:blip r:embed="rId6"/>
          <a:stretch/>
        </p:blipFill>
        <p:spPr>
          <a:xfrm>
            <a:off x="6350040" y="3716280"/>
            <a:ext cx="2793960" cy="3141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упола храма Василия Блаженного (1555-1560; Москва)"/>
          <p:cNvPicPr/>
          <p:nvPr/>
        </p:nvPicPr>
        <p:blipFill>
          <a:blip r:embed="rId7"/>
          <a:stretch/>
        </p:blipFill>
        <p:spPr>
          <a:xfrm>
            <a:off x="0" y="0"/>
            <a:ext cx="2135160" cy="2852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Петергоф. Петродворец. Нептун. Фонтан"/>
          <p:cNvPicPr/>
          <p:nvPr/>
        </p:nvPicPr>
        <p:blipFill>
          <a:blip r:embed="rId8"/>
          <a:stretch/>
        </p:blipFill>
        <p:spPr>
          <a:xfrm>
            <a:off x="5580000" y="0"/>
            <a:ext cx="356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Петерго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Петергоф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4000" y="1500120"/>
            <a:ext cx="8496000" cy="535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Храм  Василия  Блаженног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Покрова Пресвятой Богородицы на Рву;2000"/>
          <p:cNvPicPr/>
          <p:nvPr/>
        </p:nvPicPr>
        <p:blipFill>
          <a:blip r:embed="rId2"/>
          <a:stretch/>
        </p:blipFill>
        <p:spPr>
          <a:xfrm>
            <a:off x="876240" y="198108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Собор Василия Блаженного"/>
          <p:cNvPicPr/>
          <p:nvPr/>
        </p:nvPicPr>
        <p:blipFill>
          <a:blip r:embed="rId3"/>
          <a:stretch/>
        </p:blipFill>
        <p:spPr>
          <a:xfrm>
            <a:off x="5032440" y="1981080"/>
            <a:ext cx="3465360" cy="389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Озеро  Байка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Озеро Байкал"/>
          <p:cNvPicPr/>
          <p:nvPr/>
        </p:nvPicPr>
        <p:blipFill>
          <a:blip r:embed="rId2"/>
          <a:stretch/>
        </p:blipFill>
        <p:spPr>
          <a:xfrm>
            <a:off x="250920" y="1440000"/>
            <a:ext cx="8640720" cy="500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лина  гейз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Камчатка. Долина Гейзеров"/>
          <p:cNvPicPr/>
          <p:nvPr/>
        </p:nvPicPr>
        <p:blipFill>
          <a:blip r:embed="rId2"/>
          <a:stretch/>
        </p:blipFill>
        <p:spPr>
          <a:xfrm>
            <a:off x="250920" y="1498680"/>
            <a:ext cx="8424720" cy="5079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Гора  Эльбру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Эльбрус 2004"/>
          <p:cNvPicPr/>
          <p:nvPr/>
        </p:nvPicPr>
        <p:blipFill>
          <a:blip r:embed="rId2"/>
          <a:stretch/>
        </p:blipFill>
        <p:spPr>
          <a:xfrm>
            <a:off x="250920" y="2698920"/>
            <a:ext cx="424980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мчатка. Долина Гейзеров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649600"/>
            <a:ext cx="3960720" cy="315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Столбы  выветри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Столбы выветривания на горе Мань-Пупу-Нер"/>
          <p:cNvPicPr/>
          <p:nvPr/>
        </p:nvPicPr>
        <p:blipFill>
          <a:blip r:embed="rId2"/>
          <a:stretch/>
        </p:blipFill>
        <p:spPr>
          <a:xfrm>
            <a:off x="395280" y="1343160"/>
            <a:ext cx="8280360" cy="543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Мамаев  курган  и  Родина- ма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Мамаев курган и статуя Родины-матери"/>
          <p:cNvPicPr/>
          <p:nvPr/>
        </p:nvPicPr>
        <p:blipFill>
          <a:blip r:embed="rId2"/>
          <a:stretch/>
        </p:blipFill>
        <p:spPr>
          <a:xfrm>
            <a:off x="468360" y="1392120"/>
            <a:ext cx="8136000" cy="52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Местонахожд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Административная карта России"/>
          <p:cNvPicPr/>
          <p:nvPr/>
        </p:nvPicPr>
        <p:blipFill>
          <a:blip r:embed="rId2"/>
          <a:stretch/>
        </p:blipFill>
        <p:spPr>
          <a:xfrm>
            <a:off x="179280" y="1434960"/>
            <a:ext cx="8713800" cy="5259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0:53:07Z</dcterms:created>
  <dc:creator>комп</dc:creator>
  <dc:description/>
  <dc:language>en-US</dc:language>
  <cp:lastModifiedBy>комп</cp:lastModifiedBy>
  <dcterms:modified xsi:type="dcterms:W3CDTF">2009-08-31T11:59:46Z</dcterms:modified>
  <cp:revision>2</cp:revision>
  <dc:subject/>
  <dc:title>Семь  чудес  России</dc:title>
</cp:coreProperties>
</file>