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8E8-9B41-491C-BC2F-D9F0303F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F72-C761-4576-B308-3F7FE6E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22C-A49F-4759-9B77-710D6963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51D-557F-46E3-B3A6-154AC3F7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7FD9-D83C-4107-8CDE-30F7B7F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67A-744F-4722-ABC3-B8ABECED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C054-40EE-4DCE-B49C-49CF92E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0C4F-5E63-4289-A967-90C3F0E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8E85-C3BD-44F2-A3DC-648D149E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68BC-344B-4B23-A7C9-D453353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A17-4702-416A-997F-BC780BA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C80-9515-4242-9AC0-7086DEF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1DFA-6BCD-4C9D-AABC-C469B6A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BD1C-662D-4581-ABE4-754D0C3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DD0-C846-4359-A72A-1C27595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E06-E182-40F5-9D93-9A3DB42D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921-78F9-45A3-B5DB-CB14880E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CCCE-3F92-4B19-9EFA-DF65CEDE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6CD0-F796-4CB3-BBC9-900F031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BF6C-ABD6-499A-84D8-8D2E10D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78D2-1225-432E-A7BF-E013C942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A720-873A-49EA-A5FF-279B847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5E3-DB59-4725-A35A-40A0696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C02A-2058-43D9-89DA-16B494D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4AC9-9199-4E54-BF88-CD5560A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06F3-1197-420D-B247-6BE7D80E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151E-1D64-43FB-9285-FBB2934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8147-D378-4E4D-AB83-0EB9360E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A024-EAB3-496E-8D58-196E56D1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79BF-4754-4EBF-A738-957363FC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A424-BA61-47E3-83D1-F647F14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06E6-989A-4144-BC46-6652A79C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B4D2-B9DC-4AE2-B241-DE77C697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575-1838-450A-989D-2C83FCE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3955-DF7B-4C34-84B5-4FF1BCD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E8BF-E3DD-4BFC-9D5C-68E6FBF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35B5-1665-4F9F-A69A-2D49F688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DFE8-1060-43B3-9676-381B2FE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EF84-16A6-405D-9AE2-199B315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BAB3-7CBA-4B2A-9679-102386A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0F66-7F13-45E2-B1C9-E5983E7B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1985-FB1A-4EB7-855C-BE5C68F0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BE82-7031-4775-A101-6B72F02C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B0A-134F-4A3D-BEBE-1691E80F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89F-6D32-49D0-9EBD-4161CA99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4F8-A9CA-46F3-9108-D20B107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17F-AD4F-4988-80A1-3FC4FFEB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7F7-69A6-4049-BCAB-DDA278F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B33B-0326-435C-B678-0008471247F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253-1696-481B-B454-E5874CC7C3A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9D61-1204-46D0-9F8C-6216DE2EFB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9EB8-CE56-4808-8725-D05368F025A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470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928600" y="5429160"/>
            <a:ext cx="5908680" cy="1214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 Москва, г. Троицк, СОШ №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к 9 б класса Болотов Леонард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лен-юниор Международной академии «МАТЭ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еждународная академия тонкополевой экологии и здоровья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3" descr="астролябия.jpg"/>
          <p:cNvPicPr/>
          <p:nvPr/>
        </p:nvPicPr>
        <p:blipFill>
          <a:blip r:embed="rId1"/>
          <a:stretch/>
        </p:blipFill>
        <p:spPr>
          <a:xfrm>
            <a:off x="5000760" y="3714840"/>
            <a:ext cx="3357360" cy="2754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571320" y="42840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рамма 3-х дневного семина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 первый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икнуть и расставить приоритеты. Перед началом семинара участники получают раздаточный материал. Затем все участники собираются на пленарное (общее) заседание. Ведущий информирует, обрисовывает вопросы, цели и задачи данного семинара, выделяя основные напра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регламенто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исанием, соз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чего настро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28440" y="857160"/>
            <a:ext cx="7467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ники должны выбрать, в какой фокус-группе их работа будет наиболее плодотворной. Затем назначаются ведущие фокус-групп. В первый день выдаются индивидуальные задания, которые должны быть выполнены ко второму дню семинар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торой половине дня начинают работать фокус-группы. Им предстоит познакомиться, вникнуть в поставленные задачи, выработать режим взаимодействия и высказать свои предл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нь второй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2640"/>
            <a:ext cx="8115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подготовить списки решений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В первой половине дня проводится короткое пленарное заседание, где сообщается дополнительная информация, выступают исполнители индивидуальных заданий, подводятся предварительные итог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одится ряд практических мероприятий в отдельных группах (по 5 – 7 человек), затем участники собираются на «театральное мероприятие», т.е. экзамен. Участники представляют экологический театр в виде «диалогов» (по Платону).  После выступлений (классическая форма – по 4 диалога с небольшими перерывами) продолжается работа фокус-групп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14240" y="499680"/>
            <a:ext cx="7467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онце второго дня необходимо подвести итоги в группах, подготовить списки кандидатов на первые места по отраслям  зн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о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д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кскурси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ступл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глашён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кладчик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дени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икторины 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ругих культурно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ассовых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роприятий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paleontologich.jpg"/>
          <p:cNvPicPr/>
          <p:nvPr/>
        </p:nvPicPr>
        <p:blipFill>
          <a:blip r:embed="rId1"/>
          <a:stretch/>
        </p:blipFill>
        <p:spPr>
          <a:xfrm>
            <a:off x="3714840" y="2214720"/>
            <a:ext cx="5143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ень третий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1285920"/>
            <a:ext cx="8115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уководителям нужно выбрать лучшие решения, подвести итоги, наметить план дальнейшей работ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чет представителей фокус-групп. Обсуждение итогов, выбор лучших решений. Окончательный результат семинара оформляется в виде журнала, который представляет постоянное периодическое издание «Платоновской Академии экологических наук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дущий выступает с благодарностью исполнителям и участникам. Проводится процедура награждения победителей, вручение сертификатов. Обсуждается единый курс и план работ на следующий год (квартал, месяц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429680" cy="21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школы «Платоновская Академия» был апробирован в августе 2013 года во время проведения семинара для повышения квалификации учителей экологии на базе научно-практического центра МАТЭЗ в Саратовской области при участии ГАУ ДПО «СОИРО» и при участии автора доклада. Проект школы выполнен под руководством  главного ученого секретаря МАТЭЗ Пляшкевич М.Л. и Президента международной ассоциации учителей экологии «ЭСО», руководителя эколого-эстетической школы «Наследие», старшего методиста кафедры естественнонаучного образования ГАУ ДПО «СОИРО», Почетного работника общего образования РФ, д.ч. МАТЭЗ (Саратов) Акифьевой Е.В.</a:t>
            </a:r>
            <a:endParaRPr b="0" lang="en-US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0" name="Содержимое 3" descr="rimskiy-sad-154.jpg"/>
          <p:cNvPicPr/>
          <p:nvPr/>
        </p:nvPicPr>
        <p:blipFill>
          <a:blip r:embed="rId1"/>
          <a:stretch/>
        </p:blipFill>
        <p:spPr>
          <a:xfrm>
            <a:off x="2000160" y="2671920"/>
            <a:ext cx="485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5480" y="128556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годня, в самом начале ХХ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ека, в Государственном стандарте общего образования обозначены новые цели, радиально противоположные тем, которых мир придерживался на протяжении многих лет. Прежняя цель «знания на всю жизнь» уступает место новой – «умениям учиться и переучиваться в течение всей жизни»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 соответствие с этим  именно такая дисциплина, как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должна занимать ведущую роль в формировании у «учащихся нового времени» универсальных знаний и учебных действий. Только в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экологи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рассматриваются и изучаются механизмы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адаптаци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на всех уровнях бытия, т.е. механизмы, позволяющие быстро переучиваться, значит – максимально адаптироваться в изменчивой среде. Человечеству необходима переориентация с чисто экономических и политических интересов (борьба за власть, погоня за «неограниченной прибылью», неравное распределение благ) на экологические приоритеты, необходимые для сохранения жизни на Земле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ЦЕЛЬ ПРОЕКТА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54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стоящий проект призван напомнить педагогам и преподавателям и сформировать у учащихся убеждения, что физическое, психическое и духовное здоровье человека находится в прямой зависимости от его образа жизни и от состояния окружающей социальной и природной среды. Когда остро поставлен вопрос о возможности сохранения жизни человека на планете, освоение экологических знаний и формирование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экологического мышл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задача образования уже не только Государственного, а мирового масштаб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0360" indent="-5400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83" name="Содержимое 3" descr="Платон.jpg"/>
          <p:cNvPicPr/>
          <p:nvPr/>
        </p:nvPicPr>
        <p:blipFill>
          <a:blip r:embed="rId1"/>
          <a:stretch/>
        </p:blipFill>
        <p:spPr>
          <a:xfrm>
            <a:off x="5429160" y="1571760"/>
            <a:ext cx="3457800" cy="4525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714240" y="1285920"/>
            <a:ext cx="45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им историческим образцом универсального всестороннего образования является, безусловно, Платоновский Университет, или, как его ещё называют - Платоновская Академия. Академию Платона отличала атмосфера свободного научного поиска, дружеское обсуждение вопросов, которые вызывали общий интерес, стремление к синтезу областей 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Franklin Gothic Book"/>
              </a:rPr>
              <a:t>История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86" name="Содержимое 3" descr="Delphi_Platon_statue_1.jpg"/>
          <p:cNvPicPr/>
          <p:nvPr/>
        </p:nvPicPr>
        <p:blipFill>
          <a:blip r:embed="rId1"/>
          <a:stretch/>
        </p:blipFill>
        <p:spPr>
          <a:xfrm>
            <a:off x="500040" y="1476360"/>
            <a:ext cx="2786040" cy="37148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571680" y="52862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туя Пла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льф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3500280" y="1357200"/>
            <a:ext cx="5143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́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428 или 427 до н. э., Афины — 348 или 347 до н. э., там же) — древнегреческий философ, ученик Сократа, учитель Аристо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н - основатель целого направления в философии, оказавшего и оказывающего свое влияние на всем протяжении истории философии. Часто даже говорят, что вся западная история философии - это примечания к Платону. В его философии: Мир этот - живое существо, он обладает душой, которая находится не в нем самом, а окружает собой весь мир, состоящий из элементов земли, воды, огня и воздух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Book"/>
              </a:rPr>
              <a:t>«Платоновская Академия»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99680" y="1428480"/>
            <a:ext cx="4257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очетание открытого стиля работы, т.е. свободный доступ и равноправие для всех её участников вместе с синтезом различных коллективных и индивидуальных творческих форм, таких как  театрального действия (знаменитые диалоги, которые были положены в основу Древнегреческого театра), лекций (монологи), диспутов или дискуссий делали Академию лучшим образчиком образовательной системы того времен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36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Рисунок 3" descr="Сад Аркадия.gif"/>
          <p:cNvPicPr/>
          <p:nvPr/>
        </p:nvPicPr>
        <p:blipFill>
          <a:blip r:embed="rId1"/>
          <a:stretch/>
        </p:blipFill>
        <p:spPr>
          <a:xfrm>
            <a:off x="4786200" y="1714680"/>
            <a:ext cx="3868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«Платоновская Академия экологических наук»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40096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а обучения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 Дистанционная, включающая работу над проектами для отдельных групп из различных шко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учная переписка, обеспечивающая курирование проектов научными деятелями, общественными организациями и другими взаимодействующими структурами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4" descr="1379693606_7-97.jpg"/>
          <p:cNvPicPr/>
          <p:nvPr/>
        </p:nvPicPr>
        <p:blipFill>
          <a:blip r:embed="rId1"/>
          <a:stretch/>
        </p:blipFill>
        <p:spPr>
          <a:xfrm>
            <a:off x="4138560" y="3657600"/>
            <a:ext cx="4262400" cy="32068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571680" y="457200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танционное обучение занимает большую часть времени процесса образования, но ученики периодически собираются на семин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4260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Форма обучения - семинар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Летний лагерь «Сад Аркад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ёхдневные семинары на базе научно-практического центра Академ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зация  фокус – груп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бсуждение, дискусс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ие занят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программе Академии, следующие фор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и, наблюд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ров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в природе, иг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кая деятель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5" descr="astolyabiya.jpg"/>
          <p:cNvPicPr/>
          <p:nvPr/>
        </p:nvPicPr>
        <p:blipFill>
          <a:blip r:embed="rId1"/>
          <a:stretch/>
        </p:blipFill>
        <p:spPr>
          <a:xfrm>
            <a:off x="5711760" y="3352680"/>
            <a:ext cx="29386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57160" y="571320"/>
            <a:ext cx="3143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Творческий экзамен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защита проект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Форма защиты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экологический театр на открытом воздухе, театрализо-ванное представление в виде диалога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Рисунок 5" descr="philosophy.jpg"/>
          <p:cNvPicPr/>
          <p:nvPr/>
        </p:nvPicPr>
        <p:blipFill>
          <a:blip r:embed="rId1"/>
          <a:stretch/>
        </p:blipFill>
        <p:spPr>
          <a:xfrm>
            <a:off x="4071960" y="1143000"/>
            <a:ext cx="48085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19:11:05Z</dcterms:created>
  <dc:creator>Лео</dc:creator>
  <dc:description/>
  <dc:language>en-US</dc:language>
  <cp:lastModifiedBy>Лео</cp:lastModifiedBy>
  <dcterms:modified xsi:type="dcterms:W3CDTF">2015-01-19T21:21:12Z</dcterms:modified>
  <cp:revision>19</cp:revision>
  <dc:subject/>
  <dc:title>Слайд 1</dc:title>
</cp:coreProperties>
</file>