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3B806-D60C-4453-B970-844DC8A30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96A6-B9CA-46D2-B78F-9FFC7FCE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F9BA-0756-418A-9F9B-1F7DFC5FF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A2772-74F1-4A65-9422-6A805B6E9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35DBF-A04B-417B-A093-21805A34E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752F0-82B6-4BBC-9FB3-32210D79C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36029-7A03-4E31-A2E1-CCA66537A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BB669-F95F-4EC0-B136-1B094FE7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D2595-3A5C-4C45-98FF-3DC2C4B7C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56655-77B6-4D88-870D-755DAF243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08DC4-3657-49E4-A310-1F141ABD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F36A-F2AF-4C98-9343-48544B6C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4E7DB-D31A-41DA-A77A-5E0F741F5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8DC41-D1B0-4001-82BA-8D5381549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DD42A-563B-45F1-9876-AF7FF6ADC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D4434-0E00-4A30-A78D-BB723A347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659C9-1C16-4930-B642-066072FDE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20F70-9DF4-40FC-AA11-E8E7323C1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1EC08-5E8F-48D3-B3BD-3033820C0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61E84-DBC1-4AFE-AB3A-EF321F3B3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9DC04-39B6-4F41-9BD5-4F8D8ACF2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80A28-A1A4-4168-9151-1502DB3E2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48B15-07B0-4E8C-8EEF-9F5714088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402A2-D9B2-4FA4-923C-1B8CE2E86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0B64B-9EAB-4F37-A7C6-469CA5364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47BB6-559B-4890-8E0E-E3FCF2D26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06C06-A901-43F7-B4A8-227247DB0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EBF93-9216-423E-8FDD-E28077625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D2393-1485-4A15-9AA1-A4B15873D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92220-398E-46D3-854A-844FC9493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E49EE-1E14-405A-A7FA-2C1BCBD0B1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9313A-1286-4D46-8165-C3A841EC9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2BFB1C-0AFC-4AE0-BD94-5DFF0EFDF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771B7-B96A-4B2C-A22A-DDDA2C54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3E74E-9504-467A-8FD8-A5C99B4FD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D56CA-AF2E-4A2D-97A1-02205B057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7F4D8-1E09-4FC3-A25A-3BBCF8F20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4B44A-4EFB-4BE0-8EA3-C3B2896FC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D4565-FB55-4E5F-90CE-32FDF94E0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399C0-C445-4336-AE59-E187ED3FE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7CE9A-8D16-477F-8C14-81CB3FD9C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58EE14-5009-4F72-8AC9-686A328CF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AF123C-5568-4C2D-B3A0-D66E51BE53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693A0-D5C6-4EAC-94B3-4A5D04C6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12E8-2FC4-499B-9BB9-A7F85CFC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DD401-A6E4-4F6F-AEF4-0577F9F1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DE85-41F9-4763-9790-E78B0C8EE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ABDB-58F5-4B50-A0B5-729F38133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a:off x="7043760" y="0"/>
              <a:ext cx="1217520" cy="685800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rebuchet MS"/>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eb3d9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B5E4-D0CF-40B7-8C3F-651CF47608F8}" type="slidenum">
              <a:rPr b="0" lang="ru-RU" sz="900" spc="-1" strike="noStrike">
                <a:solidFill>
                  <a:srgbClr val="eb3d9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rebuchet MS"/>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eb3d9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79B7-F27D-43CA-99F5-CA5F2A6C5A86}" type="slidenum">
              <a:rPr b="0" lang="ru-RU" sz="900" spc="-1" strike="noStrike">
                <a:solidFill>
                  <a:srgbClr val="eb3d9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a:off x="7043760" y="0"/>
              <a:ext cx="1217520" cy="685800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rebuchet MS"/>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eb3d9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A3D2-E96E-4F1B-9E00-10E46FD3E5CD}" type="slidenum">
              <a:rPr b="0" lang="ru-RU" sz="900" spc="-1" strike="noStrike">
                <a:solidFill>
                  <a:srgbClr val="eb3d9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Straight Connector 6"/>
            <p:cNvSpPr/>
            <p:nvPr/>
          </p:nvSpPr>
          <p:spPr>
            <a:xfrm flipV="1">
              <a:off x="5130720" y="4175280"/>
              <a:ext cx="4022640" cy="268272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a:off x="7043760" y="0"/>
              <a:ext cx="1217520" cy="6858000"/>
            </a:xfrm>
            <a:prstGeom prst="line">
              <a:avLst/>
            </a:prstGeom>
            <a:ln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rebuchet MS"/>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eb3d9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AA2E-85F2-489C-9B3C-60EA669D9541}" type="slidenum">
              <a:rPr b="0" lang="ru-RU" sz="900" spc="-1" strike="noStrike">
                <a:solidFill>
                  <a:srgbClr val="eb3d9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afc"/>
            </a:gs>
            <a:gs pos="100000">
              <a:srgbClr val="fcdfe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0"/>
            <a:ext cx="9144000" cy="685800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Всероссийский дистанционный Конкурс «Фотокомикс: Камера тут, камера там»</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Название работы: Один день из жизни моего города. </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Тема: Мини история о достопримечательностях Томска глазами англичан.</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Руководитель: Балабан Елена Георгиевна</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Автор (ы):  Иваницкая Елизавета, Глушкова Екатерина, Шестернина Ирина.</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Место проживания: г. Томск</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Класс, образовательное учреждение: 4В класс, МАОУ СОШ № 32</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rebuchet MS"/>
              </a:rPr>
              <a:t>Возрастная группа: 1-4 классы</a:t>
            </a:r>
            <a:endParaRPr b="0" lang="en-US" sz="1800" spc="-1" strike="noStrike">
              <a:solidFill>
                <a:srgbClr val="404040"/>
              </a:solidFill>
              <a:latin typeface="Trebuchet MS"/>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http://uspeh.tspu.ru/</a:t>
            </a:r>
            <a:endParaRPr b="0" lang="en-US" sz="1800" spc="-1" strike="noStrike">
              <a:solidFill>
                <a:srgbClr val="404040"/>
              </a:solidFill>
              <a:latin typeface="Trebuchet MS"/>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afc"/>
            </a:gs>
            <a:gs pos="100000">
              <a:srgbClr val="fcdfe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42960" y="-360"/>
            <a:ext cx="6348240" cy="857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u="sng">
                <a:solidFill>
                  <a:srgbClr val="eb3d9f"/>
                </a:solidFill>
                <a:uFillTx/>
                <a:latin typeface="Trebuchet MS"/>
              </a:rPr>
              <a:t>Памятник счастью.</a:t>
            </a:r>
            <a:endParaRPr b="0" lang="en-US" sz="4400" spc="-1" strike="noStrike">
              <a:solidFill>
                <a:srgbClr val="eb3d9f"/>
              </a:solidFill>
              <a:latin typeface="Trebuchet MS"/>
            </a:endParaRPr>
          </a:p>
        </p:txBody>
      </p:sp>
      <p:pic>
        <p:nvPicPr>
          <p:cNvPr id="214" name="Picture 2" descr=""/>
          <p:cNvPicPr/>
          <p:nvPr/>
        </p:nvPicPr>
        <p:blipFill>
          <a:blip r:embed="rId1"/>
          <a:stretch/>
        </p:blipFill>
        <p:spPr>
          <a:xfrm>
            <a:off x="-92160" y="792000"/>
            <a:ext cx="3537000" cy="5267520"/>
          </a:xfrm>
          <a:prstGeom prst="rect">
            <a:avLst/>
          </a:prstGeom>
          <a:ln w="0">
            <a:noFill/>
          </a:ln>
        </p:spPr>
      </p:pic>
      <p:sp>
        <p:nvSpPr>
          <p:cNvPr id="215" name="Прямоугольник 6"/>
          <p:cNvSpPr/>
          <p:nvPr/>
        </p:nvSpPr>
        <p:spPr>
          <a:xfrm>
            <a:off x="3294000" y="857160"/>
            <a:ext cx="5832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monument to happiness. It is</a:t>
            </a:r>
            <a:r>
              <a:rPr b="0" lang="ru-RU" sz="2400" spc="-1" strike="noStrike">
                <a:solidFill>
                  <a:srgbClr val="000000"/>
                </a:solidFill>
                <a:latin typeface="Arial"/>
              </a:rPr>
              <a:t> </a:t>
            </a:r>
            <a:r>
              <a:rPr b="0" lang="en-US" sz="2400" spc="-1" strike="noStrike">
                <a:solidFill>
                  <a:srgbClr val="000000"/>
                </a:solidFill>
                <a:latin typeface="Arial"/>
              </a:rPr>
              <a:t>a Bronze favourite. It was erected on October 5, 2005</a:t>
            </a:r>
            <a:r>
              <a:rPr b="0" lang="ru-RU" sz="2400" spc="-1" strike="noStrike">
                <a:solidFill>
                  <a:srgbClr val="000000"/>
                </a:solidFill>
                <a:latin typeface="Arial"/>
              </a:rPr>
              <a:t>. </a:t>
            </a:r>
            <a:r>
              <a:rPr b="0" lang="en-US" sz="2400" spc="-1" strike="noStrike">
                <a:solidFill>
                  <a:srgbClr val="000000"/>
                </a:solidFill>
                <a:latin typeface="Arial"/>
              </a:rPr>
              <a:t>The monument is located on the avenue down on street by T. Shevchenko. Authors of the monument are Maxim Petrov and Leonti Usov.</a:t>
            </a:r>
            <a:endParaRPr b="0" lang="en-US" sz="2400" spc="-1" strike="noStrike">
              <a:solidFill>
                <a:srgbClr val="000000"/>
              </a:solidFill>
              <a:latin typeface="Arial"/>
            </a:endParaRPr>
          </a:p>
        </p:txBody>
      </p:sp>
      <p:sp>
        <p:nvSpPr>
          <p:cNvPr id="216" name="Прямоугольник 2"/>
          <p:cNvSpPr/>
          <p:nvPr/>
        </p:nvSpPr>
        <p:spPr>
          <a:xfrm>
            <a:off x="395280" y="4653000"/>
            <a:ext cx="4572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ник счастью. Бронзовый любимец. Был установлен 5 октября 2005 года. Памятник расположен на аллее по улице Т. Шевченко. Автор скульптуры Максим Петров и Леонид Усов. </a:t>
            </a:r>
            <a:endParaRPr b="0" lang="en-US" sz="1400" spc="-1" strike="noStrike">
              <a:solidFill>
                <a:srgbClr val="000000"/>
              </a:solidFill>
              <a:latin typeface="Arial"/>
            </a:endParaRPr>
          </a:p>
        </p:txBody>
      </p:sp>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afc"/>
            </a:gs>
            <a:gs pos="100000">
              <a:srgbClr val="fcdfe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2200" y="-36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u="sng">
                <a:solidFill>
                  <a:srgbClr val="eb3d9f"/>
                </a:solidFill>
                <a:uFillTx/>
                <a:latin typeface="Trebuchet MS"/>
              </a:rPr>
              <a:t>Памятник Чехову.</a:t>
            </a:r>
            <a:endParaRPr b="0" lang="en-US" sz="4800" spc="-1" strike="noStrike">
              <a:solidFill>
                <a:srgbClr val="eb3d9f"/>
              </a:solidFill>
              <a:latin typeface="Trebuchet MS"/>
            </a:endParaRPr>
          </a:p>
        </p:txBody>
      </p:sp>
      <p:pic>
        <p:nvPicPr>
          <p:cNvPr id="218" name="Picture 2" descr=""/>
          <p:cNvPicPr/>
          <p:nvPr/>
        </p:nvPicPr>
        <p:blipFill>
          <a:blip r:embed="rId1"/>
          <a:stretch/>
        </p:blipFill>
        <p:spPr>
          <a:xfrm>
            <a:off x="6480" y="523800"/>
            <a:ext cx="3895560" cy="3956040"/>
          </a:xfrm>
          <a:prstGeom prst="rect">
            <a:avLst/>
          </a:prstGeom>
          <a:ln w="0">
            <a:noFill/>
          </a:ln>
        </p:spPr>
      </p:pic>
      <p:sp>
        <p:nvSpPr>
          <p:cNvPr id="219" name="Прямоугольник 4"/>
          <p:cNvSpPr/>
          <p:nvPr/>
        </p:nvSpPr>
        <p:spPr>
          <a:xfrm>
            <a:off x="3652920" y="914400"/>
            <a:ext cx="5383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ument to A. P. Chekhov is erected on August 20, 2004. The monument is located on the waterfront of the river Tom. The author of the monument is the sculptor Leonti Usov and the founder is Maxim Petrov.</a:t>
            </a:r>
            <a:endParaRPr b="0" lang="en-US" sz="2400" spc="-1" strike="noStrike">
              <a:solidFill>
                <a:srgbClr val="000000"/>
              </a:solidFill>
              <a:latin typeface="Arial"/>
            </a:endParaRPr>
          </a:p>
        </p:txBody>
      </p:sp>
      <p:sp>
        <p:nvSpPr>
          <p:cNvPr id="220" name="Прямоугольник 5"/>
          <p:cNvSpPr/>
          <p:nvPr/>
        </p:nvSpPr>
        <p:spPr>
          <a:xfrm>
            <a:off x="250920" y="4398840"/>
            <a:ext cx="4572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ник А. П. Чехову установлен 20 августа 2004 года. Памятник расположен на набережной реки Томи. Автор памятника — скульптор Леонтий Усов, литейщик Максим Петров.</a:t>
            </a:r>
            <a:endParaRPr b="0" lang="en-US" sz="1400" spc="-1" strike="noStrike">
              <a:solidFill>
                <a:srgbClr val="000000"/>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2T02:46:31Z</dcterms:created>
  <dc:creator>Alex</dc:creator>
  <dc:description/>
  <dc:language>en-US</dc:language>
  <cp:lastModifiedBy>Елена</cp:lastModifiedBy>
  <dcterms:modified xsi:type="dcterms:W3CDTF">2015-03-05T15:22:48Z</dcterms:modified>
  <cp:revision>33</cp:revision>
  <dc:subject/>
  <dc:title>Палеонтологический музей</dc:title>
</cp:coreProperties>
</file>