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648-397F-4818-9CC4-B2E879A7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312-5F2C-4C12-B87E-103C860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000-9B18-4A42-83E3-4EE36FCA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CA6-22F1-4E73-AD30-707AD127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5D50-3977-4269-B0B5-B60AF630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27CE-29C7-4FB8-891F-88F75616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161E-2D82-431E-AE3E-143325D6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7013-120A-45B6-8E2C-F9E1FFC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7E1-CB05-44C0-B76A-A4F9178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7FDA-67CD-4A3B-AFC3-9CB974B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4141-F277-44CA-A3F5-CE4A22B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E7D-E9C4-4134-A2B5-BE811B7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C94A-9AAD-4DF7-B8BD-AC004A1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BF14-DEE2-4676-B51D-5B6994B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CD46-904B-4A6C-8BD8-B79C056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42D-029B-48A9-86DE-BAD7864E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7EBB-8D39-4623-A7C9-9C00BE06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7649-BA4D-4C37-915A-69B84D19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91BA-9719-4F09-9624-EB80EC01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D6BB-DB72-43B3-B1A4-7CC7249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0F6D-4DC4-4FE8-BA53-85A96A81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47EC-D7E2-44ED-BE67-F8E3A8B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AF2-59F3-4E77-B86D-C194363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E0D6-118D-4650-B009-72DCEA9E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A776-B0CC-4A9D-A423-C69ACE1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49A4-DDCB-4BC7-ACB1-3B1134D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ADE4-27D5-4C1B-BA94-297D48F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E7C2-43AD-437B-9EC0-9D2500E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42BA-CF8C-4DA3-A5B1-DD1027A3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19D1-70D9-4F79-9D42-4851FB7C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7C62-DD9D-4C39-8494-061EEA52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2D69-54E3-4AB4-B53B-AA840F9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F8A9-48CF-483B-BCD4-15F78FA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16C-9CFA-446C-9139-C579286A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9161-1D5E-4D7D-AEA3-5296782C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26A0-633E-46A8-9806-1341BB98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6C87-2E14-460A-9F2B-58F9181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D907-968D-4420-8648-D30329E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98D6-03F4-4EA8-AA28-8CE1C17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3CCF-7613-4EC1-92C5-625808F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51F5-E047-4B24-99A9-C36396F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4B25-98B6-4BEB-BACC-E8A06ED3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B322-A7A8-4CD5-99F4-E342DB0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CA0-3879-4169-9C5D-DF10B76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AAF-BC77-4867-9054-47C8F19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0EB-2E48-4038-93D8-323D39B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D39-9D65-4565-8114-CB0770D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B59-3FA4-4DAC-9516-93DE5F4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862B-E137-4C1C-A72C-24876ED0945D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16A-E1A9-406F-ABD7-88BE9D8FED64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942-BFC9-48FE-8DE6-5593481F63D3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1881-DB49-4E43-9E2D-FCFC7018F7FF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c"/>
            </a:gs>
            <a:gs pos="100000">
              <a:srgbClr val="fcd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img-fotki.yandex.ru/get/5506/volos-t.0/0_46e8b_50d28211_XL"/>
          <p:cNvPicPr/>
          <p:nvPr/>
        </p:nvPicPr>
        <p:blipFill>
          <a:blip r:embed="rId1"/>
          <a:stretch/>
        </p:blipFill>
        <p:spPr>
          <a:xfrm>
            <a:off x="244440" y="701640"/>
            <a:ext cx="3468600" cy="3237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3462480" y="414360"/>
            <a:ext cx="568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msk the monument is erected to the teacher. The monument is opened in 2010 on a holiday of the International Teachers' Day. The author of the monument  is Oleg Kiyevsky. The monument is located in Teacher`s Square. The sculptor represented  the teacher and the child sitting at a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500120" y="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b3d9f"/>
                </a:solidFill>
                <a:uFillTx/>
                <a:latin typeface="Arial"/>
              </a:rPr>
              <a:t>Памятник учите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73080" y="43354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мске установлен памятник учителю. Памятник открыт в 2010 году в праздник Международного дня учителя. Автор памятника -  Олег Киевский. Памятник находится в Учительском сквере. Скульптор изобразил на памятнике учительницу и ребенка, сидящего за пар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c"/>
            </a:gs>
            <a:gs pos="100000">
              <a:srgbClr val="fcd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2036880" y="890640"/>
            <a:ext cx="4992480" cy="37544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1627200" y="530064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happy! We like our city Toms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-108000" y="2421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496cb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496cb"/>
                </a:solidFill>
                <a:latin typeface="Arial"/>
              </a:rPr>
              <a:t>Thank you four your </a:t>
            </a:r>
            <a:r>
              <a:rPr b="0" lang="en-US" sz="6000" spc="-1" strike="noStrike">
                <a:solidFill>
                  <a:srgbClr val="f496cb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496cb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496cb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496cb"/>
                </a:solidFill>
                <a:latin typeface="Arial"/>
              </a:rPr>
              <a:t>atten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2:46:31Z</dcterms:created>
  <dc:creator>Alex</dc:creator>
  <dc:description/>
  <dc:language>en-US</dc:language>
  <cp:lastModifiedBy>Елена</cp:lastModifiedBy>
  <dcterms:modified xsi:type="dcterms:W3CDTF">2015-03-05T15:23:11Z</dcterms:modified>
  <cp:revision>34</cp:revision>
  <dc:subject/>
  <dc:title>Палеонтологический музей</dc:title>
</cp:coreProperties>
</file>