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18.png" ContentType="image/png"/>
  <Override PartName="/ppt/media/image13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35.png" ContentType="image/png"/>
  <Override PartName="/ppt/media/image19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6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EA14-70D8-4B66-BD06-BA33EB09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B2D3-1170-460A-A373-8AB07B03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3A2A-2E4F-419B-B468-821CB066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6C1-DDBC-4213-ACEB-B5A9488B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4E69-45DD-4656-A8C2-04FA6D2F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5B61-388F-4114-B8DD-19093BFE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CBF9-3B4C-4B29-945A-8D0EBAA8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3CA2-43C4-4C92-BFDF-FC411F62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2A7D-EE96-42BE-9183-A226AF95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DF21-A08B-4451-80FB-B581A3C0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B8B8-02FE-4616-9CE5-D27D5B68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D72A-1EE0-4D0E-A913-D9A247AF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C916-93F4-4284-8118-DEFC81D2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13E8-EA05-42F4-89EA-53FDA7CB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FA66-36F4-473C-9A58-578FCC34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9269-3CF9-454D-8E7E-612FE178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02DB-B00C-42D6-BC53-B4101BB8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8E76-F578-4B39-A556-9002C52D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4D9-84E9-4B88-A250-733AF773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081E-C3C4-4FF4-B69F-9F353144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5DC1-5ECF-40AC-B65A-0FE5372C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A017-BCEA-4EBA-AB5F-7D7F0FAD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066A-10D6-4740-B0B1-14A8DD00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C8E0-0322-4D9F-93A5-46B8FE9D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ntiqua-Bold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ntiqua-Bold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ntiqua-Bold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ntiqua-Bold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ntiqua-Bold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ntiqua-Bold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6699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6CC6-8240-448C-BF95-DB561062F9F7}" type="slidenum">
              <a:rPr b="1" lang="ru-RU" sz="2600" spc="-1" strike="noStrike">
                <a:solidFill>
                  <a:srgbClr val="6699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ntiqua-Bold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ntiqua-Bold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ntiqua-Bold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ntiqua-Bold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ntiqua-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ntiqua-Bold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6699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3EAA-D6E6-458B-88FA-79B1DDC664AA}" type="slidenum">
              <a:rPr b="1" lang="ru-RU" sz="2600" spc="-1" strike="noStrike">
                <a:solidFill>
                  <a:srgbClr val="6699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9360">
            <a:solidFill>
              <a:srgbClr val="ff6699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Baskerville"/>
              </a:rPr>
              <a:t>Западноевропейская  культура </a:t>
            </a:r>
            <a:r>
              <a:rPr b="1" i="1" lang="en-US" sz="4000" spc="-1" strike="noStrike">
                <a:solidFill>
                  <a:srgbClr val="ffff00"/>
                </a:solidFill>
                <a:latin typeface="Baskerville"/>
              </a:rPr>
              <a:t>XVII</a:t>
            </a:r>
            <a:r>
              <a:rPr b="1" i="1" lang="ru-RU" sz="4000" spc="-1" strike="noStrike">
                <a:solidFill>
                  <a:srgbClr val="ffff00"/>
                </a:solidFill>
                <a:latin typeface="Baskerville"/>
              </a:rPr>
              <a:t> век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763640" y="393336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5" descr="00143"/>
          <p:cNvPicPr/>
          <p:nvPr/>
        </p:nvPicPr>
        <p:blipFill>
          <a:blip r:embed="rId1"/>
          <a:stretch/>
        </p:blipFill>
        <p:spPr>
          <a:xfrm>
            <a:off x="1547640" y="2492280"/>
            <a:ext cx="633600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646520" y="4151520"/>
            <a:ext cx="3990600" cy="201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bat-Bold"/>
              </a:rPr>
              <a:t>«Аполлон и Дафна»</a:t>
            </a:r>
            <a:br>
              <a:rPr sz="3600"/>
            </a:br>
            <a:br>
              <a:rPr sz="3600"/>
            </a:br>
            <a:r>
              <a:rPr b="1" lang="ru-RU" sz="2800" spc="-1" strike="noStrike">
                <a:solidFill>
                  <a:srgbClr val="ffffcc"/>
                </a:solidFill>
                <a:latin typeface="Arbat-Bold"/>
              </a:rPr>
              <a:t>(Лоренцо Бернини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bernini_apollon_dafna"/>
          <p:cNvPicPr/>
          <p:nvPr/>
        </p:nvPicPr>
        <p:blipFill>
          <a:blip r:embed="rId1"/>
          <a:stretch/>
        </p:blipFill>
        <p:spPr>
          <a:xfrm>
            <a:off x="1077840" y="0"/>
            <a:ext cx="2703600" cy="659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41560" y="862200"/>
            <a:ext cx="4735800" cy="333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yarsky"/>
              </a:rPr>
              <a:t>«Экстаз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Boyarsky"/>
              </a:rPr>
              <a:t>Святой Терезы»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nnaLightCTT"/>
              </a:rPr>
              <a:t>(Л. Бернини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italy_bernini_ecstasy_st_teresa"/>
          <p:cNvPicPr/>
          <p:nvPr/>
        </p:nvPicPr>
        <p:blipFill>
          <a:blip r:embed="rId1"/>
          <a:stretch/>
        </p:blipFill>
        <p:spPr>
          <a:xfrm>
            <a:off x="4788000" y="476280"/>
            <a:ext cx="4354560" cy="5977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44240" y="120600"/>
            <a:ext cx="2854440" cy="166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ntiqua-Bold"/>
              </a:rPr>
              <a:t> </a:t>
            </a:r>
            <a:r>
              <a:rPr b="1" i="1" lang="ru-RU" sz="2400" spc="-1" strike="noStrike">
                <a:solidFill>
                  <a:srgbClr val="660066"/>
                </a:solidFill>
                <a:latin typeface="Antiqua-Bold"/>
              </a:rPr>
              <a:t>Питер Пауль Рубенс</a:t>
            </a:r>
            <a:br>
              <a:rPr sz="2800"/>
            </a:br>
            <a:r>
              <a:rPr b="1" i="1" lang="ru-RU" sz="2800" spc="-1" strike="noStrike">
                <a:solidFill>
                  <a:srgbClr val="660066"/>
                </a:solidFill>
                <a:latin typeface="Antiqua-Bold"/>
              </a:rPr>
              <a:t>Автопортрет с жено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51640" y="5444640"/>
            <a:ext cx="27367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Портрет  Елены Фоурм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9" descr="Rubens_Selfportrait_Isabella_Brandt"/>
          <p:cNvPicPr/>
          <p:nvPr/>
        </p:nvPicPr>
        <p:blipFill>
          <a:blip r:embed="rId1"/>
          <a:stretch/>
        </p:blipFill>
        <p:spPr>
          <a:xfrm>
            <a:off x="324000" y="1844640"/>
            <a:ext cx="3835080" cy="5013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Rubens_Kameristka"/>
          <p:cNvPicPr/>
          <p:nvPr/>
        </p:nvPicPr>
        <p:blipFill>
          <a:blip r:embed="rId2"/>
          <a:stretch/>
        </p:blipFill>
        <p:spPr>
          <a:xfrm>
            <a:off x="5508720" y="620640"/>
            <a:ext cx="32256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840" y="333360"/>
            <a:ext cx="777852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ntiqua-Bold"/>
              </a:rPr>
              <a:t>Персей и Андромеда</a:t>
            </a:r>
            <a:br>
              <a:rPr sz="2800"/>
            </a:br>
            <a:br>
              <a:rPr sz="2800"/>
            </a:br>
            <a:r>
              <a:rPr b="1" i="1" lang="ru-RU" sz="2400" spc="-1" strike="noStrike">
                <a:solidFill>
                  <a:srgbClr val="009900"/>
                </a:solidFill>
                <a:latin typeface="Antiqua-Bold"/>
              </a:rPr>
              <a:t>(Питер Пауль Рубенс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Рубенс Персей и Андромеда"/>
          <p:cNvPicPr/>
          <p:nvPr/>
        </p:nvPicPr>
        <p:blipFill>
          <a:blip r:embed="rId1"/>
          <a:stretch/>
        </p:blipFill>
        <p:spPr>
          <a:xfrm>
            <a:off x="1908000" y="2205000"/>
            <a:ext cx="6048720" cy="435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400" y="5368680"/>
            <a:ext cx="594792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ntiqua-Bold"/>
              </a:rPr>
              <a:t>Союз Земли и Воды</a:t>
            </a:r>
            <a:br>
              <a:rPr sz="2800"/>
            </a:br>
            <a:br>
              <a:rPr sz="2400"/>
            </a:br>
            <a:r>
              <a:rPr b="1" i="1" lang="ru-RU" sz="2400" spc="-1" strike="noStrike">
                <a:solidFill>
                  <a:srgbClr val="000099"/>
                </a:solidFill>
                <a:latin typeface="Antiqua-Bold"/>
              </a:rPr>
              <a:t>(Питер Пауль Рубенс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Рубенс соз Земли и Воды"/>
          <p:cNvPicPr/>
          <p:nvPr/>
        </p:nvPicPr>
        <p:blipFill>
          <a:blip r:embed="rId1"/>
          <a:stretch/>
        </p:blipFill>
        <p:spPr>
          <a:xfrm>
            <a:off x="4067280" y="549360"/>
            <a:ext cx="4759200" cy="587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316560" y="2076480"/>
            <a:ext cx="2209320" cy="277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80"/>
                </a:solidFill>
                <a:latin typeface="Engravers MT"/>
              </a:rPr>
              <a:t>Менины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800080"/>
                </a:solidFill>
                <a:latin typeface="Antiqua-Bold"/>
              </a:rPr>
              <a:t>(Диего Веласкес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V009_4"/>
          <p:cNvPicPr/>
          <p:nvPr/>
        </p:nvPicPr>
        <p:blipFill>
          <a:blip r:embed="rId1"/>
          <a:stretch/>
        </p:blipFill>
        <p:spPr>
          <a:xfrm>
            <a:off x="0" y="333360"/>
            <a:ext cx="54608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765440" y="5446440"/>
            <a:ext cx="5192640" cy="1006200"/>
          </a:xfrm>
          <a:prstGeom prst="rect">
            <a:avLst/>
          </a:prstGeom>
          <a:noFill/>
          <a:ln w="9360">
            <a:solidFill>
              <a:srgbClr val="6600cc"/>
            </a:solidFill>
            <a:round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ntiqua-Bold"/>
              </a:rPr>
              <a:t>Пряхи</a:t>
            </a:r>
            <a:br>
              <a:rPr sz="2800"/>
            </a:br>
            <a:br>
              <a:rPr sz="2800"/>
            </a:br>
            <a:r>
              <a:rPr b="1" i="1" lang="ru-RU" sz="2400" spc="-1" strike="noStrike">
                <a:solidFill>
                  <a:srgbClr val="000099"/>
                </a:solidFill>
                <a:latin typeface="Antiqua-Bold"/>
              </a:rPr>
              <a:t>Диего Веласке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Диего Веласкес Пряхи"/>
          <p:cNvPicPr/>
          <p:nvPr/>
        </p:nvPicPr>
        <p:blipFill>
          <a:blip r:embed="rId1"/>
          <a:srcRect l="1921" t="1581" r="0" b="11428"/>
          <a:stretch/>
        </p:blipFill>
        <p:spPr>
          <a:xfrm>
            <a:off x="1332000" y="333360"/>
            <a:ext cx="6135480" cy="491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957240" y="57240"/>
            <a:ext cx="7373160" cy="7945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agneto"/>
              </a:rPr>
              <a:t>Барокк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1640" cy="521172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 </a:t>
            </a:r>
            <a:r>
              <a:rPr b="1" i="1" lang="en-US" sz="1400" spc="-1" strike="noStrike" u="sng">
                <a:solidFill>
                  <a:srgbClr val="990033"/>
                </a:solidFill>
                <a:uFillTx/>
                <a:latin typeface="Arial"/>
              </a:rPr>
              <a:t>Barokk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1" i="1" lang="ru-RU" sz="1400" spc="-1" strike="noStrike">
                <a:solidFill>
                  <a:srgbClr val="990033"/>
                </a:solidFill>
                <a:latin typeface="Arial"/>
              </a:rPr>
              <a:t> – в пер. с итал. «странный, вычурный, причудливы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990099"/>
                </a:solidFill>
                <a:uFillTx/>
                <a:latin typeface="Arial"/>
              </a:rPr>
              <a:t>Родина стиля</a:t>
            </a: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    -    Итал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позже распространился в Испании, Германии, Фландрии; Росс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800080"/>
                </a:solidFill>
                <a:uFillTx/>
                <a:latin typeface="Arial"/>
              </a:rPr>
              <a:t>Характеризуетс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1.-  усложненностью и многоплановостью;обилие детал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2. особой выразительностью и вниманию к эмоциональному воздействию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3. театральностью и иллюзорность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i="1" lang="ru-RU" sz="1400" spc="-1" strike="noStrike" u="sng">
                <a:solidFill>
                  <a:srgbClr val="800080"/>
                </a:solidFill>
                <a:uFillTx/>
                <a:latin typeface="Arial"/>
              </a:rPr>
              <a:t>Барокко в архитектуре</a:t>
            </a:r>
            <a:r>
              <a:rPr b="1" i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Королевская лестница в Ватика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Площадь Собора Святого Петра      -    арх.         Лоренцо  Бернин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800080"/>
                </a:solidFill>
                <a:uFillTx/>
                <a:latin typeface="Arial"/>
              </a:rPr>
              <a:t>в живописи</a:t>
            </a:r>
            <a:r>
              <a:rPr b="1" i="1" lang="ru-RU" sz="1400" spc="-1" strike="noStrike">
                <a:solidFill>
                  <a:srgbClr val="800080"/>
                </a:solidFill>
                <a:latin typeface="Arial"/>
              </a:rPr>
              <a:t>:</a:t>
            </a: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 Питер Пауль Рубенс «Персей и Андромеда», «Союз Земли и Воды»,  «Охота на львов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Диего Веласкес «Менины»,  «Пряхи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99"/>
                </a:solidFill>
                <a:latin typeface="Arial"/>
              </a:rPr>
              <a:t>-  </a:t>
            </a:r>
            <a:r>
              <a:rPr b="1" i="1" lang="ru-RU" sz="1400" spc="-1" strike="noStrike" u="sng">
                <a:solidFill>
                  <a:srgbClr val="990099"/>
                </a:solidFill>
                <a:uFillTx/>
                <a:latin typeface="Arial"/>
              </a:rPr>
              <a:t> в скульптуре:</a:t>
            </a:r>
            <a:r>
              <a:rPr b="1" i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«Аполлон и Дафна» , «Экстаз Св. Терезы» -       Лоренцо Бернин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413720" y="702360"/>
            <a:ext cx="6111000" cy="113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Antiqua-Bold"/>
              </a:rPr>
              <a:t>Классицизм в Росс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portal"/>
          <p:cNvPicPr/>
          <p:nvPr/>
        </p:nvPicPr>
        <p:blipFill>
          <a:blip r:embed="rId1"/>
          <a:stretch/>
        </p:blipFill>
        <p:spPr>
          <a:xfrm>
            <a:off x="1547640" y="1916280"/>
            <a:ext cx="6191280" cy="46432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5"/>
          <p:cNvSpPr/>
          <p:nvPr/>
        </p:nvSpPr>
        <p:spPr>
          <a:xfrm>
            <a:off x="1298520" y="127080"/>
            <a:ext cx="7354800" cy="6476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bat-Bold"/>
              </a:rPr>
              <a:t>Классицизм в архитектуре</a:t>
            </a:r>
            <a:endParaRPr b="0" lang="en-US" sz="3200" spc="-1" strike="noStrike">
              <a:solidFill>
                <a:srgbClr val="ffffff"/>
              </a:solidFill>
              <a:latin typeface="Antiqua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966680" y="392040"/>
            <a:ext cx="6362280" cy="81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ntiqua-Bold"/>
              </a:rPr>
              <a:t>Симметрия, строгие , четкие линии – черты классицизма в архитектур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portik"/>
          <p:cNvPicPr/>
          <p:nvPr/>
        </p:nvPicPr>
        <p:blipFill>
          <a:blip r:embed="rId1"/>
          <a:stretch/>
        </p:blipFill>
        <p:spPr>
          <a:xfrm>
            <a:off x="1476360" y="1292400"/>
            <a:ext cx="684072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438080" y="486360"/>
            <a:ext cx="4166640" cy="11314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Arbat"/>
              </a:rPr>
              <a:t>Разнообразие жанров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218200" y="2923920"/>
            <a:ext cx="391464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80"/>
                </a:solidFill>
                <a:latin typeface="Arbat"/>
              </a:rPr>
              <a:t>Натюрмор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1" descr="S026_3"/>
          <p:cNvPicPr/>
          <p:nvPr/>
        </p:nvPicPr>
        <p:blipFill>
          <a:blip r:embed="rId1"/>
          <a:stretch/>
        </p:blipFill>
        <p:spPr>
          <a:xfrm>
            <a:off x="4919760" y="3909960"/>
            <a:ext cx="4224240" cy="2933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002_3"/>
          <p:cNvPicPr/>
          <p:nvPr/>
        </p:nvPicPr>
        <p:blipFill>
          <a:blip r:embed="rId2"/>
          <a:stretch/>
        </p:blipFill>
        <p:spPr>
          <a:xfrm>
            <a:off x="19080" y="27000"/>
            <a:ext cx="4132080" cy="38955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11"/>
          <p:cNvSpPr/>
          <p:nvPr/>
        </p:nvSpPr>
        <p:spPr>
          <a:xfrm>
            <a:off x="1042920" y="3922560"/>
            <a:ext cx="2819520" cy="15163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bat-Bold"/>
              </a:rPr>
              <a:t>Бытовой жанр</a:t>
            </a:r>
            <a:endParaRPr b="0" lang="en-US" sz="4400" spc="-1" strike="noStrike">
              <a:solidFill>
                <a:srgbClr val="ffffff"/>
              </a:solidFill>
              <a:latin typeface="Antiqua-Bold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701000" y="415440"/>
            <a:ext cx="6533640" cy="113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Magneto"/>
              </a:rPr>
              <a:t>Классицизм брал за образец античное искусство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8" descr="quadriga"/>
          <p:cNvPicPr/>
          <p:nvPr/>
        </p:nvPicPr>
        <p:blipFill>
          <a:blip r:embed="rId1"/>
          <a:stretch/>
        </p:blipFill>
        <p:spPr>
          <a:xfrm>
            <a:off x="1619280" y="2276640"/>
            <a:ext cx="6265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278000" y="424440"/>
            <a:ext cx="7460280" cy="125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Arial"/>
              </a:rPr>
              <a:t>Идеальный, мужественный герой – тема классицизма в скульптур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7" descr="torvaldsen_yason"/>
          <p:cNvPicPr/>
          <p:nvPr/>
        </p:nvPicPr>
        <p:blipFill>
          <a:blip r:embed="rId1"/>
          <a:stretch/>
        </p:blipFill>
        <p:spPr>
          <a:xfrm>
            <a:off x="6012000" y="2421000"/>
            <a:ext cx="2388960" cy="3330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torvaldsen_ganimed_jupiter"/>
          <p:cNvPicPr/>
          <p:nvPr/>
        </p:nvPicPr>
        <p:blipFill>
          <a:blip r:embed="rId2"/>
          <a:stretch/>
        </p:blipFill>
        <p:spPr>
          <a:xfrm>
            <a:off x="611280" y="2492280"/>
            <a:ext cx="406548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391400" y="821520"/>
            <a:ext cx="723600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икола Пуссен –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художник - классицис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1" descr="pussen"/>
          <p:cNvPicPr/>
          <p:nvPr/>
        </p:nvPicPr>
        <p:blipFill>
          <a:blip r:embed="rId1"/>
          <a:stretch/>
        </p:blipFill>
        <p:spPr>
          <a:xfrm>
            <a:off x="2987640" y="1989000"/>
            <a:ext cx="4259160" cy="486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99280" y="5787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yarsky"/>
              </a:rPr>
              <a:t>Никола Пуссен</a:t>
            </a:r>
            <a:br>
              <a:rPr sz="2800"/>
            </a:br>
            <a:r>
              <a:rPr b="1" i="1" lang="ru-RU" sz="3600" spc="-1" strike="noStrike">
                <a:solidFill>
                  <a:srgbClr val="ffff00"/>
                </a:solidFill>
                <a:latin typeface="Boyarsky"/>
              </a:rPr>
              <a:t>«Танкред и Эрминия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00143"/>
          <p:cNvPicPr/>
          <p:nvPr/>
        </p:nvPicPr>
        <p:blipFill>
          <a:blip r:embed="rId1"/>
          <a:stretch/>
        </p:blipFill>
        <p:spPr>
          <a:xfrm>
            <a:off x="468360" y="0"/>
            <a:ext cx="83883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480" y="405720"/>
            <a:ext cx="7779240" cy="100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Танкред и Эрминия</a:t>
            </a:r>
            <a:br>
              <a:rPr sz="3200"/>
            </a:b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икола Пуссе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8" descr="pussen_tankred_erminia"/>
          <p:cNvPicPr/>
          <p:nvPr/>
        </p:nvPicPr>
        <p:blipFill>
          <a:blip r:embed="rId1"/>
          <a:stretch/>
        </p:blipFill>
        <p:spPr>
          <a:xfrm>
            <a:off x="1835280" y="2133720"/>
            <a:ext cx="633564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25480" y="468000"/>
            <a:ext cx="7797240" cy="880920"/>
          </a:xfrm>
          <a:prstGeom prst="rect">
            <a:avLst/>
          </a:prstGeom>
          <a:noFill/>
          <a:ln w="9360">
            <a:solidFill>
              <a:srgbClr val="6600cc"/>
            </a:solidFill>
            <a:round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Никола Пуссен</a:t>
            </a:r>
            <a:br>
              <a:rPr sz="2400"/>
            </a:b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Клятва Горацие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pussen_germanic_death"/>
          <p:cNvPicPr/>
          <p:nvPr/>
        </p:nvPicPr>
        <p:blipFill>
          <a:blip r:embed="rId1"/>
          <a:stretch/>
        </p:blipFill>
        <p:spPr>
          <a:xfrm>
            <a:off x="1763640" y="2276640"/>
            <a:ext cx="5940360" cy="4238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75880" y="-411480"/>
            <a:ext cx="7683480" cy="16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99"/>
                </a:solidFill>
                <a:latin typeface="Antiqua-Bold"/>
              </a:rPr>
              <a:t>Классицизм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1484280"/>
            <a:ext cx="7693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лассицизм  - от лат.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classikus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– «образцовый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Родина стиля – Фран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основе – образцы античного искус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Основные характеристи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-  Произведение подчиняется контролю разум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роизведение должно  иметь строгую структуру, и четкий  пл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герои произведений – мужественные люди, приносящие личное счастье в жертву долг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лассицизм в живописи: Никола Пуссен («Танкред и Эрминия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литературе: Пьер Корнель «Сид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4080" y="4897440"/>
            <a:ext cx="2967480" cy="138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800080"/>
                </a:solidFill>
                <a:latin typeface="Breeze"/>
              </a:rPr>
              <a:t>Рембрандт ван Рейн</a:t>
            </a:r>
            <a:br>
              <a:rPr sz="2000"/>
            </a:br>
            <a:r>
              <a:rPr b="1" lang="ru-RU" sz="2000" spc="-1" strike="noStrike">
                <a:solidFill>
                  <a:srgbClr val="800080"/>
                </a:solidFill>
                <a:latin typeface="Breeze"/>
              </a:rPr>
              <a:t>«Автопортрет с Саскией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Rembrandt_Selfportrait_Saskia"/>
          <p:cNvPicPr/>
          <p:nvPr/>
        </p:nvPicPr>
        <p:blipFill>
          <a:blip r:embed="rId1"/>
          <a:stretch/>
        </p:blipFill>
        <p:spPr>
          <a:xfrm>
            <a:off x="3851280" y="260280"/>
            <a:ext cx="50385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892880" y="57600"/>
            <a:ext cx="6736320" cy="79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Arbat"/>
              </a:rPr>
              <a:t>Рембрандт Харменс ван Рей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003280" y="5876640"/>
            <a:ext cx="3527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ртрет старуш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8000" y="5805360"/>
            <a:ext cx="377028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ртрет старика в красн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7" descr="Rembrandt_Portret_of_old_man_in_red"/>
          <p:cNvPicPr/>
          <p:nvPr/>
        </p:nvPicPr>
        <p:blipFill>
          <a:blip r:embed="rId1"/>
          <a:stretch/>
        </p:blipFill>
        <p:spPr>
          <a:xfrm>
            <a:off x="539640" y="1268280"/>
            <a:ext cx="3540240" cy="4523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8" descr="rembrandt_oldwoman"/>
          <p:cNvPicPr/>
          <p:nvPr/>
        </p:nvPicPr>
        <p:blipFill>
          <a:blip r:embed="rId2"/>
          <a:stretch/>
        </p:blipFill>
        <p:spPr>
          <a:xfrm>
            <a:off x="5364000" y="1125360"/>
            <a:ext cx="3538800" cy="45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170040" y="4523400"/>
            <a:ext cx="2358720" cy="21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Magneto"/>
              </a:rPr>
              <a:t>Рембрандт</a:t>
            </a:r>
            <a:br>
              <a:rPr sz="2400"/>
            </a:b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Magneto"/>
              </a:rPr>
              <a:t>Флор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Rembrandt_Saskia_Flora"/>
          <p:cNvPicPr/>
          <p:nvPr/>
        </p:nvPicPr>
        <p:blipFill>
          <a:blip r:embed="rId1"/>
          <a:stretch/>
        </p:blipFill>
        <p:spPr>
          <a:xfrm>
            <a:off x="684360" y="333360"/>
            <a:ext cx="4954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110320" y="464040"/>
            <a:ext cx="5281920" cy="81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bat"/>
              </a:rPr>
              <a:t>Павильон 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bat"/>
              </a:rPr>
              <a:t>(Барокко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P009_1"/>
          <p:cNvPicPr/>
          <p:nvPr/>
        </p:nvPicPr>
        <p:blipFill>
          <a:blip r:embed="rId1"/>
          <a:stretch/>
        </p:blipFill>
        <p:spPr>
          <a:xfrm>
            <a:off x="2484360" y="1628640"/>
            <a:ext cx="510228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575440" y="351360"/>
            <a:ext cx="5002560" cy="125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Corrida"/>
              </a:rPr>
              <a:t>«Даная»</a:t>
            </a:r>
            <a:br>
              <a:rPr sz="3600"/>
            </a:br>
            <a:r>
              <a:rPr b="1" lang="ru-RU" sz="3600" spc="-1" strike="noStrike">
                <a:solidFill>
                  <a:srgbClr val="800080"/>
                </a:solidFill>
                <a:latin typeface="Corrida"/>
              </a:rPr>
              <a:t>(Рембрандт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rembrandt_danaya"/>
          <p:cNvPicPr/>
          <p:nvPr/>
        </p:nvPicPr>
        <p:blipFill>
          <a:blip r:embed="rId1"/>
          <a:stretch/>
        </p:blipFill>
        <p:spPr>
          <a:xfrm>
            <a:off x="2484360" y="2060640"/>
            <a:ext cx="508176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531040" y="5037120"/>
            <a:ext cx="3516840" cy="132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Magneto"/>
              </a:rPr>
              <a:t>Рембрандт</a:t>
            </a:r>
            <a:br>
              <a:rPr sz="2400"/>
            </a:br>
            <a:br>
              <a:rPr sz="2400"/>
            </a:br>
            <a:r>
              <a:rPr b="1" i="1" lang="ru-RU" sz="2800" spc="-1" strike="noStrike">
                <a:solidFill>
                  <a:srgbClr val="000099"/>
                </a:solidFill>
                <a:latin typeface="Magneto"/>
              </a:rPr>
              <a:t>Возвращение блудного сын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Rembrandt_Return"/>
          <p:cNvPicPr/>
          <p:nvPr/>
        </p:nvPicPr>
        <p:blipFill>
          <a:blip r:embed="rId1"/>
          <a:stretch/>
        </p:blipFill>
        <p:spPr>
          <a:xfrm>
            <a:off x="468360" y="333360"/>
            <a:ext cx="501948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Вспомните автора и название  данной скульптурной композици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B014_8"/>
          <p:cNvPicPr/>
          <p:nvPr/>
        </p:nvPicPr>
        <p:blipFill>
          <a:blip r:embed="rId1"/>
          <a:stretch/>
        </p:blipFill>
        <p:spPr>
          <a:xfrm>
            <a:off x="2050920" y="2060640"/>
            <a:ext cx="2310120" cy="3659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851280" y="5950080"/>
            <a:ext cx="46800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Почему  ее можно отнести к стилю барокк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просы для самопроверки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акие изменения  в общественной жизни  17 века оказали основное влияние на развитие искусст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еречислите  основные черты искусства 17 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акая страна считается родиной стиля барокк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то является архитектором «Королевской лестницы»  и площади Собора Святого Петра в Рим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еречислите основные характеристики классициз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то автор картин «Аркадские пастухи» и «Танкред и Эрмини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3160" y="3673440"/>
            <a:ext cx="3648600" cy="239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yarsky"/>
              </a:rPr>
              <a:t>Украшения, волнистые линии в архитектуре барокко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italy_rome_sant_andrea_facade"/>
          <p:cNvPicPr/>
          <p:nvPr/>
        </p:nvPicPr>
        <p:blipFill>
          <a:blip r:embed="rId1"/>
          <a:stretch/>
        </p:blipFill>
        <p:spPr>
          <a:xfrm>
            <a:off x="3995640" y="476280"/>
            <a:ext cx="47754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971080" y="816480"/>
            <a:ext cx="536256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99"/>
                </a:solidFill>
                <a:latin typeface="AGBenguiatCyr-Bold"/>
              </a:rPr>
              <a:t>Пышность, зрелищность, обилие деталей  - в  интерьерах барокко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B014_5"/>
          <p:cNvPicPr/>
          <p:nvPr/>
        </p:nvPicPr>
        <p:blipFill>
          <a:blip r:embed="rId1"/>
          <a:stretch/>
        </p:blipFill>
        <p:spPr>
          <a:xfrm>
            <a:off x="1258920" y="2492280"/>
            <a:ext cx="2370240" cy="403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B014_6"/>
          <p:cNvPicPr/>
          <p:nvPr/>
        </p:nvPicPr>
        <p:blipFill>
          <a:blip r:embed="rId2"/>
          <a:stretch/>
        </p:blipFill>
        <p:spPr>
          <a:xfrm>
            <a:off x="6062760" y="1773360"/>
            <a:ext cx="2690640" cy="47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1280" y="5805360"/>
            <a:ext cx="8606160" cy="98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GBengaly"/>
              </a:rPr>
              <a:t>Королевская лестница в Ватикане</a:t>
            </a:r>
            <a:br>
              <a:rPr sz="3200"/>
            </a:br>
            <a:r>
              <a:rPr b="0" lang="ru-RU" sz="3200" spc="-1" strike="noStrike">
                <a:solidFill>
                  <a:srgbClr val="800080"/>
                </a:solidFill>
                <a:latin typeface="AGBengaly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AGBengaly"/>
              </a:rPr>
              <a:t>(Скала Реджия  - арх. Л. Бернини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bernini_scala_redja"/>
          <p:cNvPicPr/>
          <p:nvPr/>
        </p:nvPicPr>
        <p:blipFill>
          <a:blip r:embed="rId1"/>
          <a:stretch/>
        </p:blipFill>
        <p:spPr>
          <a:xfrm>
            <a:off x="2050920" y="0"/>
            <a:ext cx="4591080" cy="58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498640" y="34560"/>
            <a:ext cx="2838600" cy="412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Bodoni"/>
              </a:rPr>
              <a:t>Рим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Bodoni"/>
              </a:rPr>
              <a:t>Площадь перед Собором Святого Петра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Bodoni"/>
              </a:rPr>
              <a:t>(арх. Л.Бернини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6" descr="Собор Св"/>
          <p:cNvPicPr/>
          <p:nvPr/>
        </p:nvPicPr>
        <p:blipFill>
          <a:blip r:embed="rId1"/>
          <a:srcRect l="1598" t="0" r="2291" b="750"/>
          <a:stretch/>
        </p:blipFill>
        <p:spPr>
          <a:xfrm>
            <a:off x="108000" y="28440"/>
            <a:ext cx="439272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731160" y="1676160"/>
            <a:ext cx="2640600" cy="278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bat-Bold"/>
              </a:rPr>
              <a:t>Русское барокко</a:t>
            </a:r>
            <a:br>
              <a:rPr sz="2800"/>
            </a:b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Arbat-Bold"/>
              </a:rPr>
              <a:t>(Зимний дворец.</a:t>
            </a:r>
            <a:br>
              <a:rPr sz="2400"/>
            </a:b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Арх.  </a:t>
            </a:r>
            <a:br>
              <a:rPr sz="2000"/>
            </a:b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Б. Расстрелли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5040_1"/>
          <p:cNvPicPr/>
          <p:nvPr/>
        </p:nvPicPr>
        <p:blipFill>
          <a:blip r:embed="rId1"/>
          <a:stretch/>
        </p:blipFill>
        <p:spPr>
          <a:xfrm>
            <a:off x="4417920" y="0"/>
            <a:ext cx="46926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599120" y="3768120"/>
            <a:ext cx="2562120" cy="16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bat"/>
              </a:rPr>
              <a:t>Лоренцо Бернин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B014_3"/>
          <p:cNvPicPr/>
          <p:nvPr/>
        </p:nvPicPr>
        <p:blipFill>
          <a:blip r:embed="rId1"/>
          <a:stretch/>
        </p:blipFill>
        <p:spPr>
          <a:xfrm>
            <a:off x="4545000" y="260280"/>
            <a:ext cx="45831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6:32:48Z</dcterms:created>
  <dc:creator>елена</dc:creator>
  <dc:description/>
  <dc:language>en-US</dc:language>
  <cp:lastModifiedBy>user</cp:lastModifiedBy>
  <dcterms:modified xsi:type="dcterms:W3CDTF">2015-03-05T16:14:21Z</dcterms:modified>
  <cp:revision>98</cp:revision>
  <dc:subject/>
  <dc:title>Культура XVII века</dc:title>
</cp:coreProperties>
</file>