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arrow.wav" ContentType="audio/x-wav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0C2-0D60-4A2F-A883-CAA90C46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0EB-0D49-457A-8D93-75445B5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00D95-D1E2-43A6-BCFF-A575EE11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B837C-9CEA-4514-89FF-BC2B992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A317B-0119-4EDC-8D26-3C8B77DE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B64A0-380A-4D89-97F6-311342B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178FC-EFA8-42AE-B798-0702D78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06F11-AD1E-4C0D-A12E-48B5B9A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1368B-262F-41E9-AFC3-FB9A2A1A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9B7BE-8798-44E3-8488-5F4011FF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E913F-8FC5-4732-8438-6216308F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E2D-211A-44A4-A24F-76F4B828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B69-8F55-426A-9ABE-FFB6B210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424F-28AE-4298-A985-7C0CA878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DB77-7CEE-4863-9A1B-87D8EBD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2D99-6F22-4792-86F0-0860743B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FA7-0D42-48E7-BB67-EEDE9B1F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F7B9-7EEF-46C6-B02E-21F258FD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8BBF-5B4E-406F-9E09-88B75595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BFC-44AF-4442-A3D0-AA4F824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72E-AF90-4E92-85E9-D71053FF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0490-871C-46C3-BFB0-05361381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DCD-B846-40E8-BE1D-D360C6F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ECC9-6F48-43D4-ACC3-4EA7C6EC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4F23-F9CA-459F-87C1-0EC450A0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0885-1463-45E2-AA18-4DF1A345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FF46-5DDF-4011-8976-44ABCFCD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A086-2824-4727-BEA7-CF92031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59E9-21C7-43E5-89A2-F314B653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E9F9-9627-4D15-8B00-594443C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5640-8A0C-44EE-A476-2EC35129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65A-9648-459E-8BC5-94E291A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082A-44E1-47A4-A4BB-478149A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330C-5D73-4476-8DFC-C4441D8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9834-BB55-4B1D-ACAB-10E2AFB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C2EA-956E-4208-9F4B-4BCD15C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F2AB-0A51-4A7B-ABB9-C5A3BA5A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3FA4-1216-4E9C-BFE6-43BB22AA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C6F1-C946-45E6-A7F6-731BF204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252E-4304-4CD2-9906-0962EC26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5889-9FB3-45BE-9A5A-FD678B8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B646-BBB3-41B1-9A77-B9294E7B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3B1-7374-4E41-B66A-7CEA9D7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60F0-35F3-4A86-815A-349D2BC6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A96F-6E50-42D1-A600-94D2EDF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FB90-B967-4426-B1F6-C53418C8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CD11-D065-4E9C-BD55-B6B41798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DAC5-5270-408D-818A-C523175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A5BD-BCB8-439B-B0DD-5DB5BE1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2EC1-D092-4A7F-B348-86D632D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6847-7D02-4DB4-A766-67E808A8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F3FF-E550-4A83-AF2B-D82CF12D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22C5-0C08-407C-87CB-46ED67B6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AE8-A011-4AB5-87DE-DF81D0B8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AABD-9D92-4EDC-8BA2-376D4A4F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10DBE-7485-451C-917B-5D1C1F2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D0F65-F1EF-45E1-AB2C-42424043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2AC4-4DA7-4EDC-8DBB-3C2B36D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4293-7000-474B-95B7-A91367C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6C8E-D8D7-4205-B8C7-2406EE6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DDD1-C109-4ABC-9166-57564D7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2624-D8A3-4FE3-8995-4F64BCCC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8926-B804-48B5-AC91-B32329D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71F7-BACF-4172-9A21-AD1359E8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A81-356D-460A-9799-B973CC0F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B745-FA7B-45E0-8723-FC11356F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40383-89ED-4C24-8624-0C0F9883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B41F-34DE-4AFF-98E8-2240A38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B3FF-683D-4FD5-8ECE-AF459BDB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8B45-90DE-450D-B3D7-B2F53130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5FBF-A9C6-4C20-92D7-6A79E25A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D1B00-C8C3-44CF-86C4-4C63196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0647E-047F-4C4C-8639-6756FA3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8DAC-55BE-444D-99B0-525E047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FAD84-574E-4C2B-A505-049351C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D5C-533F-4BBA-9052-5B4D721C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28CE-B619-433D-B5BD-4F596CCD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513D-D6CA-45B8-A128-930A575A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9EAE-833B-44A0-8AE0-A861CBD5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82A1-6FB4-4A46-84E4-658A2FDD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BE815-A841-421F-AC17-904C9C38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3486-6C29-4726-9D50-7F2CC8C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91FF-C206-4948-AB47-1D53214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502AB-998D-49CD-8C62-379C89ED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9419F-D091-448D-94A9-B618D803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C96A0-F04E-46C7-96E1-3ED75BC5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A4F-1571-410E-BDDA-4951AD7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1582-5636-43E8-B81C-FC9FB58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64E60-26B2-4F17-9428-5543AD7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3EBC9-8671-4C45-81FD-04134112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61FF-7AA0-461A-B599-A41F308C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680A-79B0-4EB4-902E-3793F14D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9F3BD-C68C-4035-9EA2-B5D01FEF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630F-BC32-404B-9635-556EFEE0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474B-DC93-4E08-A871-5A056A8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5177-B8AC-4563-AA9C-2149B001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2967-4B3C-4FCE-8F57-03FC3B30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8DC-1483-47D4-992C-045B75D5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3CD6-D127-4C64-8C24-72D0F9DA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E87C-EA92-4B9B-876D-EAFA7A4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7DAD-6F3A-4F57-B18A-E0D47C2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ECD3D-8E43-45E3-B6F6-8B8A130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8F44B-16A6-41A9-837B-F784A00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E4530-10A9-4295-B0E5-59798A2B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8CAF-3927-436D-AC1F-05554704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47A9-A44C-42CB-ADF8-A45E86F6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DF403-2494-4A2B-AC04-407EBB5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E13B-F517-481A-8FAF-5F8F378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3EBA-D726-493C-A64C-7756F2AF10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BBD9-70E7-4719-BA25-46230CE20F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0FA3-7467-4B6A-85F7-E56C9AE2E9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BB7-8146-422C-85A0-D9523DC11F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E916-5B89-4A57-B1EE-B2F54FB18D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80F1-2975-4F0A-8621-1ABC180B60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2E90-EA83-4A81-A355-B9A056EA95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53C3-7D2C-4EF9-B0DB-89D1DDD83A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059-7689-43DB-9C7E-1D4C10B22D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89.centerstart.ru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0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14.jpeg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ru/search?q=&#1089;&#1084;&#1072;&#1081;&#1083;&#1080;&#1082;&#1080;&amp;newwindow=1&amp;espv=2&amp;biw=1345" TargetMode="External"/><Relationship Id="rId2" Type="http://schemas.openxmlformats.org/officeDocument/2006/relationships/hyperlink" Target="https://www.google.ru/search?q=&#1089;&#1084;&#1072;&#1081;&#1083;&#1080;&#1082;&#1080;&amp;newwindow=1&amp;espv=2&amp;biw=1345" TargetMode="External"/><Relationship Id="rId3" Type="http://schemas.openxmlformats.org/officeDocument/2006/relationships/hyperlink" Target="https://www.google.ru/search?q=&#1089;&#1084;&#1072;&#1081;&#1083;&#1080;&#1082;&#1080;&amp;newwindow=1&amp;espv=2&amp;biw=1345" TargetMode="External"/><Relationship Id="rId4" Type="http://schemas.openxmlformats.org/officeDocument/2006/relationships/hyperlink" Target="https://www.google.ru/search?q=&#1089;&#1084;&#1072;&#1081;&#1083;&#1080;&#1082;&#1080;&amp;newwindow=1&amp;espv=2&amp;biw=1345" TargetMode="External"/><Relationship Id="rId5" Type="http://schemas.openxmlformats.org/officeDocument/2006/relationships/hyperlink" Target="https://www.google.ru/search?q=&#1089;&#1084;&#1072;&#1081;&#1083;&#1080;&#1082;&#1080;&amp;newwindow=1&amp;espv=2&amp;biw=1345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youtube.com/watch?v=GA6dKNsl6zk" TargetMode="External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0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14.jpeg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12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3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1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18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19.jpeg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1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21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0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14.jpeg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hw@lemitec.d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10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image" Target="../media/image14.jpeg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Sunozova\Desktop\shkola_89_f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480" y="2147760"/>
            <a:ext cx="7620120" cy="3733920"/>
          </a:xfrm>
          <a:prstGeom prst="rect">
            <a:avLst/>
          </a:prstGeom>
          <a:ln w="0">
            <a:noFill/>
          </a:ln>
        </p:spPr>
      </p:pic>
      <p:pic>
        <p:nvPicPr>
          <p:cNvPr id="400" name="Горизонтальный свиток 3" descr=""/>
          <p:cNvPicPr/>
          <p:nvPr/>
        </p:nvPicPr>
        <p:blipFill>
          <a:blip r:embed="rId3"/>
          <a:stretch/>
        </p:blipFill>
        <p:spPr>
          <a:xfrm>
            <a:off x="2901960" y="73080"/>
            <a:ext cx="52610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3339000" y="5076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JULIAN"/>
              </a:rPr>
              <a:t>WE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ятно 1 39"/>
          <p:cNvSpPr/>
          <p:nvPr/>
        </p:nvSpPr>
        <p:spPr>
          <a:xfrm>
            <a:off x="2612880" y="2141640"/>
            <a:ext cx="3816360" cy="26636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ятно 1 40"/>
          <p:cNvSpPr/>
          <p:nvPr/>
        </p:nvSpPr>
        <p:spPr>
          <a:xfrm>
            <a:off x="2481120" y="229860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ятно 1 41"/>
          <p:cNvSpPr/>
          <p:nvPr/>
        </p:nvSpPr>
        <p:spPr>
          <a:xfrm>
            <a:off x="2409840" y="205884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ятно 1 42"/>
          <p:cNvSpPr/>
          <p:nvPr/>
        </p:nvSpPr>
        <p:spPr>
          <a:xfrm>
            <a:off x="2751120" y="230832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ятно 1 43"/>
          <p:cNvSpPr/>
          <p:nvPr/>
        </p:nvSpPr>
        <p:spPr>
          <a:xfrm>
            <a:off x="2417760" y="2079720"/>
            <a:ext cx="3816360" cy="26636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ятно 1 44"/>
          <p:cNvSpPr/>
          <p:nvPr/>
        </p:nvSpPr>
        <p:spPr>
          <a:xfrm>
            <a:off x="2384280" y="2319480"/>
            <a:ext cx="420228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ятно 1 45"/>
          <p:cNvSpPr/>
          <p:nvPr/>
        </p:nvSpPr>
        <p:spPr>
          <a:xfrm>
            <a:off x="2670120" y="2341440"/>
            <a:ext cx="3816360" cy="266400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ятно 1 46"/>
          <p:cNvSpPr/>
          <p:nvPr/>
        </p:nvSpPr>
        <p:spPr>
          <a:xfrm>
            <a:off x="2273400" y="2079720"/>
            <a:ext cx="3816360" cy="26636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C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5" descr=""/>
          <p:cNvPicPr/>
          <p:nvPr/>
        </p:nvPicPr>
        <p:blipFill>
          <a:blip r:embed="rId1"/>
          <a:stretch/>
        </p:blipFill>
        <p:spPr>
          <a:xfrm>
            <a:off x="3240000" y="5240160"/>
            <a:ext cx="2838600" cy="1609920"/>
          </a:xfrm>
          <a:prstGeom prst="rect">
            <a:avLst/>
          </a:prstGeom>
          <a:ln w="0">
            <a:noFill/>
          </a:ln>
        </p:spPr>
      </p:pic>
      <p:sp>
        <p:nvSpPr>
          <p:cNvPr id="494" name="Управляющая кнопка: звук 6">
            <a:hlinkClick r:id="rId2"/>
          </p:cNvPr>
          <p:cNvSpPr/>
          <p:nvPr/>
        </p:nvSpPr>
        <p:spPr>
          <a:xfrm>
            <a:off x="8532720" y="6118200"/>
            <a:ext cx="611280" cy="72396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723960"/>
              <a:gd name="textAreaBottom" fmla="*/ 684360 h 723960"/>
            </a:gdLst>
            <a:ahLst/>
            <a:rect l="textAreaLeft" t="textAreaTop" r="textAreaRight" b="textAreaBottom"/>
            <a:pathLst>
              <a:path w="21600" h="25579">
                <a:moveTo>
                  <a:pt x="0" y="0"/>
                </a:moveTo>
                <a:lnTo>
                  <a:pt x="21600" y="0"/>
                </a:lnTo>
                <a:lnTo>
                  <a:pt x="21600" y="25579"/>
                </a:lnTo>
                <a:lnTo>
                  <a:pt x="0" y="25579"/>
                </a:lnTo>
                <a:close/>
              </a:path>
              <a:path fill="lightenLess" w="21600" h="255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79">
                <a:moveTo>
                  <a:pt x="21600" y="0"/>
                </a:moveTo>
                <a:lnTo>
                  <a:pt x="21600" y="25579"/>
                </a:lnTo>
                <a:lnTo>
                  <a:pt x="20200" y="24179"/>
                </a:lnTo>
                <a:lnTo>
                  <a:pt x="20200" y="1400"/>
                </a:lnTo>
                <a:close/>
              </a:path>
              <a:path fill="darkenLess" w="21600" h="25579">
                <a:moveTo>
                  <a:pt x="21600" y="25579"/>
                </a:moveTo>
                <a:lnTo>
                  <a:pt x="0" y="25579"/>
                </a:lnTo>
                <a:lnTo>
                  <a:pt x="1400" y="24179"/>
                </a:lnTo>
                <a:lnTo>
                  <a:pt x="20200" y="24179"/>
                </a:lnTo>
                <a:close/>
              </a:path>
              <a:path fill="lighten" w="21600" h="25579">
                <a:moveTo>
                  <a:pt x="0" y="255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79"/>
                </a:lnTo>
                <a:close/>
              </a:path>
              <a:path fill="darken" w="21600" h="25579">
                <a:moveTo>
                  <a:pt x="3794" y="10396"/>
                </a:moveTo>
                <a:lnTo>
                  <a:pt x="8224" y="10396"/>
                </a:lnTo>
                <a:lnTo>
                  <a:pt x="12645" y="5783"/>
                </a:lnTo>
                <a:lnTo>
                  <a:pt x="12645" y="19796"/>
                </a:lnTo>
                <a:lnTo>
                  <a:pt x="8224" y="15183"/>
                </a:lnTo>
                <a:lnTo>
                  <a:pt x="3794" y="15183"/>
                </a:lnTo>
                <a:close/>
              </a:path>
              <a:path fill="darken" w="21600" h="25579">
                <a:moveTo>
                  <a:pt x="14299" y="12790"/>
                </a:moveTo>
                <a:lnTo>
                  <a:pt x="17806" y="12790"/>
                </a:lnTo>
              </a:path>
              <a:path fill="darken" w="21600" h="25579">
                <a:moveTo>
                  <a:pt x="14299" y="10396"/>
                </a:moveTo>
                <a:lnTo>
                  <a:pt x="17806" y="7628"/>
                </a:lnTo>
              </a:path>
              <a:path fill="darken" w="21600" h="25579">
                <a:moveTo>
                  <a:pt x="14299" y="15183"/>
                </a:moveTo>
                <a:lnTo>
                  <a:pt x="17806" y="17951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0" y="6118200"/>
            <a:ext cx="682560" cy="73188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31880"/>
              <a:gd name="textAreaBottom" fmla="*/ 687960 h 731880"/>
            </a:gdLst>
            <a:ahLst/>
            <a:rect l="textAreaLeft" t="textAreaTop" r="textAreaRight" b="textAreaBottom"/>
            <a:pathLst>
              <a:path w="21600" h="23160">
                <a:moveTo>
                  <a:pt x="0" y="0"/>
                </a:moveTo>
                <a:lnTo>
                  <a:pt x="21600" y="0"/>
                </a:lnTo>
                <a:lnTo>
                  <a:pt x="21600" y="23160"/>
                </a:lnTo>
                <a:lnTo>
                  <a:pt x="0" y="23160"/>
                </a:lnTo>
                <a:close/>
              </a:path>
              <a:path fill="lightenLess" w="21600" h="231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0">
                <a:moveTo>
                  <a:pt x="21600" y="0"/>
                </a:moveTo>
                <a:lnTo>
                  <a:pt x="21600" y="23160"/>
                </a:lnTo>
                <a:lnTo>
                  <a:pt x="20200" y="21760"/>
                </a:lnTo>
                <a:lnTo>
                  <a:pt x="20200" y="1400"/>
                </a:lnTo>
                <a:close/>
              </a:path>
              <a:path fill="darkenLess" w="21600" h="23160">
                <a:moveTo>
                  <a:pt x="21600" y="23160"/>
                </a:moveTo>
                <a:lnTo>
                  <a:pt x="0" y="23160"/>
                </a:lnTo>
                <a:lnTo>
                  <a:pt x="1400" y="21760"/>
                </a:lnTo>
                <a:lnTo>
                  <a:pt x="20200" y="21760"/>
                </a:lnTo>
                <a:close/>
              </a:path>
              <a:path fill="lighten" w="21600" h="23160">
                <a:moveTo>
                  <a:pt x="0" y="231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0"/>
                </a:lnTo>
                <a:close/>
              </a:path>
              <a:path fill="darken" w="21600" h="23160">
                <a:moveTo>
                  <a:pt x="10800" y="4617"/>
                </a:moveTo>
                <a:lnTo>
                  <a:pt x="13376" y="7228"/>
                </a:lnTo>
                <a:lnTo>
                  <a:pt x="13376" y="5487"/>
                </a:lnTo>
                <a:lnTo>
                  <a:pt x="15152" y="5487"/>
                </a:lnTo>
                <a:lnTo>
                  <a:pt x="15152" y="9004"/>
                </a:lnTo>
                <a:lnTo>
                  <a:pt x="17763" y="11580"/>
                </a:lnTo>
                <a:lnTo>
                  <a:pt x="16109" y="11580"/>
                </a:lnTo>
                <a:lnTo>
                  <a:pt x="16109" y="18769"/>
                </a:lnTo>
                <a:lnTo>
                  <a:pt x="5491" y="18769"/>
                </a:lnTo>
                <a:lnTo>
                  <a:pt x="5491" y="11580"/>
                </a:lnTo>
                <a:lnTo>
                  <a:pt x="3837" y="11580"/>
                </a:lnTo>
                <a:close/>
              </a:path>
              <a:path fill="darkenLess" w="21600" h="23160">
                <a:moveTo>
                  <a:pt x="13376" y="7228"/>
                </a:moveTo>
                <a:lnTo>
                  <a:pt x="13376" y="5487"/>
                </a:lnTo>
                <a:lnTo>
                  <a:pt x="15152" y="5487"/>
                </a:lnTo>
                <a:lnTo>
                  <a:pt x="15152" y="9004"/>
                </a:lnTo>
                <a:close/>
              </a:path>
              <a:path fill="darkenLess" w="21600" h="23160">
                <a:moveTo>
                  <a:pt x="9877" y="15079"/>
                </a:moveTo>
                <a:lnTo>
                  <a:pt x="11723" y="15079"/>
                </a:lnTo>
                <a:lnTo>
                  <a:pt x="11723" y="18769"/>
                </a:lnTo>
                <a:lnTo>
                  <a:pt x="16109" y="18769"/>
                </a:lnTo>
                <a:lnTo>
                  <a:pt x="16109" y="11580"/>
                </a:lnTo>
                <a:lnTo>
                  <a:pt x="5491" y="11580"/>
                </a:lnTo>
                <a:lnTo>
                  <a:pt x="5491" y="18769"/>
                </a:lnTo>
                <a:lnTo>
                  <a:pt x="9877" y="1876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5240" y="11206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440" y="1123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108576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82520" y="10969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8000" y="116532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23840" y="108576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79280" y="108576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9"/>
          <p:cNvSpPr/>
          <p:nvPr/>
        </p:nvSpPr>
        <p:spPr>
          <a:xfrm>
            <a:off x="154800" y="50148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JULIAN"/>
              </a:rPr>
              <a:t>C</a:t>
            </a:r>
            <a:r>
              <a:rPr b="1" lang="ru-RU" sz="3200" spc="-1" strike="noStrike">
                <a:solidFill>
                  <a:srgbClr val="ff0000"/>
                </a:solidFill>
                <a:latin typeface="AR JULIAN"/>
              </a:rPr>
              <a:t>оставь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Рисунок 10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08000" y="10857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06" name="Блок-схема: извлечение 2"/>
          <p:cNvSpPr/>
          <p:nvPr/>
        </p:nvSpPr>
        <p:spPr>
          <a:xfrm>
            <a:off x="3149640" y="4762440"/>
            <a:ext cx="1727280" cy="14083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ьная выноска 4"/>
          <p:cNvSpPr/>
          <p:nvPr/>
        </p:nvSpPr>
        <p:spPr>
          <a:xfrm>
            <a:off x="771480" y="4797360"/>
            <a:ext cx="1728720" cy="870120"/>
          </a:xfrm>
          <a:prstGeom prst="wedgeEllipseCallout">
            <a:avLst>
              <a:gd name="adj1" fmla="val -56106"/>
              <a:gd name="adj2" fmla="val 481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Блок-схема: извлечение 6"/>
          <p:cNvSpPr/>
          <p:nvPr/>
        </p:nvSpPr>
        <p:spPr>
          <a:xfrm>
            <a:off x="723960" y="2916360"/>
            <a:ext cx="1623960" cy="13269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Блок-схема: извлечение 29"/>
          <p:cNvSpPr/>
          <p:nvPr/>
        </p:nvSpPr>
        <p:spPr>
          <a:xfrm>
            <a:off x="3111480" y="4762440"/>
            <a:ext cx="1728720" cy="14083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Блок-схема: извлечение 30"/>
          <p:cNvSpPr/>
          <p:nvPr/>
        </p:nvSpPr>
        <p:spPr>
          <a:xfrm>
            <a:off x="3022560" y="4857840"/>
            <a:ext cx="1728720" cy="14065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Блок-схема: извлечение 31"/>
          <p:cNvSpPr/>
          <p:nvPr/>
        </p:nvSpPr>
        <p:spPr>
          <a:xfrm>
            <a:off x="3054240" y="4762440"/>
            <a:ext cx="1727280" cy="14083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Блок-схема: извлечение 32"/>
          <p:cNvSpPr/>
          <p:nvPr/>
        </p:nvSpPr>
        <p:spPr>
          <a:xfrm>
            <a:off x="3067200" y="4762440"/>
            <a:ext cx="1726920" cy="14083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Блок-схема: извлечение 33"/>
          <p:cNvSpPr/>
          <p:nvPr/>
        </p:nvSpPr>
        <p:spPr>
          <a:xfrm>
            <a:off x="3067200" y="4797360"/>
            <a:ext cx="1726920" cy="14065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Блок-схема: извлечение 34"/>
          <p:cNvSpPr/>
          <p:nvPr/>
        </p:nvSpPr>
        <p:spPr>
          <a:xfrm>
            <a:off x="3067200" y="4797360"/>
            <a:ext cx="1726920" cy="14065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Блок-схема: извлечение 35"/>
          <p:cNvSpPr/>
          <p:nvPr/>
        </p:nvSpPr>
        <p:spPr>
          <a:xfrm>
            <a:off x="3095640" y="4797360"/>
            <a:ext cx="1727280" cy="14065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Блок-схема: извлечение 36"/>
          <p:cNvSpPr/>
          <p:nvPr/>
        </p:nvSpPr>
        <p:spPr>
          <a:xfrm>
            <a:off x="3054240" y="4797360"/>
            <a:ext cx="1727280" cy="14065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Блок-схема: извлечение 37"/>
          <p:cNvSpPr/>
          <p:nvPr/>
        </p:nvSpPr>
        <p:spPr>
          <a:xfrm>
            <a:off x="3040200" y="4797360"/>
            <a:ext cx="1728720" cy="140652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ьная выноска 38"/>
          <p:cNvSpPr/>
          <p:nvPr/>
        </p:nvSpPr>
        <p:spPr>
          <a:xfrm>
            <a:off x="758880" y="4797360"/>
            <a:ext cx="1728720" cy="870120"/>
          </a:xfrm>
          <a:prstGeom prst="wedgeEllipseCallout">
            <a:avLst>
              <a:gd name="adj1" fmla="val -56106"/>
              <a:gd name="adj2" fmla="val 481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ьная выноска 39"/>
          <p:cNvSpPr/>
          <p:nvPr/>
        </p:nvSpPr>
        <p:spPr>
          <a:xfrm>
            <a:off x="758880" y="4797360"/>
            <a:ext cx="1728720" cy="870120"/>
          </a:xfrm>
          <a:prstGeom prst="wedgeEllipseCallout">
            <a:avLst>
              <a:gd name="adj1" fmla="val -56106"/>
              <a:gd name="adj2" fmla="val 481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ьная выноска 40"/>
          <p:cNvSpPr/>
          <p:nvPr/>
        </p:nvSpPr>
        <p:spPr>
          <a:xfrm>
            <a:off x="758880" y="4797360"/>
            <a:ext cx="1728720" cy="870120"/>
          </a:xfrm>
          <a:prstGeom prst="wedgeEllipseCallout">
            <a:avLst>
              <a:gd name="adj1" fmla="val -56106"/>
              <a:gd name="adj2" fmla="val 481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ьная выноска 41"/>
          <p:cNvSpPr/>
          <p:nvPr/>
        </p:nvSpPr>
        <p:spPr>
          <a:xfrm>
            <a:off x="743040" y="4797360"/>
            <a:ext cx="1727280" cy="870120"/>
          </a:xfrm>
          <a:prstGeom prst="wedgeEllipseCallout">
            <a:avLst>
              <a:gd name="adj1" fmla="val -56106"/>
              <a:gd name="adj2" fmla="val 4816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 DARLING"/>
                <a:ea typeface="Aharoni"/>
              </a:rPr>
              <a:t>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Блок-схема: извлечение 42"/>
          <p:cNvSpPr/>
          <p:nvPr/>
        </p:nvSpPr>
        <p:spPr>
          <a:xfrm>
            <a:off x="620640" y="2949480"/>
            <a:ext cx="1900440" cy="13287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c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Блок-схема: извлечение 43"/>
          <p:cNvSpPr/>
          <p:nvPr/>
        </p:nvSpPr>
        <p:spPr>
          <a:xfrm>
            <a:off x="355680" y="2916360"/>
            <a:ext cx="2430360" cy="13269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Блок-схема: извлечение 44"/>
          <p:cNvSpPr/>
          <p:nvPr/>
        </p:nvSpPr>
        <p:spPr>
          <a:xfrm>
            <a:off x="539640" y="2973240"/>
            <a:ext cx="1998720" cy="13287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Блок-схема: извлечение 45"/>
          <p:cNvSpPr/>
          <p:nvPr/>
        </p:nvSpPr>
        <p:spPr>
          <a:xfrm>
            <a:off x="422280" y="2914560"/>
            <a:ext cx="2143080" cy="13287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Блок-схема: извлечение 46"/>
          <p:cNvSpPr/>
          <p:nvPr/>
        </p:nvSpPr>
        <p:spPr>
          <a:xfrm>
            <a:off x="681120" y="2973240"/>
            <a:ext cx="1625400" cy="13287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Блок-схема: извлечение 47"/>
          <p:cNvSpPr/>
          <p:nvPr/>
        </p:nvSpPr>
        <p:spPr>
          <a:xfrm>
            <a:off x="758880" y="2973240"/>
            <a:ext cx="1623960" cy="13287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Блок-схема: извлечение 48"/>
          <p:cNvSpPr/>
          <p:nvPr/>
        </p:nvSpPr>
        <p:spPr>
          <a:xfrm>
            <a:off x="355680" y="2971800"/>
            <a:ext cx="2276280" cy="1328760"/>
          </a:xfrm>
          <a:prstGeom prst="flowChartExtra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 DARLING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684360" y="90792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ИСПОЛЬЗОВА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СМАЙЛИКИ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https://www.google.ru/search?q=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смайлики&amp;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newwindow=1&amp;espv=2&amp;biw=1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a22e"/>
                </a:solidFill>
                <a:latin typeface="Arial"/>
              </a:rPr>
              <a:t>https://www.google.ru/webhp?sourceid=chrome-instant&amp;ion=1&amp;espv=2&amp;ie=UTF-8#newwindow=1&amp;q=%D0%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0a22e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a22e"/>
                </a:solidFill>
                <a:latin typeface="Arial"/>
              </a:rPr>
              <a:t>https://www.google.ru/search?q=pictures+of+animals&amp;newwindow=1&amp;espv=2&amp;biw=1345&amp;bih=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a22e"/>
                </a:solidFill>
                <a:uFillTx/>
                <a:latin typeface="Arial"/>
              </a:rPr>
              <a:t>ОСЬМИ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a22e"/>
                </a:solidFill>
                <a:uFillTx/>
                <a:latin typeface="Arial"/>
              </a:rPr>
              <a:t>https://www.google.ru/search?q=</a:t>
            </a:r>
            <a:r>
              <a:rPr b="0" lang="ru-RU" sz="1800" spc="-1" strike="noStrike" u="sng">
                <a:solidFill>
                  <a:srgbClr val="f0a22e"/>
                </a:solidFill>
                <a:uFillTx/>
                <a:latin typeface="Arial"/>
              </a:rPr>
              <a:t>картинки+осьминога&amp;</a:t>
            </a:r>
            <a:r>
              <a:rPr b="0" lang="en-US" sz="1800" spc="-1" strike="noStrike" u="sng">
                <a:solidFill>
                  <a:srgbClr val="f0a22e"/>
                </a:solidFill>
                <a:uFillTx/>
                <a:latin typeface="Arial"/>
              </a:rPr>
              <a:t>newwindow=1&amp;espv=2&amp;biw=1345&amp;bih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176560" y="152280"/>
            <a:ext cx="6815160" cy="1683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 DARLING"/>
              </a:rPr>
              <a:t>can </a:t>
            </a:r>
            <a:r>
              <a:rPr b="0" lang="en-US" sz="4400" spc="-1" strike="noStrike">
                <a:solidFill>
                  <a:srgbClr val="ff0000"/>
                </a:solidFill>
                <a:latin typeface="Franklin Gothic Book"/>
              </a:rPr>
              <a:t>        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can’t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403" name="Прямая со стрелкой 4"/>
          <p:cNvCxnSpPr/>
          <p:nvPr/>
        </p:nvCxnSpPr>
        <p:spPr>
          <a:xfrm>
            <a:off x="3878280" y="1109160"/>
            <a:ext cx="2449800" cy="8643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04" name="Прямая со стрелкой 6"/>
          <p:cNvCxnSpPr/>
          <p:nvPr/>
        </p:nvCxnSpPr>
        <p:spPr>
          <a:xfrm flipH="1">
            <a:off x="2050200" y="1128600"/>
            <a:ext cx="2017080" cy="84528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05" name="Управляющая кнопка: справка 8"/>
          <p:cNvSpPr/>
          <p:nvPr/>
        </p:nvSpPr>
        <p:spPr>
          <a:xfrm>
            <a:off x="3073320" y="2276640"/>
            <a:ext cx="2675160" cy="2990520"/>
          </a:xfrm>
          <a:custGeom>
            <a:avLst/>
            <a:gdLst>
              <a:gd name="textAreaLeft" fmla="*/ 173160 w 2675160"/>
              <a:gd name="textAreaRight" fmla="*/ 2502000 w 2675160"/>
              <a:gd name="textAreaTop" fmla="*/ 173160 h 2990520"/>
              <a:gd name="textAreaBottom" fmla="*/ 2817360 h 2990520"/>
            </a:gdLst>
            <a:ahLst/>
            <a:rect l="textAreaLeft" t="textAreaTop" r="textAreaRight" b="textAreaBottom"/>
            <a:pathLst>
              <a:path w="21600" h="24146">
                <a:moveTo>
                  <a:pt x="0" y="0"/>
                </a:moveTo>
                <a:lnTo>
                  <a:pt x="21600" y="0"/>
                </a:lnTo>
                <a:lnTo>
                  <a:pt x="21600" y="24146"/>
                </a:lnTo>
                <a:lnTo>
                  <a:pt x="0" y="24146"/>
                </a:lnTo>
                <a:close/>
              </a:path>
              <a:path fill="lightenLess" w="21600" h="241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6">
                <a:moveTo>
                  <a:pt x="21600" y="0"/>
                </a:moveTo>
                <a:lnTo>
                  <a:pt x="21600" y="24146"/>
                </a:lnTo>
                <a:lnTo>
                  <a:pt x="20200" y="22746"/>
                </a:lnTo>
                <a:lnTo>
                  <a:pt x="20200" y="1400"/>
                </a:lnTo>
                <a:close/>
              </a:path>
              <a:path fill="darkenLess" w="21600" h="24146">
                <a:moveTo>
                  <a:pt x="21600" y="24146"/>
                </a:moveTo>
                <a:lnTo>
                  <a:pt x="0" y="24146"/>
                </a:lnTo>
                <a:lnTo>
                  <a:pt x="1400" y="22746"/>
                </a:lnTo>
                <a:lnTo>
                  <a:pt x="20200" y="22746"/>
                </a:lnTo>
                <a:close/>
              </a:path>
              <a:path fill="lighten" w="21600" h="24146">
                <a:moveTo>
                  <a:pt x="0" y="241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6"/>
                </a:lnTo>
                <a:close/>
              </a:path>
              <a:path fill="darken" w="21600" h="24146">
                <a:moveTo>
                  <a:pt x="10800" y="1607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6">
                <a:moveTo>
                  <a:pt x="11905" y="15554"/>
                </a:moveTo>
                <a:lnTo>
                  <a:pt x="11905" y="13596"/>
                </a:lnTo>
                <a:cubicBezTo>
                  <a:pt x="11905" y="12769"/>
                  <a:pt x="12236" y="12073"/>
                  <a:pt x="12837" y="12073"/>
                </a:cubicBezTo>
                <a:cubicBezTo>
                  <a:pt x="13968" y="12073"/>
                  <a:pt x="14865" y="10707"/>
                  <a:pt x="14865" y="9122"/>
                </a:cubicBezTo>
                <a:cubicBezTo>
                  <a:pt x="14865" y="6807"/>
                  <a:pt x="13011" y="5067"/>
                  <a:pt x="10800" y="5067"/>
                </a:cubicBezTo>
                <a:cubicBezTo>
                  <a:pt x="8589" y="5067"/>
                  <a:pt x="6918" y="6807"/>
                  <a:pt x="6918" y="9122"/>
                </a:cubicBezTo>
                <a:lnTo>
                  <a:pt x="8772" y="9122"/>
                </a:lnTo>
                <a:cubicBezTo>
                  <a:pt x="8772" y="7982"/>
                  <a:pt x="9695" y="7094"/>
                  <a:pt x="10800" y="7094"/>
                </a:cubicBezTo>
                <a:cubicBezTo>
                  <a:pt x="11905" y="7094"/>
                  <a:pt x="12837" y="7982"/>
                  <a:pt x="12837" y="9122"/>
                </a:cubicBezTo>
                <a:cubicBezTo>
                  <a:pt x="12837" y="9862"/>
                  <a:pt x="12367" y="10593"/>
                  <a:pt x="11905" y="10593"/>
                </a:cubicBezTo>
                <a:cubicBezTo>
                  <a:pt x="10800" y="10593"/>
                  <a:pt x="9695" y="12073"/>
                  <a:pt x="9695" y="13596"/>
                </a:cubicBezTo>
                <a:lnTo>
                  <a:pt x="9695" y="15554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правляющая кнопка: фильм 2"/>
          <p:cNvSpPr/>
          <p:nvPr/>
        </p:nvSpPr>
        <p:spPr>
          <a:xfrm flipV="1" rot="10800000">
            <a:off x="6803640" y="5804280"/>
            <a:ext cx="2135160" cy="863640"/>
          </a:xfrm>
          <a:custGeom>
            <a:avLst/>
            <a:gdLst>
              <a:gd name="textAreaLeft" fmla="*/ 55800 w 2135160"/>
              <a:gd name="textAreaRight" fmla="*/ 2079360 w 21351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3388" h="21600">
                <a:moveTo>
                  <a:pt x="0" y="0"/>
                </a:moveTo>
                <a:lnTo>
                  <a:pt x="53388" y="0"/>
                </a:lnTo>
                <a:lnTo>
                  <a:pt x="53388" y="21600"/>
                </a:lnTo>
                <a:lnTo>
                  <a:pt x="0" y="21600"/>
                </a:lnTo>
                <a:close/>
              </a:path>
              <a:path fill="lightenLess" w="53388" h="21600">
                <a:moveTo>
                  <a:pt x="0" y="0"/>
                </a:moveTo>
                <a:lnTo>
                  <a:pt x="53388" y="0"/>
                </a:lnTo>
                <a:lnTo>
                  <a:pt x="51988" y="1400"/>
                </a:lnTo>
                <a:lnTo>
                  <a:pt x="1400" y="1400"/>
                </a:lnTo>
                <a:close/>
              </a:path>
              <a:path fill="darken" w="53388" h="21600">
                <a:moveTo>
                  <a:pt x="53388" y="0"/>
                </a:moveTo>
                <a:lnTo>
                  <a:pt x="53388" y="21600"/>
                </a:lnTo>
                <a:lnTo>
                  <a:pt x="51988" y="20200"/>
                </a:lnTo>
                <a:lnTo>
                  <a:pt x="51988" y="1400"/>
                </a:lnTo>
                <a:close/>
              </a:path>
              <a:path fill="darkenLess" w="53388" h="21600">
                <a:moveTo>
                  <a:pt x="5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988" y="20200"/>
                </a:lnTo>
                <a:close/>
              </a:path>
              <a:path fill="lighten" w="5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388" h="21600">
                <a:moveTo>
                  <a:pt x="19688" y="7301"/>
                </a:moveTo>
                <a:lnTo>
                  <a:pt x="20601" y="7301"/>
                </a:lnTo>
                <a:lnTo>
                  <a:pt x="20984" y="7667"/>
                </a:lnTo>
                <a:lnTo>
                  <a:pt x="30193" y="7667"/>
                </a:lnTo>
                <a:lnTo>
                  <a:pt x="30750" y="8224"/>
                </a:lnTo>
                <a:lnTo>
                  <a:pt x="30750" y="8772"/>
                </a:lnTo>
                <a:lnTo>
                  <a:pt x="32595" y="8772"/>
                </a:lnTo>
                <a:lnTo>
                  <a:pt x="32961" y="8224"/>
                </a:lnTo>
                <a:lnTo>
                  <a:pt x="33700" y="8224"/>
                </a:lnTo>
                <a:lnTo>
                  <a:pt x="33700" y="13376"/>
                </a:lnTo>
                <a:lnTo>
                  <a:pt x="32961" y="13376"/>
                </a:lnTo>
                <a:lnTo>
                  <a:pt x="32595" y="12828"/>
                </a:lnTo>
                <a:lnTo>
                  <a:pt x="30750" y="12828"/>
                </a:lnTo>
                <a:lnTo>
                  <a:pt x="30750" y="14107"/>
                </a:lnTo>
                <a:lnTo>
                  <a:pt x="21167" y="14107"/>
                </a:lnTo>
                <a:lnTo>
                  <a:pt x="21167" y="9877"/>
                </a:lnTo>
                <a:lnTo>
                  <a:pt x="20984" y="9877"/>
                </a:lnTo>
                <a:lnTo>
                  <a:pt x="20601" y="10243"/>
                </a:lnTo>
                <a:lnTo>
                  <a:pt x="19688" y="1024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http://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www.youtube.com/watch?v=GA6dKNsl6z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62280" y="2571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20960" y="25239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59040" y="257652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9400" y="26766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5840" y="271944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759040" y="260496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776680" y="263844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9"/>
          <p:cNvSpPr/>
          <p:nvPr/>
        </p:nvSpPr>
        <p:spPr>
          <a:xfrm>
            <a:off x="227160" y="577800"/>
            <a:ext cx="35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JULIAN"/>
              </a:rPr>
              <a:t>Animals can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4780080" y="59688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 JULIAN"/>
              </a:rPr>
              <a:t>Animals can’t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0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697120" y="275256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1128600" y="6381720"/>
            <a:ext cx="74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8920" y="19782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90760" y="20732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7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67080" y="211932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8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367080" y="2030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9"/>
          <p:cNvSpPr/>
          <p:nvPr/>
        </p:nvSpPr>
        <p:spPr>
          <a:xfrm>
            <a:off x="371520" y="5778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JULIAN"/>
              </a:rPr>
              <a:t>Animals can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1"/>
          <p:cNvSpPr/>
          <p:nvPr/>
        </p:nvSpPr>
        <p:spPr>
          <a:xfrm>
            <a:off x="4932360" y="59688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 JULIAN"/>
              </a:rPr>
              <a:t>Animals can’t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10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41520" y="20653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86120" y="173988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2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328920" y="2120760"/>
            <a:ext cx="27813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2894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1040" y="302436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92520" y="295128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7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302436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9"/>
          <p:cNvSpPr/>
          <p:nvPr/>
        </p:nvSpPr>
        <p:spPr>
          <a:xfrm>
            <a:off x="362160" y="577800"/>
            <a:ext cx="34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JULIAN"/>
              </a:rPr>
              <a:t>Animals can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1"/>
          <p:cNvSpPr/>
          <p:nvPr/>
        </p:nvSpPr>
        <p:spPr>
          <a:xfrm>
            <a:off x="4922640" y="59688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 JULIAN"/>
              </a:rPr>
              <a:t>Animals can’t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10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792520" y="30672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878200" y="2951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2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959200" y="286056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889360" y="2865600"/>
            <a:ext cx="246672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03560" y="3002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54320" y="29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4400" y="28717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6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32120" y="292428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7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35160" y="2854440"/>
            <a:ext cx="2705400" cy="16858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9"/>
          <p:cNvSpPr/>
          <p:nvPr/>
        </p:nvSpPr>
        <p:spPr>
          <a:xfrm>
            <a:off x="315000" y="57780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JULIAN"/>
              </a:rPr>
              <a:t>Animals can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1"/>
          <p:cNvSpPr/>
          <p:nvPr/>
        </p:nvSpPr>
        <p:spPr>
          <a:xfrm>
            <a:off x="4876560" y="59688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 JULIAN"/>
              </a:rPr>
              <a:t>Animals can’t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12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832120" y="270828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3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70280" y="2892600"/>
            <a:ext cx="2781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62280" y="2571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1600" y="2630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60840" y="2681280"/>
            <a:ext cx="2428560" cy="18860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62280" y="270828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73200" y="26812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790720" y="274176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94040" y="26701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57" name="TextBox 9"/>
          <p:cNvSpPr/>
          <p:nvPr/>
        </p:nvSpPr>
        <p:spPr>
          <a:xfrm>
            <a:off x="244080" y="577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JULIAN"/>
              </a:rPr>
              <a:t>Animals can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4805640" y="59688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 JULIAN"/>
              </a:rPr>
              <a:t>Animals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10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540160" y="26557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1042920" y="64198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еремещения объектов предложена Hans Werner Hofmann </a:t>
            </a:r>
            <a:r>
              <a:rPr b="0" lang="ru-RU" sz="12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Рисунок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52720" y="270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38520" y="2643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9240" y="268920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92600" y="2817720"/>
            <a:ext cx="2552400" cy="179064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711520" y="270828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892600" y="287028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892600" y="270684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9"/>
          <p:cNvSpPr/>
          <p:nvPr/>
        </p:nvSpPr>
        <p:spPr>
          <a:xfrm>
            <a:off x="273240" y="57780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JULIAN"/>
              </a:rPr>
              <a:t>Animals can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1"/>
          <p:cNvSpPr/>
          <p:nvPr/>
        </p:nvSpPr>
        <p:spPr>
          <a:xfrm>
            <a:off x="4834800" y="596880"/>
            <a:ext cx="35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 JULIAN"/>
              </a:rPr>
              <a:t>Animals can’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0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738520" y="287028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2655360" y="695160"/>
            <a:ext cx="14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JULIAN"/>
              </a:rPr>
              <a:t>I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5126040" y="695160"/>
            <a:ext cx="174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 JULIAN"/>
              </a:rPr>
              <a:t>I ca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3" descr=""/>
          <p:cNvPicPr/>
          <p:nvPr/>
        </p:nvPicPr>
        <p:blipFill>
          <a:blip r:embed="rId1"/>
          <a:stretch/>
        </p:blipFill>
        <p:spPr>
          <a:xfrm>
            <a:off x="7000920" y="936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"/>
          <p:cNvPicPr/>
          <p:nvPr/>
        </p:nvPicPr>
        <p:blipFill>
          <a:blip r:embed="rId2"/>
          <a:stretch/>
        </p:blipFill>
        <p:spPr>
          <a:xfrm>
            <a:off x="-23760" y="9360"/>
            <a:ext cx="2600280" cy="1762200"/>
          </a:xfrm>
          <a:prstGeom prst="rect">
            <a:avLst/>
          </a:prstGeom>
          <a:ln w="0">
            <a:noFill/>
          </a:ln>
        </p:spPr>
      </p:pic>
      <p:sp>
        <p:nvSpPr>
          <p:cNvPr id="475" name="Пятно 1 35"/>
          <p:cNvSpPr/>
          <p:nvPr/>
        </p:nvSpPr>
        <p:spPr>
          <a:xfrm>
            <a:off x="2600280" y="253512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ятно 1 39"/>
          <p:cNvSpPr/>
          <p:nvPr/>
        </p:nvSpPr>
        <p:spPr>
          <a:xfrm>
            <a:off x="2843280" y="2552760"/>
            <a:ext cx="3816360" cy="26636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ятно 1 40"/>
          <p:cNvSpPr/>
          <p:nvPr/>
        </p:nvSpPr>
        <p:spPr>
          <a:xfrm>
            <a:off x="2967120" y="274788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ятно 1 41"/>
          <p:cNvSpPr/>
          <p:nvPr/>
        </p:nvSpPr>
        <p:spPr>
          <a:xfrm>
            <a:off x="2576520" y="2535120"/>
            <a:ext cx="3816360" cy="266400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ятно 1 42"/>
          <p:cNvSpPr/>
          <p:nvPr/>
        </p:nvSpPr>
        <p:spPr>
          <a:xfrm>
            <a:off x="2827440" y="253512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ятно 1 43"/>
          <p:cNvSpPr/>
          <p:nvPr/>
        </p:nvSpPr>
        <p:spPr>
          <a:xfrm>
            <a:off x="3137040" y="2535120"/>
            <a:ext cx="3816360" cy="266544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ятно 1 44"/>
          <p:cNvSpPr/>
          <p:nvPr/>
        </p:nvSpPr>
        <p:spPr>
          <a:xfrm>
            <a:off x="2441520" y="2585880"/>
            <a:ext cx="4202280" cy="266400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ятно 1 45"/>
          <p:cNvSpPr/>
          <p:nvPr/>
        </p:nvSpPr>
        <p:spPr>
          <a:xfrm>
            <a:off x="2967120" y="2570040"/>
            <a:ext cx="3816360" cy="266400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ятно 1 46"/>
          <p:cNvSpPr/>
          <p:nvPr/>
        </p:nvSpPr>
        <p:spPr>
          <a:xfrm>
            <a:off x="2633760" y="2535120"/>
            <a:ext cx="3816360" cy="2664000"/>
          </a:xfrm>
          <a:prstGeom prst="irregularSeal1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 DARLING"/>
              </a:rPr>
              <a:t>C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user</cp:lastModifiedBy>
  <dcterms:modified xsi:type="dcterms:W3CDTF">2015-03-06T16:58:23Z</dcterms:modified>
  <cp:revision>144</cp:revision>
  <dc:subject/>
  <dc:title>Слайд 1</dc:title>
</cp:coreProperties>
</file>