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29B-EE92-4105-BB10-FCC616D5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4EF-95A3-41F5-9D02-E60FA9B7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B7A-3C44-4B1A-BD48-26743FEC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F7A-F6BA-4507-BCD8-401C0F41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A360-E8D9-405D-9B32-99A3352C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5C07-A9D4-4120-8C11-9E2B9012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6ECF-4353-4229-BF85-FDECBCBB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A946-3DFA-4F79-836A-4F5A6701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D18F-0414-426F-8BEF-F1B79D6B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DC73-3DC2-4F38-8924-1DC6E346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7B9E-1535-4995-AB1B-4569B57A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1B1-3833-47C2-B7CD-A567725E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2B5E-A00E-4400-8ED6-E52B7363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135E-CDB3-4ADF-A720-CCA5EB29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2E62-8C2B-485D-A6B4-5C93F533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C46E-E90D-4FD1-A8C8-38D2F56C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9BE6-2498-459F-85E1-2B224C22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1D7-AFCC-45A0-ABD7-06B21D93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53F-8BE6-4FA6-8B9F-6197EAF9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EEA-BFCE-4B96-AFDB-639D2F8A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BC5-4410-4DA9-AA41-6295B648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22D-8372-42F8-A037-991DCE96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7BC-6E29-4797-8FB8-D7FFA596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803-B8DC-4BDC-9C1F-82665819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7B77-D285-4662-B293-D6FF15D6BEF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520"/>
            <a:ext cx="6895800" cy="5451840"/>
            <a:chOff x="201132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3280"/>
              <a:ext cx="945720" cy="710280"/>
              <a:chOff x="3484080" y="953280"/>
              <a:chExt cx="945720" cy="71028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3280"/>
                <a:ext cx="945720" cy="7102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04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520"/>
              <a:ext cx="6895800" cy="5451840"/>
              <a:chOff x="201132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520"/>
                <a:ext cx="6890760" cy="5451840"/>
                <a:chOff x="2011320" y="245520"/>
                <a:chExt cx="689076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3920"/>
                  <a:chOff x="3735720" y="1266480"/>
                  <a:chExt cx="3599280" cy="26539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3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96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520"/>
                  <a:ext cx="6890760" cy="5451840"/>
                  <a:chOff x="2011320" y="245520"/>
                  <a:chExt cx="689076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9280" y="2324880"/>
                    <a:ext cx="2563560" cy="2740320"/>
                    <a:chOff x="5759280" y="2324880"/>
                    <a:chExt cx="25635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1440" y="3024000"/>
                      <a:ext cx="213156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6280" y="4145760"/>
                      <a:ext cx="114084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8840"/>
                    <a:ext cx="3040200" cy="2531520"/>
                    <a:chOff x="5787360" y="2148840"/>
                    <a:chExt cx="3040200" cy="25315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5600" cy="428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384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6760"/>
                    <a:ext cx="3097440" cy="1990800"/>
                    <a:chOff x="5774760" y="2066760"/>
                    <a:chExt cx="3097440" cy="19908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2252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70640"/>
                    <a:ext cx="3134160" cy="1609560"/>
                    <a:chOff x="5767920" y="1970640"/>
                    <a:chExt cx="3134160" cy="160956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8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45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8480"/>
                    <a:ext cx="2939400" cy="1003680"/>
                    <a:chOff x="5805720" y="1878480"/>
                    <a:chExt cx="2939400" cy="10036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48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000" y="2211480"/>
                      <a:ext cx="102312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6560"/>
                    <a:ext cx="2658960" cy="442440"/>
                    <a:chOff x="5851080" y="1816560"/>
                    <a:chExt cx="2658960" cy="4424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2560"/>
                      <a:ext cx="1730880" cy="27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8080"/>
                      <a:ext cx="9295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5000"/>
                    <a:ext cx="2364120" cy="786240"/>
                    <a:chOff x="5788440" y="1305000"/>
                    <a:chExt cx="2364120" cy="78624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56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5280" y="2475000"/>
                    <a:ext cx="2556360" cy="2742120"/>
                    <a:chOff x="2645280" y="2475000"/>
                    <a:chExt cx="255636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1160" y="3172320"/>
                      <a:ext cx="21268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0640" y="4296600"/>
                      <a:ext cx="11422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8440"/>
                    <a:ext cx="3038760" cy="2531880"/>
                    <a:chOff x="2084040" y="2368440"/>
                    <a:chExt cx="303876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720"/>
                      <a:ext cx="223272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4308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2400"/>
                    <a:ext cx="3096720" cy="1993320"/>
                    <a:chOff x="2040480" y="2282400"/>
                    <a:chExt cx="3096720" cy="19933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16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8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91320"/>
                    <a:ext cx="3134160" cy="1607400"/>
                    <a:chOff x="2011320" y="2191320"/>
                    <a:chExt cx="313416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4320" y="2500560"/>
                      <a:ext cx="206784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26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8280" y="2097000"/>
                    <a:ext cx="2935440" cy="1002240"/>
                    <a:chOff x="2168280" y="2097000"/>
                    <a:chExt cx="29354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200" y="2223000"/>
                      <a:ext cx="190224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31440"/>
                      <a:ext cx="1023120" cy="60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7480"/>
                    <a:chOff x="2403720" y="2033640"/>
                    <a:chExt cx="2658600" cy="44748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9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2080"/>
                    <a:ext cx="2364120" cy="788760"/>
                    <a:chOff x="2760480" y="1522080"/>
                    <a:chExt cx="2364120" cy="7887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34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064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680"/>
                    <a:ext cx="2323080" cy="1081440"/>
                    <a:chOff x="2887920" y="123768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6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600"/>
                      <a:ext cx="8161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960"/>
                    <a:ext cx="2170800" cy="1508400"/>
                    <a:chOff x="3160440" y="831960"/>
                    <a:chExt cx="217080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47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348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600"/>
                    <a:ext cx="1987200" cy="1830600"/>
                    <a:chOff x="3437640" y="435600"/>
                    <a:chExt cx="1987200" cy="183060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40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64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8320"/>
                    <a:ext cx="1461600" cy="1893600"/>
                    <a:chOff x="4026960" y="328320"/>
                    <a:chExt cx="1461600" cy="18936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360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89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480" cy="1948320"/>
                    <a:chOff x="4448160" y="245520"/>
                    <a:chExt cx="112248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4720" y="1402560"/>
                      <a:ext cx="13100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200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8760" cy="1110960"/>
                    <a:chOff x="5661720" y="952200"/>
                    <a:chExt cx="2318760" cy="111096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72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44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2840" cy="1450800"/>
                    <a:chOff x="5529600" y="624960"/>
                    <a:chExt cx="220284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840" y="810000"/>
                      <a:ext cx="81864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280"/>
                    <a:ext cx="12632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560" y="537120"/>
                    <a:ext cx="68220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1080"/>
                    <a:ext cx="1191960" cy="1899360"/>
                    <a:chOff x="5355720" y="271080"/>
                    <a:chExt cx="1191960" cy="18993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6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3120" y="488160"/>
                      <a:ext cx="704160" cy="353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240" y="385200"/>
                    <a:ext cx="1889640" cy="1798200"/>
                    <a:chOff x="5349240" y="385200"/>
                    <a:chExt cx="1889640" cy="17982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8440" y="1387800"/>
                      <a:ext cx="1425960" cy="33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240" y="581760"/>
                      <a:ext cx="767160" cy="519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0520"/>
                    <a:ext cx="426240" cy="1796400"/>
                    <a:chOff x="5459400" y="290520"/>
                    <a:chExt cx="426240" cy="179640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8320" y="144468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160"/>
                      <a:ext cx="6328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29360"/>
                    <a:ext cx="2192760" cy="3003480"/>
                    <a:chOff x="3062880" y="2529360"/>
                    <a:chExt cx="219276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5320" y="3314880"/>
                      <a:ext cx="212904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44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51400"/>
                    <a:ext cx="1481040" cy="2998440"/>
                    <a:chOff x="3790800" y="2651400"/>
                    <a:chExt cx="1481040" cy="29984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43040"/>
                      <a:ext cx="196884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5880"/>
                      <a:ext cx="105480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2160" y="2694960"/>
                    <a:ext cx="876240" cy="2928960"/>
                    <a:chOff x="4502160" y="2694960"/>
                    <a:chExt cx="876240" cy="292896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1320" y="3481200"/>
                      <a:ext cx="188748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0320" y="48024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4720"/>
                    <a:ext cx="2280960" cy="2951280"/>
                    <a:chOff x="5677560" y="2484720"/>
                    <a:chExt cx="2280960" cy="29512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52600"/>
                      <a:ext cx="212688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120" y="449784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600" y="2594880"/>
                    <a:ext cx="1758600" cy="3028680"/>
                    <a:chOff x="5646600" y="2594880"/>
                    <a:chExt cx="1758600" cy="30286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920" y="3397320"/>
                      <a:ext cx="203472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600"/>
                      <a:ext cx="1091520" cy="574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2240"/>
                    <a:ext cx="1228680" cy="2985120"/>
                    <a:chOff x="5576400" y="2712240"/>
                    <a:chExt cx="1228680" cy="29851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3840"/>
                      <a:ext cx="19728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0880"/>
                      <a:ext cx="105984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3840" y="2837520"/>
                    <a:ext cx="694080" cy="2784240"/>
                    <a:chOff x="5523840" y="2837520"/>
                    <a:chExt cx="694080" cy="278424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8160" y="3605400"/>
                      <a:ext cx="18147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75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520" y="2886840"/>
                    <a:ext cx="666720" cy="2721240"/>
                    <a:chOff x="4961520" y="2886840"/>
                    <a:chExt cx="666720" cy="27212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560" y="3665160"/>
                      <a:ext cx="17740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3800"/>
                      <a:ext cx="95220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840"/>
                <a:ext cx="6732720" cy="4525200"/>
                <a:chOff x="2174400" y="681840"/>
                <a:chExt cx="6732720" cy="452520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840"/>
                  <a:ext cx="6732720" cy="4525200"/>
                  <a:chOff x="2174400" y="681840"/>
                  <a:chExt cx="6732720" cy="452520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880"/>
                    <a:ext cx="3166560" cy="25264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72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2840"/>
                    <a:ext cx="1758240" cy="29372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76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840"/>
                    <a:ext cx="228276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7040"/>
                    <a:ext cx="940680" cy="284148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5920"/>
                    <a:ext cx="515160" cy="1881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80520"/>
                  <a:ext cx="546120" cy="103248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6120"/>
              <a:ext cx="6411960" cy="4713120"/>
              <a:chOff x="2343960" y="726120"/>
              <a:chExt cx="6411960" cy="471312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0800"/>
                <a:ext cx="598320" cy="18259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4880"/>
                <a:ext cx="2617200" cy="284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6960"/>
                <a:ext cx="1534320" cy="2936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3200"/>
                <a:ext cx="2930760" cy="2936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5400"/>
                <a:ext cx="469800" cy="2936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1720"/>
                <a:ext cx="1238040" cy="2936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3280"/>
                <a:ext cx="598320" cy="18259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2800"/>
                <a:ext cx="543600" cy="10346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00200"/>
                <a:ext cx="1338480" cy="1881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2280"/>
                <a:ext cx="858240" cy="1881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3720"/>
                <a:ext cx="1242000" cy="19749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4720"/>
                <a:ext cx="1872360" cy="13172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6120"/>
                <a:ext cx="819000" cy="1770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280" y="2169360"/>
                <a:ext cx="542880" cy="10332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468C-852F-4450-BF64-2C2E54F15F3F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victory.rusarchives.ru/index.php?p=31&amp;photo_id=368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4200" y="2285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Районный конкурс медиатворчества «Окно в мир»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Викторина</a:t>
            </a:r>
            <a:br>
              <a:rPr sz="3200"/>
            </a:br>
            <a:r>
              <a:rPr b="0" lang="ru-RU" sz="3200" spc="-1" strike="noStrike">
                <a:solidFill>
                  <a:srgbClr val="ff7940"/>
                </a:solidFill>
                <a:latin typeface="Arial Black"/>
              </a:rPr>
              <a:t>Тема: Победный ма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42960" y="421488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ыполнила: Чижова Татьян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озраст 14 лет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ТО «Мастерим бумажный мир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Руководитель Сак Н.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2015 год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1785960" y="142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МБОУ ДОД Дом детского творчеств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Г. Урень Нижегородской области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-360" y="1000080"/>
            <a:ext cx="635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и ночном наступлении на какой немецкий город советские войска применили 140 прожекторов, которыми ослепили войска противника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</a:t>
            </a: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На Берлин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285840" y="1143000"/>
            <a:ext cx="6429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Кто во время взятия Берлина командовал Первым Белорусским фронтом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Прямоугольник 2"/>
          <p:cNvSpPr/>
          <p:nvPr/>
        </p:nvSpPr>
        <p:spPr>
          <a:xfrm>
            <a:off x="551880" y="48578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3f00"/>
                </a:solidFill>
                <a:latin typeface="Arial Black"/>
              </a:rPr>
              <a:t>Маршал Георгий Константинович Жуков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3"/>
          <p:cNvSpPr/>
          <p:nvPr/>
        </p:nvSpPr>
        <p:spPr>
          <a:xfrm>
            <a:off x="214200" y="285840"/>
            <a:ext cx="7286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оронежцы установили у себя памятник, демонтированный в Вильнюсе. Ведь этот генерал освобождал от фашистов и Воронеж, и Прибалтику. Назовите военачальник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3f00"/>
                </a:solidFill>
                <a:latin typeface="Arial Black"/>
              </a:rPr>
              <a:t>Черняховский Иван Данилович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3f00"/>
                </a:solidFill>
                <a:latin typeface="Arial Black"/>
              </a:rPr>
              <a:t>генерал армии, дважды Герой Советского Союза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3f00"/>
                </a:solidFill>
                <a:latin typeface="Arial Black"/>
              </a:rPr>
              <a:t>Теперь в Воронеже есть площадь имени Черняховского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785880" y="857160"/>
            <a:ext cx="5214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Какое название получил парад, прошедший на Красной площади 24 июня 1945 года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Прямоугольник 2"/>
          <p:cNvSpPr/>
          <p:nvPr/>
        </p:nvSpPr>
        <p:spPr>
          <a:xfrm>
            <a:off x="2581560" y="4643280"/>
            <a:ext cx="381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3f00"/>
                </a:solidFill>
                <a:latin typeface="Arial Black"/>
              </a:rPr>
              <a:t>Парад Победы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Назовите города-геро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28440" y="18572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Сталингр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Ту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Севастопол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Брес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Керч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Кие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Белгород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Смоленс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00720" y="1928520"/>
            <a:ext cx="43574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Одесса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Курс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Минс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Москв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Мурманс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Новороссийс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Ленинград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Орё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Прямоугольник 2" descr=""/>
          <p:cNvPicPr/>
          <p:nvPr/>
        </p:nvPicPr>
        <p:blipFill>
          <a:blip r:embed="rId1"/>
          <a:stretch/>
        </p:blipFill>
        <p:spPr>
          <a:xfrm>
            <a:off x="1895400" y="281160"/>
            <a:ext cx="3938760" cy="1968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571680" y="2071800"/>
            <a:ext cx="6500520" cy="411948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5"/>
          <p:cNvSpPr/>
          <p:nvPr/>
        </p:nvSpPr>
        <p:spPr>
          <a:xfrm>
            <a:off x="64296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09 мая 1945 г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есто съемки: Москв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Прямоугольник 6"/>
          <p:cNvSpPr/>
          <p:nvPr/>
        </p:nvSpPr>
        <p:spPr>
          <a:xfrm>
            <a:off x="4572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Автор съемки: Халип Яков Николаевич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Интернет ресурс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85840" y="2571840"/>
            <a:ext cx="82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victory.rusarchives.ru/index.php?p=31&amp;photo_id=368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Тематический каталог фотодокументов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ttps://ru.wikipedia.org/wiki/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День_Победы_(песня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ttp://bigwar.msk.ru/index.html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- проект Гузеева Витал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ttps://ru.wikipedia.org/wiki/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еликая_Отечественная_вой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ttp://www.bibliotekar.ru/istoriya/265.ht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3"/>
          <p:cNvSpPr/>
          <p:nvPr/>
        </p:nvSpPr>
        <p:spPr>
          <a:xfrm>
            <a:off x="500040" y="428760"/>
            <a:ext cx="4572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нь Победы, как он был от нас далек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Как в костре потухшем таял уголек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Были версты, обгорелые, в пыли, -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Этот день мы приближали, как могл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ипев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Этот День Побед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орохом пропах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Это праздник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 сединою на висках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Это радость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о слезами на глазах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нь Победы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нь Победы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нь Победы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5357880" y="3429000"/>
            <a:ext cx="364320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Кто автор слов песни «День Победы»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53f00"/>
                </a:solidFill>
                <a:latin typeface="Arial Black"/>
              </a:rPr>
              <a:t>Владимир Гаврилович Харитонов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Прямоугольник 7"/>
          <p:cNvSpPr/>
          <p:nvPr/>
        </p:nvSpPr>
        <p:spPr>
          <a:xfrm>
            <a:off x="5214960" y="5072040"/>
            <a:ext cx="36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Кто написал музыку к этой песне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53f00"/>
                </a:solidFill>
                <a:latin typeface="Arial Black"/>
              </a:rPr>
              <a:t>Давид Фёдорович Тухманов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1500120"/>
            <a:ext cx="6143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dc50"/>
                </a:solidFill>
                <a:latin typeface="Arial Black"/>
              </a:rPr>
              <a:t>В каком году началась вторая мировая война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1424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 194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 1939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 194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5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571680" y="642960"/>
            <a:ext cx="55720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 истории Великой Отечественной войны этот «хвойный» город Советского Союза стал первым городом, откуда выгнали немцев. Назовите ег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3f00"/>
                </a:solidFill>
                <a:latin typeface="Arial Black"/>
              </a:rPr>
              <a:t>Ельня, Смоленская область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785600"/>
            <a:ext cx="7286760" cy="33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Назовите советский город, в честь которого названа площадь в Париже, в память о великой победе над фашизмом?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-1342440" y="32439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3071880" y="5286240"/>
            <a:ext cx="50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53f00"/>
                </a:solidFill>
                <a:latin typeface="Arial Black"/>
              </a:rPr>
              <a:t>Сталинград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о время Великой Отечественной войны колонна немцев всё же смогла пройти по улицам Москвы. Что же это была за колонна? 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 </a:t>
            </a:r>
            <a:r>
              <a:rPr b="0" lang="ru-RU" sz="3600" spc="-1" strike="noStrike">
                <a:solidFill>
                  <a:srgbClr val="d53f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Прямоугольник 3"/>
          <p:cNvSpPr/>
          <p:nvPr/>
        </p:nvSpPr>
        <p:spPr>
          <a:xfrm>
            <a:off x="1000080" y="514368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3f00"/>
                </a:solidFill>
                <a:latin typeface="Arial Black"/>
              </a:rPr>
              <a:t>Колонна военнопленных немце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42960" y="1500120"/>
            <a:ext cx="58579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азовите последний город , по которому «прошлась» война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3530160" y="5072040"/>
            <a:ext cx="209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3f00"/>
                </a:solidFill>
                <a:latin typeface="Arial Black"/>
              </a:rPr>
              <a:t>Берлин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200" y="999720"/>
            <a:ext cx="621504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dc50"/>
                </a:solidFill>
                <a:latin typeface="Arial Black"/>
              </a:rPr>
              <a:t>Кто командовал парадом победы в 1945 году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71680" y="307188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онстантин Константинович  Рокоссов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еоргий Константинович Жук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Родион Яковлевич Малинов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" dur="2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8760" y="2000160"/>
            <a:ext cx="65721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dc50"/>
                </a:solidFill>
                <a:latin typeface="Arial Black"/>
              </a:rPr>
              <a:t>Сколько дней и ночей длилась Великая Отечественная  война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42960" y="4500720"/>
            <a:ext cx="77724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3f00"/>
                </a:solidFill>
                <a:latin typeface="Arial Black"/>
              </a:rPr>
              <a:t>  </a:t>
            </a:r>
            <a:r>
              <a:rPr b="0" lang="ru-RU" sz="4000" spc="-1" strike="noStrike">
                <a:solidFill>
                  <a:srgbClr val="d53f00"/>
                </a:solidFill>
                <a:latin typeface="Arial Black"/>
              </a:rPr>
              <a:t>Война длилась </a:t>
            </a:r>
            <a:r>
              <a:rPr b="0" lang="ru-RU" sz="4800" spc="-1" strike="noStrike">
                <a:solidFill>
                  <a:srgbClr val="d53f00"/>
                </a:solidFill>
                <a:latin typeface="Arial Black"/>
              </a:rPr>
              <a:t>1416</a:t>
            </a:r>
            <a:r>
              <a:rPr b="0" lang="ru-RU" sz="4000" spc="-1" strike="noStrike">
                <a:solidFill>
                  <a:srgbClr val="d53f00"/>
                </a:solidFill>
                <a:latin typeface="Arial Black"/>
              </a:rPr>
              <a:t> дней и ночей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1T17:41:55Z</dcterms:created>
  <dc:creator>User</dc:creator>
  <dc:description/>
  <dc:language>en-US</dc:language>
  <cp:lastModifiedBy>Natasha</cp:lastModifiedBy>
  <dcterms:modified xsi:type="dcterms:W3CDTF">2015-03-05T07:20:53Z</dcterms:modified>
  <cp:revision>34</cp:revision>
  <dc:subject/>
  <dc:title>Слайд 1</dc:title>
</cp:coreProperties>
</file>