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BD49-1631-4285-BF94-278E7890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C1AA-74CD-45A4-927A-4361CB5A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D8A8-C7DE-437F-872F-A0104C56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0B2-CFFD-487C-8AC0-03829F6E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A159-034A-47A4-9DE4-45D02F8D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9ECC-DEE0-4716-94EF-6B67EED0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377-C61E-4F07-B7C6-52FE3C2A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B0EC-EE3C-4393-A037-5104CFA1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331-A61A-4861-90F7-1C44D2C0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C98B-3B84-4A14-8CBE-CE0D2527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675F-7987-4267-A17E-73CB0B6F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3B6-13EC-4C4F-A7D9-2938F014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E0E6-FD40-4F43-BBED-3C4EFBF1A8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16000" y="2349360"/>
            <a:ext cx="6840720" cy="13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</a:rPr>
              <a:t> 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455400" y="189000"/>
            <a:ext cx="789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«Ромаш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1692360" y="1989000"/>
            <a:ext cx="62928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 для  воспит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: «Методика развития связной реч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ошкольник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фурова Р.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монол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– характеристика предмета в стати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ствование – связный рассказ о каких-нибудь событ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уждение – логическое изложение материала в форме доказатель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минация – смешанный тип, с элементами остальных тип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вание по игрушкам и картинам – дети передают определенный сюжет, подсказанный картиной, готовой игровой ситуац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вание из опыта – опирается на представления ребенка, полученные в процессе наблюдений, различ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ое рассказывание – рассказы о вымышленных событ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монолога (по источнику высказыв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8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монолога (по ведущей психической деятельнос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вание по зрительному, осязательному, или слуховому восприятию – носит описательный характер, дети рассказывают 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ах и явлениях, которые видят в данный момен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вание по памяти – рассказывание из опыта, о пережитом, воспринятом ран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вание по воображению – творческие рассказы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77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77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9" dur="77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связной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ная речь – смысловое развернутое высказывание (ряд логических сочетающихся предложе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ое смысловое и структурное целое, включающее связанные между собой и тематически объединенные, законченные отрез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характеристика связной речи – понятность для собесед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исходит постепенно вместе с развитием мышления и  связано с усложнением детской деятельности и формами общения с окружающими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тивная и контекстная реч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тивная речь – связана с конкретной наглядной ситуацией и не отражает полностью содержания мысли в речевых форм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кстная речь – её содержание понятно из самого контекста, требует построения высказывания без учета конкретной ситуации, с опорой только на языковые сре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878508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основные формы связной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263664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ическая р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логическая р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120"/>
                            </p:stCondLst>
                            <p:childTnLst>
                              <p:par>
                                <p:cTn id="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620"/>
                            </p:stCondLst>
                            <p:childTnLst>
                              <p:par>
                                <p:cTn id="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12920"/>
            <a:ext cx="822960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особенность диалога – чередование говорения одного собеседника с прослушиванием и последующим говорением друг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иалоге собеседники всегда знают, о чем идет речь и не нуждаются развертывании мысли и высказы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ый диалог сопровождается жестами, мимикой, интонаци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иалога характерны разговорная лексика и фразеология, краткость, обрывист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 в нем может быть неполной сокращенной, иногда фрагментар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ность диалога обеспечивается двумя собеседни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о использование речевых стереотипов, устойчивых форм общения, шаблонов и кли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емы обучения диал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864216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метод в повседневном общении – разговор воспитателя с деть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– целенаправленное обсуждение чего-либо, организованный подготовленный диалог на заранее выбранную тем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ся прием словесных поруч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ый метод – дидактическая иг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но использовать подвижные игры, которые содержат диал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950"/>
                            </p:stCondLst>
                            <p:childTnLst>
                              <p:par>
                                <p:cTn id="1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200"/>
                            </p:stCondLst>
                            <p:childTnLst>
                              <p:par>
                                <p:cTn id="1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4400"/>
                            </p:stCondLst>
                            <p:childTnLst>
                              <p:par>
                                <p:cTn id="1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лог – связное, логическое последовательное высказывание, протекающее относительно долго во времени, не рассчитанное на немедленную реакцию слуш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ает мысль одного человека, которая неизвестна слушател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е содержит более полную формулировку информации, оно более разверну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нологе важны неречевые средства (жесты, мимика, интона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ы литературная лексика, развернутость высказываний, законченность, логическая заверш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ность монолога обеспечивается одним говорящ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логическая речь – более сложный, произвольный, более организованный вид речи и требует специального речевого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5:58:24Z</dcterms:created>
  <dc:creator>Cool</dc:creator>
  <dc:description/>
  <dc:language>en-US</dc:language>
  <cp:lastModifiedBy>RePack by SPecialiST</cp:lastModifiedBy>
  <dcterms:modified xsi:type="dcterms:W3CDTF">2015-03-06T04:42:49Z</dcterms:modified>
  <cp:revision>10</cp:revision>
  <dc:subject/>
  <dc:title>Методика развития связной речи</dc:title>
</cp:coreProperties>
</file>