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5474D-ABD1-4F35-BA20-DB4DCAC8EFD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DF20F-5897-46BC-9857-F98B538C4C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A8CF2-38D5-441A-888C-206F8F1AD2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6022-E025-4109-B7FE-BEE124D77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E229-274B-498B-85BB-CEE93EED0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0F60-A79C-4276-8494-8A7310986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8363-2DC4-4754-BAB0-06E6B6F19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30032-3AA2-4012-8DAF-3178B8965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2F0CD-49B9-4D21-9F19-D42020B40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F751F-C8D0-415B-B1E9-8B7B46F32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D2A23-A698-4C67-B4A9-0F6D5137C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C9CB5-70D5-4D27-B601-A8C16291E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B7610-9AB1-4770-9EB3-651EDEBD8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27B85-4778-4A1A-A8ED-1C03681F9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F361-5BF8-4BF6-8E64-F0B9DE546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73F24-45A5-4C35-8AB3-6813D4306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8DF6A-9C77-48AD-A256-C8717558A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A34E4-8AEF-4949-AB96-876CE200A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5A1DC-7195-4D1B-B2CC-9C064B7E5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A9E6B-5B9B-437E-8E71-9F288D01C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9C779-99C5-4737-811E-5F50077DF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0DADD-72DD-4B77-98D9-DEEE18731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9023F-1C79-449A-B1E5-16BDEEFDA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2FE50-5114-4B92-B569-155393C80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53F3B-8749-4B9F-B841-3CA49BFEF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0E92-8118-4951-AAAF-7E7424AB3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E1938-7209-445D-80D6-5308ECD93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D1B1E-F9B6-45E5-B8CE-7A951D353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88125-8325-494F-B606-7BDBEB408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E15D0-977B-4E36-940C-58856BCD7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B4F7B-568D-4C71-B176-1ABD59857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BB6ED-B305-4B61-B6D2-1C3E55DB5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C86C3-7F23-4835-95CD-5B48EE80E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5758E-93A3-49F0-A2F2-B67C3F1CC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7BBD8-CB12-4A68-B637-7A572725B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C2DA4-AAFF-4042-8F56-05B2FB6B9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8744-0FD0-44A4-AD8B-51EBFCEF7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2EA615-0522-4B50-8D7E-FB2DCE0A7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967018-F324-45DC-B175-1B80E046E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0B996-ACFF-4C12-BC16-FBF09C99C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FDCDA-C7B4-43D3-B53D-E62FAA421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8F41C-9B7F-458A-9817-CF34AC8E4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4AEA7-A360-4709-A8F2-45EE33FAB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C92F4D-9BF2-4362-A57E-1A558D16C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E2105-DA00-4456-8D26-BD5BA23CD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99764-C9F6-45D6-AE75-FE77A9057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190A63-954D-47E4-8FFD-B621194B4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3F3B-7405-4F19-B224-8C81489AC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4F7789-AE52-40C0-96DD-65F1DDFE6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1ED91E-7F6D-43DD-97C3-2DF47868C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7408BB-8CB4-4ACB-8B9C-68D5EB0E2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92766D-0C12-49F5-80CD-4DA826C96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F58084-F894-4A74-B94B-0B30B83E3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8B79B1-198E-4144-951F-7B855E5A5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D74589-7405-4054-90BA-55BFE77E1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6C58E0-7328-47F1-B672-CBE8BD44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83F729-4E02-49D4-BE2C-7FCDF807A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69DC90-DDAD-42E5-8840-50A36B2AE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C090-B948-4660-BB52-0BD07AD49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C40882-5359-45B1-945E-9BD404E6C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3163-8E5F-41F4-A26C-D51F7384F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0A4B-4A5F-4A07-8697-8D69D1F6F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7D81-5129-4447-8047-84E811C0B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4EBC0-9115-4A35-9902-E1D2D4FCBF78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692A2-AB4C-474A-BF27-82FD355338C6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E8674-E001-41E7-B13A-D8403DDA9E9D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5DDF9-DDD3-4468-90F2-3E47F887F443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37FA0-DFC8-4677-948D-CDC99FCF8A8A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248440" cy="287820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3492360" y="3933360"/>
            <a:ext cx="5050080" cy="1473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Автор   проекта: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Умерзаева Алия Серкалиевна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воспитатель  МДОУ   д\с №9 «Теремок» г. Ершова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Заголовок 1" descr=""/>
          <p:cNvPicPr/>
          <p:nvPr/>
        </p:nvPicPr>
        <p:blipFill>
          <a:blip r:embed="rId1"/>
          <a:stretch/>
        </p:blipFill>
        <p:spPr>
          <a:xfrm>
            <a:off x="469800" y="328680"/>
            <a:ext cx="7247160" cy="115884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539280" y="1412640"/>
            <a:ext cx="723924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«В здоровом теле здоровый дух!» (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Trebuchet MS"/>
              </a:rPr>
              <a:t>фотоальбом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формление буклет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Заголовок 1" descr=""/>
          <p:cNvPicPr/>
          <p:nvPr/>
        </p:nvPicPr>
        <p:blipFill>
          <a:blip r:embed="rId1"/>
          <a:stretch/>
        </p:blipFill>
        <p:spPr>
          <a:xfrm>
            <a:off x="420840" y="133200"/>
            <a:ext cx="7254720" cy="6588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468360" y="148392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писание проект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резентаци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Буклет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Критерии оценивания буклет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Методические материалы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Заголовок 1" descr=""/>
          <p:cNvPicPr/>
          <p:nvPr/>
        </p:nvPicPr>
        <p:blipFill>
          <a:blip r:embed="rId1"/>
          <a:stretch/>
        </p:blipFill>
        <p:spPr>
          <a:xfrm>
            <a:off x="1279440" y="133200"/>
            <a:ext cx="6139080" cy="6588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57200" y="928800"/>
            <a:ext cx="7758000" cy="552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Определить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педагогические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основы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проблемы формирования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представления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о своем организме у детей старшего  возраста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.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ыяснить влияние знаний о человеческом организме на становлени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е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и развитие самопознания, самооценки, «образа я» у дошкольников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.В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оспитывать сознательную установку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на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здоровый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образ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жизни; желание заботиться о своем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здоровье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. Ф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ормировать представление о здоровье как одной из главных ценностей жизни;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выделить правила культурно-гигиенического поведения; определить и закрепить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полученные знания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о значении витаминов,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навык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и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гигиены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468360" y="1988640"/>
            <a:ext cx="7238880" cy="10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4000"/>
          </a:bodyPr>
          <a:p>
            <a:pPr marL="65160" indent="-65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         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ремя проведения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65160" indent="-6516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Долгосрочный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65160" indent="-6516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65160" indent="-65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 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Участники проект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65160" indent="-6516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-дети старшей подготовительной группы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65160" indent="-6516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-воспитател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65160" indent="-6516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-специалисты – медсестра, повар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65160" indent="-6516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родители воспитанников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65160" indent="-6516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65160" indent="-6516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65160" indent="-6516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65160" indent="-6516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65160" indent="-6516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65160" indent="-6516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65160" indent="-6516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65160" indent="-6516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65160" indent="-6516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65160" indent="-6516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65160" indent="-6516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65160" indent="-6516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65160" indent="-6516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65160" indent="-6516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65160" indent="-6516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65160" indent="-6516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65160" indent="-6516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65160" indent="-6516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65160" indent="-6516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65160" indent="-6516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65160" indent="-6516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65160" indent="-6516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65160" indent="-6516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65160" indent="-6516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65160" indent="-6516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65160" indent="-6516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65160" indent="-6516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65160" indent="-6516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65160" indent="-6516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65160" indent="-6516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65160" indent="-6516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65160" indent="-6516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65160" indent="-6516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65160" indent="-6516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65160" indent="-6516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65160" indent="-6516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65160" indent="-6516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65160" indent="-6516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65160" indent="-6516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65160" indent="-6516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65160" indent="-6516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65160" indent="-6516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65160" indent="-6516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65160" indent="-6516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65160" indent="-6516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65160" indent="-6516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65160" indent="-6516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65160" indent="-6516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65160" indent="-6516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65160" indent="-6516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65160" indent="-6516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65160" indent="-6516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65160" indent="-6516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Содержимое 2"/>
          <p:cNvSpPr/>
          <p:nvPr/>
        </p:nvSpPr>
        <p:spPr>
          <a:xfrm>
            <a:off x="179280" y="260280"/>
            <a:ext cx="723924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Место проведения:</a:t>
            </a:r>
            <a:endParaRPr b="0" i="1" lang="en-US" sz="2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МДОУ «Детский сад №9  «Теремок»             г.Ершова Саратовской области» </a:t>
            </a:r>
            <a:endParaRPr b="0" i="1" lang="en-US" sz="2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3" name=""/>
          <p:cNvGraphicFramePr/>
          <p:nvPr/>
        </p:nvGraphicFramePr>
        <p:xfrm>
          <a:off x="142920" y="1197000"/>
          <a:ext cx="8001000" cy="4876920"/>
        </p:xfrm>
        <a:graphic>
          <a:graphicData uri="http://schemas.openxmlformats.org/drawingml/2006/table">
            <a:tbl>
              <a:tblPr/>
              <a:tblGrid>
                <a:gridCol w="8001000"/>
              </a:tblGrid>
              <a:tr h="48769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и должны получить первичные представления о некоторых внутренних органах, коже/ желудке, кишечнике ,крови, мозге, их местонахождении, значении их основную функцию. Различать понятия «часть тела» и «орган». Показывать на анатомическом фартуке проекции некоторых органов. Иметь простейшие представления о мероприятиях, направленные на сохранение здоровья.</a:t>
                      </a:r>
                      <a:endParaRPr b="0" i="1" lang="en-US" sz="3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939498"/>
                      </a:solidFill>
                    </a:lnL>
                    <a:lnR w="5760">
                      <a:solidFill>
                        <a:srgbClr val="939498"/>
                      </a:solidFill>
                    </a:lnR>
                    <a:lnT w="5760">
                      <a:solidFill>
                        <a:srgbClr val="939498"/>
                      </a:solidFill>
                    </a:lnT>
                    <a:lnB w="5760">
                      <a:solidFill>
                        <a:srgbClr val="93949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4" name="Заголовок 3" descr=""/>
          <p:cNvPicPr/>
          <p:nvPr/>
        </p:nvPicPr>
        <p:blipFill>
          <a:blip r:embed="rId1"/>
          <a:stretch/>
        </p:blipFill>
        <p:spPr>
          <a:xfrm>
            <a:off x="420840" y="176040"/>
            <a:ext cx="7254720" cy="68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396720" y="-317520"/>
            <a:ext cx="7247160" cy="11588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395280" y="126792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Формирование у детей элементарных представлений о человеческом организм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бучение уходу за своим телом, навыкам оказания элементарной помощ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Формировать представления о том, что полезно и что вредно для организма 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оспитание любви к себе, к своему телу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оспитание потребности в здоровом образе жизн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Развитие представлений о строении человеческого тела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71680" y="-142920"/>
            <a:ext cx="6929280" cy="54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роблемные вопросы : 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1)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Что  необходимо делать, чтобы быть здоровым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2)Как сохранить здоровье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Основополагающий вопрос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мир внутри меня и вокруг меня?  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Заголовок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7272360" cy="158616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285480" y="1642680"/>
            <a:ext cx="771516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Презентация проекта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Осознание проблемы и формулировка основополагающего вопроса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Формулировка проблемных вопросов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Теоретическое исследование проблем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Создание презентации и буклета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Анализ результата работы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Выводы;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Оценка результатов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1" descr=""/>
          <p:cNvPicPr/>
          <p:nvPr/>
        </p:nvPicPr>
        <p:blipFill>
          <a:blip r:embed="rId1"/>
          <a:stretch/>
        </p:blipFill>
        <p:spPr>
          <a:xfrm>
            <a:off x="353880" y="281160"/>
            <a:ext cx="7247160" cy="11509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357120" y="1500120"/>
            <a:ext cx="709632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Как работает желудок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Какое сердце бывает слабым и сильным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Много ли в легких воздуха?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Как мы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дышим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Чем слышим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Для чего человеку кожа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Как сохранить здоровье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Скелет что это такое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Заголовок 1" descr=""/>
          <p:cNvPicPr/>
          <p:nvPr/>
        </p:nvPicPr>
        <p:blipFill>
          <a:blip r:embed="rId1"/>
          <a:stretch/>
        </p:blipFill>
        <p:spPr>
          <a:xfrm>
            <a:off x="201600" y="-6480"/>
            <a:ext cx="7972560" cy="115884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 txBox="1"/>
          <p:nvPr/>
        </p:nvSpPr>
        <p:spPr>
          <a:xfrm>
            <a:off x="499680" y="1213920"/>
            <a:ext cx="719604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Анализ активности групп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Анализ знаний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rebuchet MS"/>
              </a:rPr>
              <a:t>Оценка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работ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с дидактическим материалом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Анализ навыков коллективной работы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8T12:05:50Z</dcterms:created>
  <dc:creator>USER</dc:creator>
  <dc:description/>
  <dc:language>en-US</dc:language>
  <cp:lastModifiedBy>admin</cp:lastModifiedBy>
  <dcterms:modified xsi:type="dcterms:W3CDTF">2010-05-22T13:18:58Z</dcterms:modified>
  <cp:revision>38</cp:revision>
  <dc:subject/>
  <dc:title>Слайд 1</dc:title>
</cp:coreProperties>
</file>