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png" ContentType="image/png"/>
  <Override PartName="/ppt/media/image6.wmf" ContentType="image/x-wmf"/>
  <Override PartName="/ppt/media/image4.png" ContentType="image/png"/>
  <Override PartName="/ppt/media/image27.png" ContentType="image/png"/>
  <Override PartName="/ppt/media/image3.gif" ContentType="image/gif"/>
  <Override PartName="/ppt/media/image26.gif" ContentType="image/gif"/>
  <Override PartName="/ppt/media/image2.png" ContentType="image/png"/>
  <Override PartName="/ppt/media/image22.jpeg" ContentType="image/jpeg"/>
  <Override PartName="/ppt/media/image14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20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3219-2ED5-4B9B-87EA-7C42FE4ED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FDB9-7E0C-4F04-BA56-891A375779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5664-C26A-4E19-AD73-FB1E32280C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0543-3E78-47B4-92F7-4DAE565541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E8A4-654B-4634-BA9B-BECBA7F073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6403-CBE9-4F26-B98D-8304E19AAF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F214-DD5C-48AF-B236-80E9A3D45E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646-A141-4DBC-AD9E-8482D7B43B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AB1C-4CCA-42BE-93B8-4F3920935A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7A6-EDC0-4F0D-9D01-976D13F2B0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B0AC-72F2-4367-B42A-0BAB760FDC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7883-ACEC-4742-8A55-0D63EE98E6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56A-AEF8-4D77-93F2-F36E5AB663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FB8-70C8-4554-9D26-5354062883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A689-92C7-427E-9800-28A261F8A3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46AC-9B1A-4DE8-B0FF-03F2F33400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192A-9824-4A7E-8321-BD567389DE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CACB-4179-461B-A68C-78E3A4FD8D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F709-C9C3-4F9A-A5AE-CEF54AC25C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9F94-F0DF-4D7E-91A6-12532D7A7A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CF5-D641-4DE3-AE1D-F9381722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B61-7189-4FD7-ACF3-8B8135AB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D13-BA97-4E9B-9C67-6C0C7431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4BE-89AA-4FBD-B64A-D52EACCF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64F-A045-4ABF-9DE3-8B0AD04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082-2558-483C-9F5E-98A08C38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886-69A5-43DB-8B2B-91E91FDF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005-C257-4C49-B141-650E6FE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056-0322-42C0-93CE-F0E8D94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40C-B11D-4B78-AD9C-93EA24D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9A7-A2C9-417D-AEBB-FC713F6A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D62-2ED4-4912-9758-EF370C5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3721-E8A9-49B8-93CE-F829639D32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5.wmf"/><Relationship Id="rId8" Type="http://schemas.openxmlformats.org/officeDocument/2006/relationships/image" Target="../media/image16.gif"/><Relationship Id="rId9" Type="http://schemas.openxmlformats.org/officeDocument/2006/relationships/image" Target="../media/image5.wmf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wmf"/><Relationship Id="rId3" Type="http://schemas.openxmlformats.org/officeDocument/2006/relationships/image" Target="../media/image3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hyperlink" Target="file:///H:/&#1088;&#1077;&#1091;&#1090;&#1086;&#1074;&#1072;%20&#1089;&#1077;&#1084;&#1080;&#1085;&#1072;&#1088;/&#1057;&#1088;&#1072;&#1074;&#1085;&#1080;&#1090;&#1077;&#1083;&#1100;&#1085;&#1099;&#1077;%20&#1074;&#1086;&#1079;&#1084;&#1086;&#1078;&#1085;&#1086;&#1089;&#1090;&#1080;%20&#1086;&#1073;&#1088;&#1072;&#1079;&#1086;&#1074;&#1072;&#1090;&#1077;&#1083;&#1100;&#1085;&#1099;&#1093;%20&#1090;&#1077;&#1093;&#1085;&#1086;&#1083;&#1086;&#1075;&#1080;&#1081;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" Target="slide8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59056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: «Современные образовательные технологии, как основное средство реализации требований ФГОС»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9" name="Picture 6" descr="26"/>
          <p:cNvPicPr/>
          <p:nvPr/>
        </p:nvPicPr>
        <p:blipFill>
          <a:blip r:embed="rId2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057400" y="22860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Rage Italic"/>
              </a:rPr>
              <a:t>Образование – это индустрия, направленная в буду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Rage Italic"/>
              </a:rPr>
              <a:t>С.П. Кап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28600" y="228600"/>
            <a:ext cx="8534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овые технологии</a:t>
            </a:r>
            <a:endParaRPr b="0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4920" y="1447920"/>
            <a:ext cx="84582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ст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стандартизованные, краткие, ограниченные во времени испытания, предназначенные для установления количественных и качественных индивидуальных различ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0" y="762120"/>
            <a:ext cx="899172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более рационально использовать время урок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охватить больший объем содерж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быстро установить обратную связь с учащимися и определить результаты усвоения матер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сосредоточить внимание на пробелах в знаниях и  умениях. Внести в них корректив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обеспечить одновременную проверку знаний учащихся груп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формировать у них мотивацию для подготовки  к каждому уро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dddd"/>
                </a:solidFill>
                <a:latin typeface="Arial"/>
              </a:rPr>
              <a:t>преодолеть субъективизм выставления оцено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dddd"/>
                </a:solidFill>
                <a:latin typeface="Arial"/>
              </a:rPr>
              <a:t>индивидуализировать работу с учащими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dddd"/>
                </a:solidFill>
                <a:latin typeface="Arial"/>
              </a:rPr>
              <a:t>развивать добросовестность и аккурат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dddd"/>
                </a:solidFill>
                <a:latin typeface="Arial"/>
              </a:rPr>
              <a:t>повышать интерес к предм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WordArt 4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480520" cy="4827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5" descr=""/>
          <p:cNvPicPr/>
          <p:nvPr/>
        </p:nvPicPr>
        <p:blipFill>
          <a:blip r:embed="rId3"/>
          <a:stretch/>
        </p:blipFill>
        <p:spPr>
          <a:xfrm>
            <a:off x="9796320" y="268200"/>
            <a:ext cx="214632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28600" y="0"/>
            <a:ext cx="858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8f8f8"/>
                  </a:solidFill>
                  <a:miter/>
                </a:ln>
                <a:solidFill>
                  <a:srgbClr val="ddddd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Формы тестовых заданий,</a:t>
            </a:r>
            <a:endParaRPr b="1" lang="en-US" sz="1800" spc="1" strike="noStrike">
              <a:ln w="9360">
                <a:solidFill>
                  <a:srgbClr val="f8f8f8"/>
                </a:solidFill>
                <a:miter/>
              </a:ln>
              <a:solidFill>
                <a:srgbClr val="ddddd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8f8f8"/>
                  </a:solidFill>
                  <a:miter/>
                </a:ln>
                <a:solidFill>
                  <a:srgbClr val="ddddd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олучившие наибольшее распространение:</a:t>
            </a:r>
            <a:endParaRPr b="1" lang="en-US" sz="1800" spc="1" strike="noStrike">
              <a:ln w="9360">
                <a:solidFill>
                  <a:srgbClr val="f8f8f8"/>
                </a:solidFill>
                <a:miter/>
              </a:ln>
              <a:solidFill>
                <a:srgbClr val="ddddd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447920"/>
            <a:ext cx="849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Закрытые тестовые задания </a:t>
            </a:r>
            <a:r>
              <a:rPr b="1" lang="ru-RU" sz="1800" spc="-1" strike="noStrike">
                <a:solidFill>
                  <a:srgbClr val="cc6600"/>
                </a:solidFill>
                <a:latin typeface="Tahoma"/>
              </a:rPr>
              <a:t>(с выбором правильного варианта отве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Открытые тестовые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Задания на установление соответ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6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Задания на установление правильной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WordArt 4" descr=""/>
          <p:cNvPicPr/>
          <p:nvPr/>
        </p:nvPicPr>
        <p:blipFill>
          <a:blip r:embed="rId2"/>
          <a:stretch/>
        </p:blipFill>
        <p:spPr>
          <a:xfrm>
            <a:off x="212760" y="5095800"/>
            <a:ext cx="871200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5" nodeType="afterEffect" fill="hold" presetClass="entr" presetID="21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WordArt 4" descr=""/>
          <p:cNvPicPr/>
          <p:nvPr/>
        </p:nvPicPr>
        <p:blipFill>
          <a:blip r:embed="rId2"/>
          <a:stretch/>
        </p:blipFill>
        <p:spPr>
          <a:xfrm>
            <a:off x="371520" y="225360"/>
            <a:ext cx="8339040" cy="1689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457200" y="25909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1980720"/>
            <a:ext cx="8580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00"/>
                </a:solidFill>
                <a:latin typeface="Arial"/>
              </a:rPr>
              <a:t>Разноуровневое</a:t>
            </a:r>
            <a:r>
              <a:rPr b="1" i="1" lang="ru-RU" sz="26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обучение - это такая организация учебно-воспитательного процесса, при которой КАЖДЫЙ учащихся имеет возможность овладевать учебным материалом в зависимости от ЕГО способностей и индивидуальных особенностей.  При этом за критерий оценки деятельности учащегося принимаются его УСИЛИЯ по овладению этим материалом, творческому его применен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8077320" y="62485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7"/>
          <p:cNvSpPr txBox="1"/>
          <p:nvPr/>
        </p:nvSpPr>
        <p:spPr>
          <a:xfrm>
            <a:off x="380880" y="228600"/>
            <a:ext cx="8153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овые технологии</a:t>
            </a:r>
            <a:endParaRPr b="0" lang="en-US" sz="2000" spc="1" strike="noStrike">
              <a:ln w="12600">
                <a:solidFill>
                  <a:srgbClr val="ff0066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380880" y="1295280"/>
            <a:ext cx="990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latin typeface="Arial"/>
              </a:rPr>
              <a:t>Игра</a:t>
            </a:r>
            <a:endParaRPr b="0" lang="en-US" sz="20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-15840" y="1000800"/>
            <a:ext cx="9159840" cy="5110920"/>
            <a:chOff x="-15840" y="1000800"/>
            <a:chExt cx="9159840" cy="5110920"/>
          </a:xfrm>
        </p:grpSpPr>
        <p:pic>
          <p:nvPicPr>
            <p:cNvPr id="115" name="Picture 5" descr="BD06982_"/>
            <p:cNvPicPr/>
            <p:nvPr/>
          </p:nvPicPr>
          <p:blipFill>
            <a:blip r:embed="rId2"/>
            <a:stretch/>
          </p:blipFill>
          <p:spPr>
            <a:xfrm>
              <a:off x="3886200" y="3733920"/>
              <a:ext cx="525780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9"/>
            <p:cNvSpPr txBox="1"/>
            <p:nvPr/>
          </p:nvSpPr>
          <p:spPr>
            <a:xfrm rot="19618800">
              <a:off x="0" y="1905120"/>
              <a:ext cx="36576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Деловые  игры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  <p:sp>
        <p:nvSpPr>
          <p:cNvPr id="117" name="WordArt 10"/>
          <p:cNvSpPr txBox="1"/>
          <p:nvPr/>
        </p:nvSpPr>
        <p:spPr>
          <a:xfrm rot="19933200">
            <a:off x="1371240" y="2362320"/>
            <a:ext cx="41529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идактические  игры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Picture 13" descr="J0232149"/>
          <p:cNvPicPr/>
          <p:nvPr/>
        </p:nvPicPr>
        <p:blipFill>
          <a:blip r:embed="rId7"/>
          <a:stretch/>
        </p:blipFill>
        <p:spPr>
          <a:xfrm>
            <a:off x="2038320" y="3733920"/>
            <a:ext cx="1495440" cy="16002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5"/>
          <p:cNvSpPr/>
          <p:nvPr/>
        </p:nvSpPr>
        <p:spPr>
          <a:xfrm>
            <a:off x="81532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6" descr="17"/>
          <p:cNvPicPr/>
          <p:nvPr/>
        </p:nvPicPr>
        <p:blipFill>
          <a:blip r:embed="rId8"/>
          <a:stretch/>
        </p:blipFill>
        <p:spPr>
          <a:xfrm>
            <a:off x="6553080" y="1676520"/>
            <a:ext cx="201960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J0232149"/>
          <p:cNvPicPr/>
          <p:nvPr/>
        </p:nvPicPr>
        <p:blipFill>
          <a:blip r:embed="rId9"/>
          <a:stretch/>
        </p:blipFill>
        <p:spPr>
          <a:xfrm>
            <a:off x="2057400" y="3733920"/>
            <a:ext cx="149544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21"/>
          <p:cNvSpPr txBox="1"/>
          <p:nvPr/>
        </p:nvSpPr>
        <p:spPr>
          <a:xfrm>
            <a:off x="5867280" y="1523880"/>
            <a:ext cx="327672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ff"/>
                    </a:gs>
                  </a:gsLst>
                  <a:lin ang="18900000"/>
                </a:gradFill>
                <a:latin typeface="Impact"/>
              </a:rPr>
              <a:t>компьютерные игр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00ff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grpSp>
        <p:nvGrpSpPr>
          <p:cNvPr id="123" name="Group 24"/>
          <p:cNvGrpSpPr/>
          <p:nvPr/>
        </p:nvGrpSpPr>
        <p:grpSpPr>
          <a:xfrm>
            <a:off x="5867280" y="1523880"/>
            <a:ext cx="3276720" cy="1652760"/>
            <a:chOff x="5867280" y="1523880"/>
            <a:chExt cx="3276720" cy="1652760"/>
          </a:xfrm>
        </p:grpSpPr>
        <p:pic>
          <p:nvPicPr>
            <p:cNvPr id="124" name="Picture 22" descr="17"/>
            <p:cNvPicPr/>
            <p:nvPr/>
          </p:nvPicPr>
          <p:blipFill>
            <a:blip r:embed="rId10"/>
            <a:stretch/>
          </p:blipFill>
          <p:spPr>
            <a:xfrm>
              <a:off x="6553080" y="1676520"/>
              <a:ext cx="20196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WordArt 23"/>
            <p:cNvSpPr txBox="1"/>
            <p:nvPr/>
          </p:nvSpPr>
          <p:spPr>
            <a:xfrm>
              <a:off x="5867280" y="1523880"/>
              <a:ext cx="3276720" cy="52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00ff"/>
                      </a:gs>
                    </a:gsLst>
                    <a:lin ang="18900000"/>
                  </a:gradFill>
                  <a:latin typeface="Impact"/>
                </a:rPr>
                <a:t>компьютерные игры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00ff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</p:grpSp>
    </p:spTree>
  </p:cSld>
  <p:transition spd="med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я современного проектного обучения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 rot="2725200">
            <a:off x="5052600" y="1042560"/>
            <a:ext cx="4714920" cy="4305240"/>
          </a:xfrm>
          <a:prstGeom prst="pie">
            <a:avLst/>
          </a:prstGeom>
          <a:solidFill>
            <a:srgbClr val="9933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J0343361"/>
          <p:cNvPicPr/>
          <p:nvPr/>
        </p:nvPicPr>
        <p:blipFill>
          <a:blip r:embed="rId2"/>
          <a:stretch/>
        </p:blipFill>
        <p:spPr>
          <a:xfrm>
            <a:off x="6324480" y="2590920"/>
            <a:ext cx="1949400" cy="173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26"/>
          <p:cNvPicPr/>
          <p:nvPr/>
        </p:nvPicPr>
        <p:blipFill>
          <a:blip r:embed="rId3"/>
          <a:stretch/>
        </p:blipFill>
        <p:spPr>
          <a:xfrm>
            <a:off x="2286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0"/>
          <p:cNvSpPr/>
          <p:nvPr/>
        </p:nvSpPr>
        <p:spPr>
          <a:xfrm>
            <a:off x="8077320" y="62485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533520" y="2286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27"/>
          <p:cNvSpPr txBox="1"/>
          <p:nvPr/>
        </p:nvSpPr>
        <p:spPr>
          <a:xfrm>
            <a:off x="623880" y="2133720"/>
            <a:ext cx="47102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вы понимаете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д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одом проек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28"/>
          <p:cNvSpPr txBox="1"/>
          <p:nvPr/>
        </p:nvSpPr>
        <p:spPr>
          <a:xfrm rot="418800">
            <a:off x="3886200" y="1676160"/>
            <a:ext cx="533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Franklin Gothic Medium"/>
              </a:rPr>
              <a:t>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134" name="WordArt 29"/>
          <p:cNvSpPr txBox="1"/>
          <p:nvPr/>
        </p:nvSpPr>
        <p:spPr>
          <a:xfrm rot="418800">
            <a:off x="838080" y="5409720"/>
            <a:ext cx="5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Franklin Gothic Medium"/>
              </a:rPr>
              <a:t>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135" name="WordArt 30"/>
          <p:cNvSpPr txBox="1"/>
          <p:nvPr/>
        </p:nvSpPr>
        <p:spPr>
          <a:xfrm rot="418800">
            <a:off x="3048120" y="5409720"/>
            <a:ext cx="533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Franklin Gothic Medium"/>
              </a:rPr>
              <a:t>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136" name="WordArt 31"/>
          <p:cNvSpPr txBox="1"/>
          <p:nvPr/>
        </p:nvSpPr>
        <p:spPr>
          <a:xfrm rot="418800">
            <a:off x="5029200" y="5409720"/>
            <a:ext cx="5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Franklin Gothic Medium"/>
              </a:rPr>
              <a:t>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Franklin Gothic Medium"/>
              <a:ea typeface="Franklin Gothic Medium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1"/>
          <p:cNvGrpSpPr/>
          <p:nvPr/>
        </p:nvGrpSpPr>
        <p:grpSpPr>
          <a:xfrm>
            <a:off x="0" y="4495680"/>
            <a:ext cx="3952800" cy="1841760"/>
            <a:chOff x="0" y="4495680"/>
            <a:chExt cx="3952800" cy="1841760"/>
          </a:xfrm>
        </p:grpSpPr>
        <p:sp>
          <p:nvSpPr>
            <p:cNvPr id="138" name="AutoShape 12"/>
            <p:cNvSpPr/>
            <p:nvPr/>
          </p:nvSpPr>
          <p:spPr>
            <a:xfrm>
              <a:off x="0" y="4495680"/>
              <a:ext cx="3952800" cy="18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13"/>
            <p:cNvGrpSpPr/>
            <p:nvPr/>
          </p:nvGrpSpPr>
          <p:grpSpPr>
            <a:xfrm>
              <a:off x="0" y="4495680"/>
              <a:ext cx="3952440" cy="1841760"/>
              <a:chOff x="0" y="4495680"/>
              <a:chExt cx="3952440" cy="1841760"/>
            </a:xfrm>
          </p:grpSpPr>
          <p:sp>
            <p:nvSpPr>
              <p:cNvPr id="140" name="Freeform 14"/>
              <p:cNvSpPr/>
              <p:nvPr/>
            </p:nvSpPr>
            <p:spPr>
              <a:xfrm>
                <a:off x="2099880" y="5202360"/>
                <a:ext cx="1397520" cy="10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2099880" y="5202360"/>
                <a:ext cx="1397520" cy="1060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0" y="4693320"/>
                <a:ext cx="3562560" cy="16441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0" y="4693320"/>
                <a:ext cx="3562560" cy="1644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18"/>
              <p:cNvSpPr/>
              <p:nvPr/>
            </p:nvSpPr>
            <p:spPr>
              <a:xfrm>
                <a:off x="97560" y="5437440"/>
                <a:ext cx="1983600" cy="49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19"/>
              <p:cNvSpPr/>
              <p:nvPr/>
            </p:nvSpPr>
            <p:spPr>
              <a:xfrm flipH="1">
                <a:off x="2147400" y="5330520"/>
                <a:ext cx="1247040" cy="78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 flipV="1">
                <a:off x="2176560" y="5471640"/>
                <a:ext cx="1065960" cy="67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 flipV="1">
                <a:off x="2197800" y="5788440"/>
                <a:ext cx="625320" cy="40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>
                <a:off x="2634120" y="5653440"/>
                <a:ext cx="753840" cy="41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23"/>
              <p:cNvSpPr/>
              <p:nvPr/>
            </p:nvSpPr>
            <p:spPr>
              <a:xfrm>
                <a:off x="2634120" y="5653440"/>
                <a:ext cx="753840" cy="416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>
                <a:off x="2634120" y="5653440"/>
                <a:ext cx="753840" cy="4161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>
                <a:off x="232560" y="5478840"/>
                <a:ext cx="783000" cy="5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>
                <a:off x="232560" y="5478840"/>
                <a:ext cx="783000" cy="5166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>
                <a:off x="403200" y="4495680"/>
                <a:ext cx="3447360" cy="114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28"/>
              <p:cNvSpPr/>
              <p:nvPr/>
            </p:nvSpPr>
            <p:spPr>
              <a:xfrm>
                <a:off x="552600" y="4581360"/>
                <a:ext cx="3217320" cy="9090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29"/>
              <p:cNvSpPr/>
              <p:nvPr/>
            </p:nvSpPr>
            <p:spPr>
              <a:xfrm>
                <a:off x="305280" y="4632480"/>
                <a:ext cx="3647160" cy="11019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403200" y="4495680"/>
                <a:ext cx="3447360" cy="1143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31"/>
              <p:cNvSpPr/>
              <p:nvPr/>
            </p:nvSpPr>
            <p:spPr>
              <a:xfrm>
                <a:off x="858240" y="5481360"/>
                <a:ext cx="178200" cy="157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32"/>
              <p:cNvSpPr/>
              <p:nvPr/>
            </p:nvSpPr>
            <p:spPr>
              <a:xfrm>
                <a:off x="2372400" y="5439960"/>
                <a:ext cx="7920" cy="78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1925280" y="4560480"/>
                <a:ext cx="436320" cy="86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WordArt 4"/>
          <p:cNvSpPr txBox="1"/>
          <p:nvPr/>
        </p:nvSpPr>
        <p:spPr>
          <a:xfrm>
            <a:off x="990720" y="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ное обучение</a:t>
            </a:r>
            <a:endParaRPr b="0" lang="en-US" sz="20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6"/>
          <p:cNvSpPr txBox="1"/>
          <p:nvPr/>
        </p:nvSpPr>
        <p:spPr>
          <a:xfrm>
            <a:off x="380880" y="1371600"/>
            <a:ext cx="8325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ния  – дети удивления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юбопытства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124080" y="3733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Луи де Бр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8077320" y="62485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4" descr="collage"/>
          <p:cNvPicPr/>
          <p:nvPr/>
        </p:nvPicPr>
        <p:blipFill>
          <a:blip r:embed="rId9"/>
          <a:srcRect l="0" t="35006" r="55002" b="0"/>
          <a:stretch/>
        </p:blipFill>
        <p:spPr>
          <a:xfrm>
            <a:off x="5943600" y="45720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685800" y="228600"/>
            <a:ext cx="769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ТЕРАКТИВНЫЕ ТЕХНОЛОГИИ</a:t>
            </a:r>
            <a:endParaRPr b="0" lang="en-US" sz="2000" spc="1" strike="noStrike">
              <a:ln w="32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WordArt 29" descr=""/>
          <p:cNvPicPr/>
          <p:nvPr/>
        </p:nvPicPr>
        <p:blipFill>
          <a:blip r:embed="rId4"/>
          <a:stretch/>
        </p:blipFill>
        <p:spPr>
          <a:xfrm>
            <a:off x="212760" y="1206360"/>
            <a:ext cx="8937720" cy="21099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1"/>
          <p:cNvSpPr txBox="1"/>
          <p:nvPr/>
        </p:nvSpPr>
        <p:spPr>
          <a:xfrm>
            <a:off x="5791320" y="2743200"/>
            <a:ext cx="3352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cc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нард Шоу</a:t>
            </a:r>
            <a:endParaRPr b="0" lang="en-US" sz="2000" spc="1" strike="noStrike">
              <a:ln w="12600">
                <a:solidFill>
                  <a:srgbClr val="cc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33" descr="teachers%20day"/>
          <p:cNvPicPr/>
          <p:nvPr/>
        </p:nvPicPr>
        <p:blipFill>
          <a:blip r:embed="rId7"/>
          <a:stretch/>
        </p:blipFill>
        <p:spPr>
          <a:xfrm>
            <a:off x="304920" y="3505320"/>
            <a:ext cx="3047760" cy="30477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5"/>
          <p:cNvSpPr/>
          <p:nvPr/>
        </p:nvSpPr>
        <p:spPr>
          <a:xfrm>
            <a:off x="8077320" y="62485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685800" y="609480"/>
            <a:ext cx="6248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хнология  дискуссии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1" name="Picture 6" descr="3"/>
          <p:cNvPicPr/>
          <p:nvPr/>
        </p:nvPicPr>
        <p:blipFill>
          <a:blip r:embed="rId2"/>
          <a:stretch/>
        </p:blipFill>
        <p:spPr>
          <a:xfrm>
            <a:off x="228600" y="1828800"/>
            <a:ext cx="2724120" cy="187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3"/>
          <a:srcRect l="0" t="0" r="0" b="4055"/>
          <a:stretch/>
        </p:blipFill>
        <p:spPr>
          <a:xfrm>
            <a:off x="3124080" y="1371600"/>
            <a:ext cx="1952640" cy="27432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13"/>
          <p:cNvSpPr txBox="1"/>
          <p:nvPr/>
        </p:nvSpPr>
        <p:spPr>
          <a:xfrm>
            <a:off x="762120" y="3657600"/>
            <a:ext cx="7781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годня  генеральная линия - это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  единственно правильное решение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 дискуссия  и  поиск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5943600" y="5410080"/>
            <a:ext cx="29811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.А. Явл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J0343343"/>
          <p:cNvPicPr/>
          <p:nvPr/>
        </p:nvPicPr>
        <p:blipFill>
          <a:blip r:embed="rId2"/>
          <a:stretch/>
        </p:blipFill>
        <p:spPr>
          <a:xfrm>
            <a:off x="304920" y="3581280"/>
            <a:ext cx="2928960" cy="304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26"/>
          <p:cNvPicPr/>
          <p:nvPr/>
        </p:nvPicPr>
        <p:blipFill>
          <a:blip r:embed="rId3"/>
          <a:stretch/>
        </p:blipFill>
        <p:spPr>
          <a:xfrm>
            <a:off x="0" y="152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0223740"/>
          <p:cNvPicPr/>
          <p:nvPr/>
        </p:nvPicPr>
        <p:blipFill>
          <a:blip r:embed="rId4"/>
          <a:stretch/>
        </p:blipFill>
        <p:spPr>
          <a:xfrm>
            <a:off x="6095880" y="3581280"/>
            <a:ext cx="2781360" cy="30099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0"/>
          <p:cNvSpPr txBox="1"/>
          <p:nvPr/>
        </p:nvSpPr>
        <p:spPr>
          <a:xfrm>
            <a:off x="533520" y="228600"/>
            <a:ext cx="82296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ЖЕЛАЕМ УСПЕХ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В ИСПОЛЬЗОВАН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Times New Roman"/>
              </a:rPr>
              <a:t>ОБРАЗОВАТЕЛЬНЫХ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Times New Roman"/>
              </a:rPr>
              <a:t>И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Times New Roman"/>
              </a:rPr>
              <a:t>ПЕДАГОГОЧЕСКИХ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Times New Roman"/>
              </a:rPr>
              <a:t>ТЕХНОЛОГИЙ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819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8f8f8"/>
                </a:solidFill>
                <a:latin typeface="Times New Roman"/>
              </a:rPr>
              <a:t>Технология - наука о мастерстве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0" y="15840"/>
          <a:ext cx="2438280" cy="238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40"/>
                    <a:ext cx="243828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4"/>
          <p:cNvSpPr/>
          <p:nvPr/>
        </p:nvSpPr>
        <p:spPr>
          <a:xfrm>
            <a:off x="2590920" y="0"/>
            <a:ext cx="58672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8f8f8"/>
                </a:solidFill>
                <a:latin typeface="Arial"/>
              </a:rPr>
              <a:t>«Технология» </a:t>
            </a:r>
            <a:br>
              <a:rPr sz="4000"/>
            </a:b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echne</a:t>
            </a:r>
            <a:r>
              <a:rPr b="1" i="1" lang="en-US" sz="4000" spc="-1" strike="noStrike">
                <a:solidFill>
                  <a:srgbClr val="f8f8f8"/>
                </a:solidFill>
                <a:latin typeface="Arial"/>
              </a:rPr>
              <a:t> - искусство, </a:t>
            </a:r>
            <a:r>
              <a:rPr b="1" i="1" lang="ru-RU" sz="4000" spc="-1" strike="noStrike">
                <a:solidFill>
                  <a:srgbClr val="f8f8f8"/>
                </a:solidFill>
                <a:latin typeface="Arial"/>
              </a:rPr>
              <a:t>мастерство</a:t>
            </a:r>
            <a:r>
              <a:rPr b="1" i="1" lang="en-US" sz="4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logos  </a:t>
            </a:r>
            <a:r>
              <a:rPr b="1" lang="ru-RU" sz="4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8f8f8"/>
                </a:solidFill>
                <a:latin typeface="Arial"/>
              </a:rPr>
              <a:t>- наука, зак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0232149"/>
          <p:cNvPicPr/>
          <p:nvPr/>
        </p:nvPicPr>
        <p:blipFill>
          <a:blip r:embed="rId4"/>
          <a:stretch/>
        </p:blipFill>
        <p:spPr>
          <a:xfrm>
            <a:off x="7721640" y="685800"/>
            <a:ext cx="142236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343361"/>
          <p:cNvPicPr/>
          <p:nvPr/>
        </p:nvPicPr>
        <p:blipFill>
          <a:blip r:embed="rId5"/>
          <a:stretch/>
        </p:blipFill>
        <p:spPr>
          <a:xfrm>
            <a:off x="7194600" y="4876920"/>
            <a:ext cx="1949400" cy="17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bd07226_"/>
          <p:cNvPicPr/>
          <p:nvPr/>
        </p:nvPicPr>
        <p:blipFill>
          <a:blip r:embed="rId6"/>
          <a:stretch/>
        </p:blipFill>
        <p:spPr>
          <a:xfrm>
            <a:off x="0" y="4876920"/>
            <a:ext cx="147960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152280" y="4114800"/>
            <a:ext cx="8991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8f8f8"/>
                </a:solidFill>
                <a:latin typeface="Times New Roman"/>
              </a:rPr>
              <a:t>Педагогическая технология - учение о педагогическом искусстве, мастер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3366ff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66068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8600" y="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личают 4 позиции научного понимания и употребления термина «педагогическая технологи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838080"/>
            <a:ext cx="914400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9656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агогические технолог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средство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.е. как производство и применение методического инструментария, аппаратуры, учебного оборудования и ТСО для учебного проце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9656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ую точку зрения отстаивают В.Бухвалов, В.Паламарчук, Б.Т. Лихачев, С.А. Смирнов, Н.Б. Крылова, Р де Киффер, М. Май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9656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агогические технолог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способ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.е. это процесс коммуникации (способ, модель, техника выполнения учебных задач), основанный на определенном алгоритме, программе, системе взаимодействия участников педагогического проце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96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ую точку зрения представляют В.П. Беспалько, М.А. Чоханов, В.А. Сластенин, В.М. Монахов, А.М. Кушнир, Б. Скинер, С. Гибсон, Т. Сакамото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96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ко к данной позиции понимание педагогической технологии и как искусства, мастерства преподавания,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3366ff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66068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4572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личают 4 позиции научного понимания и употребления термина «педагогическая технология»: (продолж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1295280"/>
            <a:ext cx="9144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Педагогические технолог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научное направление</a:t>
            </a: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ители этой позиции: П.И. Пидкасистый, В.В. Гузеев, М. Эраут, Р. Кауфман, С. Ведемейер. Они рассматри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ую технологию как  обширную область знания, опирающуюся на данные социальных, управленческих и естественных на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агогические технолог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многомерное понят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 позиция представляет собой многоаспектный подход и предлагает рассматрив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ие технологии как многомерный проц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мнение В.И. Боголюбова, М.В. Кларина, В.В. Давыдова, Г.К. Селевко, Е.В. Коротаевой, В.Э. Штейнберга, Д.Финна, К. Силбера, П. Митчелла, Р. Тома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3366ff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дагогическая</a:t>
            </a:r>
            <a:br>
              <a:rPr sz="44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(образовательная)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технология -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то система функционирования всех компонентов педагогического процесса, построенная на научной основе, запрограммированная во времени и пространстве и приводящая к намеченным результатам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/Г.К. Селевко/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660680" y="4572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1600200" cy="15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ительные возможности образовательных технологий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28600" y="990720"/>
            <a:ext cx="8610480" cy="5867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26"/>
          <p:cNvPicPr/>
          <p:nvPr/>
        </p:nvPicPr>
        <p:blipFill>
          <a:blip r:embed="rId2"/>
          <a:stretch/>
        </p:blipFill>
        <p:spPr>
          <a:xfrm>
            <a:off x="228600" y="152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179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спользование различных технологий на уро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dfd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fdf"/>
                </a:solidFill>
                <a:latin typeface="Arial"/>
              </a:rPr>
              <a:t>способству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fdf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fdf"/>
                </a:solidFill>
                <a:latin typeface="Arial"/>
              </a:rPr>
              <a:t>формированию у студен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теоретических зна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практических ум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ценностных ориента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dfd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fdf"/>
                </a:solidFill>
                <a:latin typeface="Arial"/>
              </a:rPr>
              <a:t>развив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познавательную актив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положительные эмо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память и  мышл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самостоя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dfdf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fdf"/>
                </a:solidFill>
                <a:latin typeface="Arial"/>
              </a:rPr>
              <a:t>ориентирует отвечать на вопрос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кт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чт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ка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dfdf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fdf"/>
                </a:solidFill>
                <a:latin typeface="Arial"/>
              </a:rPr>
              <a:t>зачем?</a:t>
            </a:r>
            <a:r>
              <a:rPr b="1" lang="ru-RU" sz="1000" spc="-1" strike="noStrike">
                <a:solidFill>
                  <a:srgbClr val="dfdfd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dfdfdf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Табл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6"/>
          <p:cNvPicPr/>
          <p:nvPr/>
        </p:nvPicPr>
        <p:blipFill>
          <a:blip r:embed="rId2"/>
          <a:stretch/>
        </p:blipFill>
        <p:spPr>
          <a:xfrm>
            <a:off x="228600" y="304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5"/>
          <p:cNvSpPr/>
          <p:nvPr/>
        </p:nvSpPr>
        <p:spPr>
          <a:xfrm>
            <a:off x="3200400" y="2133720"/>
            <a:ext cx="2438280" cy="2286000"/>
          </a:xfrm>
          <a:prstGeom prst="octagon">
            <a:avLst>
              <a:gd name="adj" fmla="val 28606"/>
            </a:avLst>
          </a:prstGeom>
          <a:solidFill>
            <a:srgbClr val="dddddd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врем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даг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6">
            <a:hlinkClick r:id="rId3" action="ppaction://hlinksldjump"/>
          </p:cNvPr>
          <p:cNvSpPr/>
          <p:nvPr/>
        </p:nvSpPr>
        <p:spPr>
          <a:xfrm>
            <a:off x="1219320" y="304920"/>
            <a:ext cx="2971800" cy="1218960"/>
          </a:xfrm>
          <a:prstGeom prst="wedgeRoundRectCallout">
            <a:avLst>
              <a:gd name="adj1" fmla="val 25587"/>
              <a:gd name="adj2" fmla="val 130861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но-ориентированные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7">
            <a:hlinkClick r:id="rId4" action="ppaction://hlinksldjump"/>
          </p:cNvPr>
          <p:cNvSpPr/>
          <p:nvPr/>
        </p:nvSpPr>
        <p:spPr>
          <a:xfrm>
            <a:off x="228600" y="2590920"/>
            <a:ext cx="2286000" cy="1295280"/>
          </a:xfrm>
          <a:prstGeom prst="wedgeRoundRectCallout">
            <a:avLst>
              <a:gd name="adj1" fmla="val 80138"/>
              <a:gd name="adj2" fmla="val 22796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ное обуч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304920" y="4419720"/>
            <a:ext cx="2286000" cy="838080"/>
          </a:xfrm>
          <a:prstGeom prst="wedgeRoundRectCallout">
            <a:avLst>
              <a:gd name="adj1" fmla="val 87708"/>
              <a:gd name="adj2" fmla="val -115342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вые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6019920" y="3124080"/>
            <a:ext cx="2819160" cy="1447920"/>
          </a:xfrm>
          <a:prstGeom prst="wedgeRoundRectCallout">
            <a:avLst>
              <a:gd name="adj1" fmla="val -71337"/>
              <a:gd name="adj2" fmla="val 14912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современного проектного обуч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4952880" y="228600"/>
            <a:ext cx="2590920" cy="1143000"/>
          </a:xfrm>
          <a:prstGeom prst="wedgeRoundRectCallout">
            <a:avLst>
              <a:gd name="adj1" fmla="val -48773"/>
              <a:gd name="adj2" fmla="val 112083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разноуровневого обуч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5410080" y="4876920"/>
            <a:ext cx="2438640" cy="914400"/>
          </a:xfrm>
          <a:prstGeom prst="wedgeRoundRectCallout">
            <a:avLst>
              <a:gd name="adj1" fmla="val -59699"/>
              <a:gd name="adj2" fmla="val -122398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активные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3"/>
          <p:cNvSpPr/>
          <p:nvPr/>
        </p:nvSpPr>
        <p:spPr>
          <a:xfrm>
            <a:off x="6095880" y="1752480"/>
            <a:ext cx="2667240" cy="1067040"/>
          </a:xfrm>
          <a:prstGeom prst="wedgeRoundRectCallout">
            <a:avLst>
              <a:gd name="adj1" fmla="val -73513"/>
              <a:gd name="adj2" fmla="val 23513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дискусс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2819520" y="5105520"/>
            <a:ext cx="2057400" cy="914400"/>
          </a:xfrm>
          <a:prstGeom prst="wedgeRoundRectCallout">
            <a:avLst>
              <a:gd name="adj1" fmla="val 23842"/>
              <a:gd name="adj2" fmla="val -128300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ов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57200" y="6019920"/>
            <a:ext cx="121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609480"/>
            <a:ext cx="60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9191"/>
                </a:solidFill>
                <a:latin typeface="Times New Roman"/>
              </a:rPr>
              <a:t>ТЕХН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611280" y="476280"/>
            <a:ext cx="2130480" cy="1613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сследовательская (проблемно-поискова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743200" y="765000"/>
            <a:ext cx="6186600" cy="11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bf"/>
              </a:gs>
              <a:gs pos="50000">
                <a:srgbClr val="ffffff"/>
              </a:gs>
              <a:gs pos="100000">
                <a:srgbClr val="ffbfbf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Характерной чертой этой технологии является реализация педагогом модели 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"обучение  через открытие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539640" y="2708280"/>
            <a:ext cx="2102040" cy="1613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bf9f"/>
              </a:gs>
              <a:gs pos="50000">
                <a:srgbClr val="ffffff"/>
              </a:gs>
              <a:gs pos="100000">
                <a:srgbClr val="ffbf9f"/>
              </a:gs>
            </a:gsLst>
            <a:lin ang="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ммуникатив-ная (дискуссионная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590920" y="2637000"/>
            <a:ext cx="6352920" cy="179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Особенностью этой технологии  является </a:t>
            </a:r>
            <a:r>
              <a:rPr b="1" i="1" lang="ru-RU" sz="2000" spc="-1" strike="noStrike">
                <a:solidFill>
                  <a:srgbClr val="9933ff"/>
                </a:solidFill>
                <a:latin typeface="Times New Roman"/>
              </a:rPr>
              <a:t>наличие дискуссий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, характеризующихся различными  точками зрения по изучаемым вопросам, сопоставлением их, поиском за счет обсуждения истинной точки з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611280" y="5013360"/>
            <a:ext cx="2133360" cy="1613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митационного моделирования (игрова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2743200" y="5084640"/>
            <a:ext cx="624060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Характерной чертой этой технологии  является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моделирование жизненно важных профессиональных затруднений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в образовательном пространстве и поиск путей их решения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143000" y="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fdfdf"/>
                </a:solidFill>
                <a:latin typeface="Arial"/>
              </a:rPr>
              <a:t>ЛИЧНОСТНО-ОРИЕНТИРОВ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92280"/>
            <a:ext cx="47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9191"/>
                </a:solidFill>
                <a:latin typeface="Times New Roman"/>
              </a:rPr>
              <a:t>ТЕХН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539640" y="260280"/>
            <a:ext cx="2133720" cy="210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сихологичес-кая (самоопределен-ческа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590920" y="533520"/>
            <a:ext cx="6350040" cy="172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Характерной чертой этой технологии  является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амоопределение обучаемого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к выполнению той или иной образова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611280" y="2421000"/>
            <a:ext cx="2133360" cy="2121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еятельност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2666880" y="2590920"/>
            <a:ext cx="6248520" cy="172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Характерной чертой этой технологии является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пособность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обучаем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проектировать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предстоящую деятельность, быть ее субъек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539640" y="4581360"/>
            <a:ext cx="2133720" cy="2121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ефлекси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2514600" y="4343400"/>
            <a:ext cx="6629400" cy="233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</a:rPr>
              <a:t>Особенностью этой технологии  является осознание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бучаемого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</a:rPr>
              <a:t>деятельности</a:t>
            </a:r>
            <a:r>
              <a:rPr b="1" i="1" lang="ru-RU" sz="2200" spc="-1" strike="noStrike">
                <a:solidFill>
                  <a:srgbClr val="ff6600"/>
                </a:solidFill>
                <a:latin typeface="Times New Roman"/>
              </a:rPr>
              <a:t>: того как, каким способом получен результат, какие при этом встречались затруднения , как они были устранены, и что чувствовал 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</a:rPr>
              <a:t>обучаем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ff6600"/>
                </a:solidFill>
                <a:latin typeface="Times New Roman"/>
              </a:rPr>
              <a:t>при этом</a:t>
            </a:r>
            <a:r>
              <a:rPr b="1" i="1" lang="ru-RU" sz="2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14600" y="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ЧНОСТНО-ОРИЕНТИРОВ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8077320" y="655308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0743" y="3794"/>
                </a:moveTo>
                <a:lnTo>
                  <a:pt x="44756" y="10800"/>
                </a:lnTo>
                <a:lnTo>
                  <a:pt x="30743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leva</cp:lastModifiedBy>
  <dcterms:modified xsi:type="dcterms:W3CDTF">2014-02-23T17:33:33Z</dcterms:modified>
  <cp:revision>1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