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8.jpeg" ContentType="image/jpeg"/>
  <Override PartName="/ppt/media/image21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2.gif" ContentType="image/gif"/>
  <Override PartName="/ppt/media/image20.wmf" ContentType="image/x-wmf"/>
  <Override PartName="/ppt/media/image4.png" ContentType="image/png"/>
  <Override PartName="/ppt/media/image14.gif" ContentType="image/gif"/>
  <Override PartName="/ppt/media/image1.wmf" ContentType="image/x-wmf"/>
  <Override PartName="/ppt/media/image2.jpeg" ContentType="image/jpe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956-5796-45C2-9991-17E82F69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02B-5D5B-4CB9-9D79-C5B0DFCF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AF2-7891-4F51-90A4-413DD52F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5B5-B11D-44F2-ADBE-3451EA0C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7C10-1895-44D2-A081-06E3A2D9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215D-F183-4BCB-9B8A-9E2DD88B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BF77-79F2-42EF-B5D7-73A7EBB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71DD-EA04-4F5A-9E18-F29051ED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CA3D-258B-48F6-95D2-451E1335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F2AD-2CC3-463C-8521-7B91AED3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F6D9-DBF5-45B0-AEBC-2F151B1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24F-B115-40FB-A76C-2A8EE256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BF12-C5CE-4467-BBDA-0EFE3A12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00B1-6F9E-4F8F-958F-CFF59115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B8DF-9483-4145-816C-106D04DA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10D9-4D03-415E-BB0B-E5356A45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D986-E07B-4E81-B569-AB84A493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2EEA-69F3-434F-8E43-9164C665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EC4E-8B4D-4C9C-BD87-B42365CF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24D0-A09B-4203-8702-65DEA661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DE7C-ADD4-476B-BFAC-4F34D75F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8C1F-47D3-4E6F-AC8E-3DCD9B5B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E82-931A-46D8-9849-5E703D5F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52C0-9C59-41C1-A9F2-00EEA1B8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F805-3D08-49A7-9A9E-CB82EA7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C8F0-F7DE-4232-AE9A-D5116252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D3C4-5B47-49C9-A848-C68BF22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1F56-D4C3-411C-B51F-FB18531E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83E3-ACE6-4A69-9C0B-C45F00A6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4A62-A4E1-44B5-9F09-86A650E8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A802-BBA3-4675-A07C-845187B5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9881-1677-40FE-9234-86BA3B14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85B0-B8E7-4043-B5C1-45971783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395-FA27-484C-82BE-EA7CB73D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7978-6045-40CF-ABD1-940B3ABD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A904-956B-4771-9B15-445EAB42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1BD2-95BA-4781-A82D-2D0D1C90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C7F9-7AE8-46C0-A64A-B985B1E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1AE19-D091-4873-BD2D-6E0F361A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88DC-F4DB-4CE2-8594-D66A5E5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E2AC-0412-45C8-A094-3ECCE86F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92C76-F26E-4B8B-A005-D399CC72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92292-2B06-471D-911A-84346787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9CB05-5C9E-456E-B700-D5D3AA5F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CE4-870F-4653-AA4E-4ACA4CBF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BB4DB-A9BE-4026-AA72-DA891AA8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AA7F1-FC33-4FA7-82DF-AFBC01D6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AABD7-077B-4DB2-8C11-05FA84ED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745E1-E2AE-4CC7-80AC-8C585441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1D26B-4BEF-4168-95BE-11D5397F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0EC46-23B1-4255-8B1C-E20D74E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B6902-85B1-4EE6-8958-E3EA9CBE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56F20-0EC3-49CA-9619-BE2D6685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1D35B-2A66-4FB3-A1F9-910E80A7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18F6A-6C15-4EBD-B872-FE8084C5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AB4-B0F9-4A35-88D3-1792CED9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B0F3D-EDA9-4573-9FE4-9BDD2B4C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AD9-56CF-4431-87AB-D85D9E9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03F-B9BA-4BCD-83EE-79DAF04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7DC-6A4D-413A-A509-18F51DE3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7FCD-FAE5-473C-8C46-B49D125878E6}" type="slidenum">
              <a:rPr b="0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9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6FB5-AFBD-4A50-93D9-E8D0580EB9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46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147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8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6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64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65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7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68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69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72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73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4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76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77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9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9339-0F83-4FB5-913D-546B88CA71DE}" type="slidenum">
              <a:rPr b="0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2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3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3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3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35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23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0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41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242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43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45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246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7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8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5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5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5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C664-65C8-4EF2-8C1F-FEB89D674A72}" type="slidenum">
              <a:rPr b="0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1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1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1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2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8CED-C648-4C24-B8BC-E87743CDC3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63280" y="596520"/>
            <a:ext cx="738036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e3e3ff"/>
                </a:solidFill>
                <a:latin typeface="Comic Sans MS"/>
              </a:rPr>
              <a:t>«Путешествие в английский язык»</a:t>
            </a:r>
            <a:endParaRPr b="0" lang="en-US" sz="63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WordArt 4"/>
          <p:cNvSpPr txBox="1"/>
          <p:nvPr/>
        </p:nvSpPr>
        <p:spPr>
          <a:xfrm>
            <a:off x="2195640" y="364500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aramond"/>
              </a:rPr>
              <a:t>WELCOM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cc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375" name="Picture 5" descr="BD06662_"/>
          <p:cNvPicPr/>
          <p:nvPr/>
        </p:nvPicPr>
        <p:blipFill>
          <a:blip r:embed="rId1"/>
          <a:stretch/>
        </p:blipFill>
        <p:spPr>
          <a:xfrm>
            <a:off x="0" y="4437000"/>
            <a:ext cx="252108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"/>
          <p:cNvSpPr/>
          <p:nvPr/>
        </p:nvSpPr>
        <p:spPr>
          <a:xfrm>
            <a:off x="1692360" y="404640"/>
            <a:ext cx="5790960" cy="9558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11" name="Picture 3" descr="000803_1063_4736_vnvv"/>
          <p:cNvPicPr/>
          <p:nvPr/>
        </p:nvPicPr>
        <p:blipFill>
          <a:blip r:embed="rId1"/>
          <a:stretch/>
        </p:blipFill>
        <p:spPr>
          <a:xfrm>
            <a:off x="-92160" y="952560"/>
            <a:ext cx="1844640" cy="1878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000803_1063_4716_vnvv"/>
          <p:cNvPicPr/>
          <p:nvPr/>
        </p:nvPicPr>
        <p:blipFill>
          <a:blip r:embed="rId2"/>
          <a:stretch/>
        </p:blipFill>
        <p:spPr>
          <a:xfrm>
            <a:off x="7419960" y="785880"/>
            <a:ext cx="1724040" cy="16430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7"/>
          <p:cNvSpPr/>
          <p:nvPr/>
        </p:nvSpPr>
        <p:spPr>
          <a:xfrm>
            <a:off x="500040" y="1428840"/>
            <a:ext cx="8643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 B C D E F G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 I J K L M N O P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Q R S T U V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 X Y Z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h, well you see 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ow I know the ABC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14" name="Picture 9" descr="0007"/>
          <p:cNvPicPr/>
          <p:nvPr/>
        </p:nvPicPr>
        <p:blipFill>
          <a:blip r:embed="rId3"/>
          <a:stretch/>
        </p:blipFill>
        <p:spPr>
          <a:xfrm>
            <a:off x="785880" y="3286080"/>
            <a:ext cx="2133360" cy="1066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0007"/>
          <p:cNvPicPr/>
          <p:nvPr/>
        </p:nvPicPr>
        <p:blipFill>
          <a:blip r:embed="rId4"/>
          <a:stretch/>
        </p:blipFill>
        <p:spPr>
          <a:xfrm>
            <a:off x="380880" y="45720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416" name="WordArt 1029"/>
          <p:cNvSpPr txBox="1"/>
          <p:nvPr/>
        </p:nvSpPr>
        <p:spPr>
          <a:xfrm>
            <a:off x="2484360" y="549360"/>
            <a:ext cx="4175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BC</a:t>
            </a:r>
            <a:endParaRPr b="0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5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Georgia"/>
              </a:rPr>
              <a:t>homework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ex 8, p. 54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4"/>
          <p:cNvSpPr txBox="1"/>
          <p:nvPr/>
        </p:nvSpPr>
        <p:spPr>
          <a:xfrm>
            <a:off x="1143000" y="2071800"/>
            <a:ext cx="76024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od-bye!</a:t>
            </a:r>
            <a:endParaRPr b="0" lang="en-US" sz="287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7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Мор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OBL-32"/>
          <p:cNvPicPr/>
          <p:nvPr/>
        </p:nvPicPr>
        <p:blipFill>
          <a:blip r:embed="rId2"/>
          <a:stretch/>
        </p:blipFill>
        <p:spPr>
          <a:xfrm rot="20758200">
            <a:off x="7386480" y="1896840"/>
            <a:ext cx="1332000" cy="1584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OBL-32"/>
          <p:cNvPicPr/>
          <p:nvPr/>
        </p:nvPicPr>
        <p:blipFill>
          <a:blip r:embed="rId3"/>
          <a:stretch/>
        </p:blipFill>
        <p:spPr>
          <a:xfrm rot="747000">
            <a:off x="0" y="259920"/>
            <a:ext cx="1292400" cy="1440000"/>
          </a:xfrm>
          <a:prstGeom prst="rect">
            <a:avLst/>
          </a:prstGeom>
          <a:ln w="0">
            <a:noFill/>
          </a:ln>
        </p:spPr>
      </p:pic>
      <p:pic>
        <p:nvPicPr>
          <p:cNvPr id="379" name="WordArt 15" descr=""/>
          <p:cNvPicPr/>
          <p:nvPr/>
        </p:nvPicPr>
        <p:blipFill>
          <a:blip r:embed="rId4"/>
          <a:stretch/>
        </p:blipFill>
        <p:spPr>
          <a:xfrm>
            <a:off x="847800" y="3992400"/>
            <a:ext cx="6875280" cy="1586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1" descr="0031"/>
          <p:cNvPicPr/>
          <p:nvPr/>
        </p:nvPicPr>
        <p:blipFill>
          <a:blip r:embed="rId5"/>
          <a:stretch/>
        </p:blipFill>
        <p:spPr>
          <a:xfrm>
            <a:off x="5148360" y="189000"/>
            <a:ext cx="1655640" cy="704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7" descr="0032"/>
          <p:cNvPicPr/>
          <p:nvPr/>
        </p:nvPicPr>
        <p:blipFill>
          <a:blip r:embed="rId6"/>
          <a:stretch/>
        </p:blipFill>
        <p:spPr>
          <a:xfrm>
            <a:off x="1332000" y="333360"/>
            <a:ext cx="2971800" cy="100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3" descr="корабль - 01"/>
          <p:cNvPicPr/>
          <p:nvPr/>
        </p:nvPicPr>
        <p:blipFill>
          <a:blip r:embed="rId7"/>
          <a:stretch/>
        </p:blipFill>
        <p:spPr>
          <a:xfrm>
            <a:off x="2268360" y="692280"/>
            <a:ext cx="4392720" cy="2952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8" descr="0024"/>
          <p:cNvPicPr/>
          <p:nvPr/>
        </p:nvPicPr>
        <p:blipFill>
          <a:blip r:embed="rId8"/>
          <a:stretch/>
        </p:blipFill>
        <p:spPr>
          <a:xfrm>
            <a:off x="250920" y="260280"/>
            <a:ext cx="3647880" cy="362160"/>
          </a:xfrm>
          <a:prstGeom prst="rect">
            <a:avLst/>
          </a:prstGeom>
          <a:ln w="0">
            <a:noFill/>
          </a:ln>
        </p:spPr>
      </p:pic>
      <p:pic>
        <p:nvPicPr>
          <p:cNvPr id="384" name="Чайк923.wav" descr=""/>
          <p:cNvPicPr/>
          <p:nvPr/>
        </p:nvPicPr>
        <p:blipFill>
          <a:blip r:embed="rId9"/>
          <a:stretch/>
        </p:blipFill>
        <p:spPr>
          <a:xfrm>
            <a:off x="8047080" y="6021360"/>
            <a:ext cx="917640" cy="836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8" descr="0051"/>
          <p:cNvPicPr/>
          <p:nvPr/>
        </p:nvPicPr>
        <p:blipFill>
          <a:blip r:embed="rId1"/>
          <a:stretch/>
        </p:blipFill>
        <p:spPr>
          <a:xfrm>
            <a:off x="5580000" y="5445000"/>
            <a:ext cx="2879640" cy="714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6" descr="0051"/>
          <p:cNvPicPr/>
          <p:nvPr/>
        </p:nvPicPr>
        <p:blipFill>
          <a:blip r:embed="rId2"/>
          <a:stretch/>
        </p:blipFill>
        <p:spPr>
          <a:xfrm>
            <a:off x="4427640" y="4508640"/>
            <a:ext cx="381636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WordArt 1027"/>
          <p:cNvSpPr txBox="1"/>
          <p:nvPr/>
        </p:nvSpPr>
        <p:spPr>
          <a:xfrm>
            <a:off x="755640" y="333360"/>
            <a:ext cx="7920000" cy="151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вайте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накомимся!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Picture 8" descr="0022"/>
          <p:cNvPicPr/>
          <p:nvPr/>
        </p:nvPicPr>
        <p:blipFill>
          <a:blip r:embed="rId3"/>
          <a:stretch/>
        </p:blipFill>
        <p:spPr>
          <a:xfrm>
            <a:off x="684360" y="2133720"/>
            <a:ext cx="3241440" cy="4248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0010"/>
          <p:cNvPicPr/>
          <p:nvPr/>
        </p:nvPicPr>
        <p:blipFill>
          <a:blip r:embed="rId4"/>
          <a:stretch/>
        </p:blipFill>
        <p:spPr>
          <a:xfrm>
            <a:off x="6372360" y="378936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0022"/>
          <p:cNvPicPr/>
          <p:nvPr/>
        </p:nvPicPr>
        <p:blipFill>
          <a:blip r:embed="rId5"/>
          <a:stretch/>
        </p:blipFill>
        <p:spPr>
          <a:xfrm>
            <a:off x="5076720" y="2708280"/>
            <a:ext cx="1606680" cy="2089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1440" y="102960"/>
            <a:ext cx="7785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Англо-говорящие стран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2" name="Object 3" descr=""/>
          <p:cNvPicPr/>
          <p:nvPr/>
        </p:nvPicPr>
        <p:blipFill>
          <a:blip r:embed="rId1"/>
          <a:stretch/>
        </p:blipFill>
        <p:spPr>
          <a:xfrm>
            <a:off x="1805040" y="1557360"/>
            <a:ext cx="7338960" cy="50688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1835280" y="242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Великобритан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579600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Австрал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6588000" y="29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СШ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4067280" y="407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овая Зеланд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6659640" y="22766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Канад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Georgia"/>
              </a:rPr>
              <a:t>Mr. Tongue</a:t>
            </a:r>
            <a:endParaRPr b="0" lang="en-US" sz="6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3286080" y="1413000"/>
            <a:ext cx="3816360" cy="54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Verdana"/>
              </a:rPr>
              <a:t>Mr. Tongue</a:t>
            </a:r>
            <a:endParaRPr b="0" lang="en-US" sz="6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01" name="Picture 58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3241800" cy="4924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48320" y="150012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Georgia"/>
              </a:rPr>
              <a:t>     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d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ng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ch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p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h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016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3" name="Rectangle 60"/>
          <p:cNvSpPr/>
          <p:nvPr/>
        </p:nvSpPr>
        <p:spPr>
          <a:xfrm>
            <a:off x="4763880" y="314172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GOO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714400" y="102960"/>
            <a:ext cx="59720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ccecff"/>
                </a:solidFill>
                <a:latin typeface="Georgia"/>
              </a:rPr>
              <a:t>[w]</a:t>
            </a:r>
            <a:r>
              <a:rPr b="1" lang="ru-RU" sz="5400" spc="-1" strike="noStrike">
                <a:solidFill>
                  <a:srgbClr val="ccecff"/>
                </a:solidFill>
                <a:latin typeface="Georgia"/>
              </a:rPr>
              <a:t>    </a:t>
            </a:r>
            <a:r>
              <a:rPr b="1" lang="en-US" sz="5400" spc="-1" strike="noStrike">
                <a:solidFill>
                  <a:srgbClr val="ccecff"/>
                </a:solidFill>
                <a:latin typeface="Georgia"/>
              </a:rPr>
              <a:t> [t]</a:t>
            </a:r>
            <a:endParaRPr b="0" lang="en-US" sz="54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7308720" cy="5113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                       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                            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8"/>
          <p:cNvSpPr/>
          <p:nvPr/>
        </p:nvSpPr>
        <p:spPr>
          <a:xfrm>
            <a:off x="406728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Comic Sans MS"/>
              </a:rPr>
              <a:t>Винни - Пу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7236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4:39:22Z</dcterms:created>
  <dc:creator>Renata</dc:creator>
  <dc:description/>
  <dc:language>en-US</dc:language>
  <cp:lastModifiedBy>Айдаш</cp:lastModifiedBy>
  <dcterms:modified xsi:type="dcterms:W3CDTF">2015-03-02T13:38:54Z</dcterms:modified>
  <cp:revision>42</cp:revision>
  <dc:subject/>
  <dc:title>Слайд 1</dc:title>
</cp:coreProperties>
</file>