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5.png" ContentType="image/png"/>
  <Override PartName="/ppt/media/image10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E2A8-BCEE-4C51-90A7-5957E5E19E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3A4C-F5B3-4AEB-B595-C7718A8290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656-615B-41D7-99A8-223B25B4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D5D-2884-40A6-8E32-0A38E3AF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B0FE-EAD2-4F7B-AA34-1ED0E5BC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C86-FAEC-4AB2-8ADB-13E9402F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7996-570A-4FA2-BE20-87A7823B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C696-EDD5-4A49-B718-FE87D534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0064-EDB3-4DDD-AC4D-660F06AF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EE57-E6E7-47B5-855D-1569AB9D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0D17-8784-4745-9DDD-584BE28A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F0A9-B5CD-459F-B265-3DF553FE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CB25-4CA9-427E-BF5A-F8E600A0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0BA-C0CD-456C-A423-73D84F3E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D93B-2DA3-40E5-865F-102D146F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6816-543F-4A4C-ACB2-9ACA0114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EE3A-27CF-4C3C-9C2D-C284ADB9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BE07-02CB-46B8-A0CA-F6C051C7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C0A1-A736-493E-B83B-B91CB323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D38A0-955B-47AD-B22A-572F4953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5D3F1-45C8-417F-B3E8-19DEBB81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1387F-778C-413B-A4D2-CDD7C25E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24380-6F4B-47BA-B77A-D0EBE97B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0C229-757D-4830-8808-82BD65B2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5F0-D2D2-47B3-A293-AFB9A945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C5A90-49A5-494B-A939-7C298407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B2B3E-A676-41CE-BFC4-FA8CB7CE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D6752D-5A53-44A1-8D70-D6A97CF6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1BA4B-BD08-4018-9D89-5EF5B22E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80732-054A-4329-BDD6-8B50F233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2C858-C486-4A5D-BEBE-F62DAB41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5D954-82B6-493D-B2E3-B467F225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03B95-016C-4E8C-AF09-0B2DF4A8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CF21C-2ACB-4231-94B3-FBDB2A26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BECF6-9B4C-4F6D-9DFC-8A8A7ACF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CA3D-1187-4605-9A05-961CDBFC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978E6-188B-48ED-96AB-D116A088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EF581-A571-44D3-BA18-AB90B71E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F3613-1FDC-4AFC-B2AE-EB0E92A7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0DB77-64FC-42D9-BAFA-DA56BDEB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F2A92-D0DE-413A-8169-85623A85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508CB-F1F9-4690-8D97-7D16BAFB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B1BF9-9697-4ABA-B22B-726A9ACD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E465A-C824-4056-A22C-9D824E7C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F2442-EFA8-48BA-9694-6BA13DD1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9D8E7-CADC-409D-AA66-9EC1719B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E081-B9DE-4391-A587-C2689E2F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C1B0D-B26E-49F1-8E3B-09EC1D4A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6ECBC-DFF5-47B3-844C-6167216E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4DE87-91C7-4EF4-B9B5-AC059AA8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2D1E5-A27F-4819-BE25-1790FF5B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74954-E47A-4E88-9879-88031227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1B69F-2F98-4636-94F2-937B2F32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D51A5-3C2B-4A61-9DAC-076E66E7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D24E2-CE5E-494D-B146-A4A453EB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5F9B8-8EC2-4BC0-9D48-7EED74FD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ECCCF-60E3-4D84-A36D-9D03F1BF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6FB-B2D8-44E6-8AF4-FA310860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1480A-EB77-4E0B-BD2E-EE43027B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DDCB-8F3F-4AE8-8B52-47481AB1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031E-43AF-4F55-8C8B-77C434C7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6976-749B-48CA-9E36-261A73CA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C3FF-1D48-441B-8559-BB5748CA8E41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C5A1-D520-4369-9968-359D8E55693A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3520-F71A-45B3-A1CF-4D7D2A20E709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954F-29CD-45AB-919C-EA5201BE6155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F57E-4A6A-4D48-8C18-5FE2AB23881B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rebuchet MS"/>
              </a:rPr>
              <a:t>РАССТОЯНИЕ ОТ ТОЧКИ до ПЛОСКОСТИ 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4360" y="198900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336600"/>
                </a:solidFill>
                <a:latin typeface="Georgia"/>
              </a:rPr>
              <a:t>Расстоянием между точкой и плоскостью в пространстве называется длина перпендикуляра, опущенного из данной точки на данную плоскос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7" name="Picture 7" descr=""/>
          <p:cNvPicPr/>
          <p:nvPr/>
        </p:nvPicPr>
        <p:blipFill>
          <a:blip r:embed="rId1"/>
          <a:stretch/>
        </p:blipFill>
        <p:spPr>
          <a:xfrm>
            <a:off x="2771640" y="3573360"/>
            <a:ext cx="3754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80880" y="152280"/>
            <a:ext cx="7848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ABCA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расстояние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между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               точкой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A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и плоскостью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BB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400" spc="-1" strike="noStrike">
                <a:solidFill>
                  <a:srgbClr val="3366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8"/>
          <p:cNvGrpSpPr/>
          <p:nvPr/>
        </p:nvGrpSpPr>
        <p:grpSpPr>
          <a:xfrm>
            <a:off x="838080" y="5029200"/>
            <a:ext cx="3048120" cy="914400"/>
            <a:chOff x="838080" y="5029200"/>
            <a:chExt cx="3048120" cy="914400"/>
          </a:xfrm>
        </p:grpSpPr>
        <p:sp>
          <p:nvSpPr>
            <p:cNvPr id="280" name="Text Box 4"/>
            <p:cNvSpPr/>
            <p:nvPr/>
          </p:nvSpPr>
          <p:spPr>
            <a:xfrm>
              <a:off x="838080" y="5334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1" name="Object 5"/>
            <p:cNvGraphicFramePr/>
            <p:nvPr/>
          </p:nvGraphicFramePr>
          <p:xfrm>
            <a:off x="1905120" y="5029200"/>
            <a:ext cx="596880" cy="91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5029200"/>
                      <a:ext cx="5968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83" name="Picture 9" descr=""/>
          <p:cNvPicPr/>
          <p:nvPr/>
        </p:nvPicPr>
        <p:blipFill>
          <a:blip r:embed="rId3"/>
          <a:stretch/>
        </p:blipFill>
        <p:spPr>
          <a:xfrm>
            <a:off x="3182760" y="1898640"/>
            <a:ext cx="27784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380880" y="152280"/>
            <a:ext cx="7848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ABCA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расстояние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между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             точкой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A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и плоскостью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33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8380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1.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8" descr=""/>
          <p:cNvPicPr/>
          <p:nvPr/>
        </p:nvPicPr>
        <p:blipFill>
          <a:blip r:embed="rId1"/>
          <a:stretch/>
        </p:blipFill>
        <p:spPr>
          <a:xfrm>
            <a:off x="3182760" y="1898640"/>
            <a:ext cx="27784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380880" y="152280"/>
            <a:ext cx="7848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ABCA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расстояние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между </a:t>
            </a:r>
            <a:r>
              <a:rPr b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точкой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A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и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лоскостью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BCA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8" descr=""/>
          <p:cNvPicPr/>
          <p:nvPr/>
        </p:nvPicPr>
        <p:blipFill>
          <a:blip r:embed="rId1"/>
          <a:stretch/>
        </p:blipFill>
        <p:spPr>
          <a:xfrm>
            <a:off x="3182760" y="1898640"/>
            <a:ext cx="27784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5364000" y="5877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твет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6443640" y="5589720"/>
          <a:ext cx="77472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5589720"/>
                    <a:ext cx="7747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Text Box 8"/>
          <p:cNvSpPr/>
          <p:nvPr/>
        </p:nvSpPr>
        <p:spPr>
          <a:xfrm>
            <a:off x="395280" y="3500280"/>
            <a:ext cx="81342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Через точки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43808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43808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и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 – середину ребра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BC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, проведем прямую. Искомым расстоянием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будет расстояние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AE 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от точки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A 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до этой прямой. В прямоугольном треугольнике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ADA</a:t>
            </a:r>
            <a:r>
              <a:rPr b="1" lang="en-US" sz="2400" spc="-1" strike="noStrike" baseline="-25000">
                <a:solidFill>
                  <a:srgbClr val="43808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43808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имеем,</a:t>
            </a:r>
            <a:r>
              <a:rPr b="1" lang="en-US" sz="2400" spc="-1" strike="noStrike">
                <a:solidFill>
                  <a:srgbClr val="43808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AA</a:t>
            </a:r>
            <a:r>
              <a:rPr b="1" lang="en-US" sz="2400" spc="-1" strike="noStrike" baseline="-25000">
                <a:solidFill>
                  <a:srgbClr val="43808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438086"/>
                </a:solidFill>
                <a:latin typeface="Times New Roman"/>
              </a:rPr>
              <a:t> = 1, 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AD </a:t>
            </a:r>
            <a:r>
              <a:rPr b="1" lang="en-US" sz="2400" spc="-1" strike="noStrike">
                <a:solidFill>
                  <a:srgbClr val="438086"/>
                </a:solidFill>
                <a:latin typeface="Times New Roman"/>
              </a:rPr>
              <a:t>=       ,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DA</a:t>
            </a:r>
            <a:r>
              <a:rPr b="1" lang="en-US" sz="2400" spc="-1" strike="noStrike" baseline="-25000">
                <a:solidFill>
                  <a:srgbClr val="43808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438086"/>
                </a:solidFill>
                <a:latin typeface="Times New Roman"/>
              </a:rPr>
              <a:t> =      . 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Следовательно,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AE =</a:t>
            </a:r>
            <a:r>
              <a:rPr b="0" i="1" lang="en-US" sz="2400" spc="-1" strike="noStrike">
                <a:solidFill>
                  <a:srgbClr val="43808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3808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Object 9"/>
          <p:cNvGraphicFramePr/>
          <p:nvPr/>
        </p:nvGraphicFramePr>
        <p:xfrm>
          <a:off x="4211640" y="4653000"/>
          <a:ext cx="32688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653000"/>
                    <a:ext cx="326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10"/>
          <p:cNvGraphicFramePr/>
          <p:nvPr/>
        </p:nvGraphicFramePr>
        <p:xfrm>
          <a:off x="5724360" y="4581360"/>
          <a:ext cx="34452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4581360"/>
                    <a:ext cx="3445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1"/>
          <p:cNvGraphicFramePr/>
          <p:nvPr/>
        </p:nvGraphicFramePr>
        <p:xfrm>
          <a:off x="1187280" y="5013360"/>
          <a:ext cx="54612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5013360"/>
                    <a:ext cx="546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Picture 15" descr=""/>
          <p:cNvPicPr/>
          <p:nvPr/>
        </p:nvPicPr>
        <p:blipFill>
          <a:blip r:embed="rId9"/>
          <a:stretch/>
        </p:blipFill>
        <p:spPr>
          <a:xfrm>
            <a:off x="2843280" y="0"/>
            <a:ext cx="3078000" cy="33861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16"/>
          <p:cNvSpPr/>
          <p:nvPr/>
        </p:nvSpPr>
        <p:spPr>
          <a:xfrm>
            <a:off x="324000" y="404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026"/>
          <p:cNvSpPr/>
          <p:nvPr/>
        </p:nvSpPr>
        <p:spPr>
          <a:xfrm>
            <a:off x="380880" y="152280"/>
            <a:ext cx="7848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ABCA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расстояние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между </a:t>
            </a:r>
            <a:r>
              <a:rPr b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точкой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A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и плоскостью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C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1034" descr=""/>
          <p:cNvPicPr/>
          <p:nvPr/>
        </p:nvPicPr>
        <p:blipFill>
          <a:blip r:embed="rId1"/>
          <a:stretch/>
        </p:blipFill>
        <p:spPr>
          <a:xfrm>
            <a:off x="3182760" y="1898640"/>
            <a:ext cx="27784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152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468360" y="5589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твет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Object 11"/>
          <p:cNvGraphicFramePr/>
          <p:nvPr/>
        </p:nvGraphicFramePr>
        <p:xfrm>
          <a:off x="1547640" y="5445000"/>
          <a:ext cx="774720" cy="9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5445000"/>
                    <a:ext cx="77472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Text Box 13"/>
          <p:cNvSpPr/>
          <p:nvPr/>
        </p:nvSpPr>
        <p:spPr>
          <a:xfrm>
            <a:off x="395280" y="3500280"/>
            <a:ext cx="85676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Достроим данную треугольную призму до четырехугольной. Искомым расстоянием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будет расстояние от точки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A</a:t>
            </a:r>
            <a:r>
              <a:rPr b="1" lang="ru-RU" sz="2400" spc="-1" strike="noStrike" baseline="-25000">
                <a:solidFill>
                  <a:srgbClr val="438086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до плоскости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CDA</a:t>
            </a:r>
            <a:r>
              <a:rPr b="1" lang="en-US" sz="2400" spc="-1" strike="noStrike" baseline="-25000">
                <a:solidFill>
                  <a:srgbClr val="438086"/>
                </a:solidFill>
                <a:latin typeface="Times New Roman"/>
              </a:rPr>
              <a:t>1 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в призме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438086"/>
                </a:solidFill>
                <a:latin typeface="Times New Roman"/>
              </a:rPr>
              <a:t> …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438086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. Это расстояние мы нашли в предыдущей задаче. Оно рав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14" descr=""/>
          <p:cNvPicPr/>
          <p:nvPr/>
        </p:nvPicPr>
        <p:blipFill>
          <a:blip r:embed="rId3"/>
          <a:stretch/>
        </p:blipFill>
        <p:spPr>
          <a:xfrm>
            <a:off x="3059280" y="333360"/>
            <a:ext cx="3439800" cy="30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9" name="Object 15"/>
          <p:cNvGraphicFramePr/>
          <p:nvPr/>
        </p:nvGraphicFramePr>
        <p:xfrm>
          <a:off x="8244000" y="4508640"/>
          <a:ext cx="606240" cy="71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0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44000" y="4508640"/>
                    <a:ext cx="6062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Text Box 16"/>
          <p:cNvSpPr/>
          <p:nvPr/>
        </p:nvSpPr>
        <p:spPr>
          <a:xfrm>
            <a:off x="250920" y="26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380880" y="152280"/>
            <a:ext cx="7848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ABCA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расстояние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между </a:t>
            </a:r>
            <a:r>
              <a:rPr b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точкой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A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и плоскостью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78360" cy="338616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9"/>
          <p:cNvGrpSpPr/>
          <p:nvPr/>
        </p:nvGrpSpPr>
        <p:grpSpPr>
          <a:xfrm>
            <a:off x="3708360" y="1844640"/>
            <a:ext cx="5181480" cy="2292480"/>
            <a:chOff x="3708360" y="1844640"/>
            <a:chExt cx="5181480" cy="2292480"/>
          </a:xfrm>
        </p:grpSpPr>
        <p:sp>
          <p:nvSpPr>
            <p:cNvPr id="315" name="Text Box 5"/>
            <p:cNvSpPr/>
            <p:nvPr/>
          </p:nvSpPr>
          <p:spPr>
            <a:xfrm>
              <a:off x="3708360" y="1844640"/>
              <a:ext cx="518148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438086"/>
                  </a:solidFill>
                  <a:latin typeface="Times New Roman"/>
                </a:rPr>
                <a:t>Искомое расстояние равно расстоянию от точки </a:t>
              </a:r>
              <a:r>
                <a:rPr b="0" i="1" lang="en-US" sz="2400" spc="-1" strike="noStrike">
                  <a:solidFill>
                    <a:srgbClr val="438086"/>
                  </a:solidFill>
                  <a:latin typeface="Times New Roman"/>
                </a:rPr>
                <a:t>A </a:t>
              </a:r>
              <a:r>
                <a:rPr b="0" lang="ru-RU" sz="2400" spc="-1" strike="noStrike">
                  <a:solidFill>
                    <a:srgbClr val="438086"/>
                  </a:solidFill>
                  <a:latin typeface="Times New Roman"/>
                </a:rPr>
                <a:t>до плоскости </a:t>
              </a:r>
              <a:r>
                <a:rPr b="0" i="1" lang="en-US" sz="2400" spc="-1" strike="noStrike">
                  <a:solidFill>
                    <a:srgbClr val="438086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438086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438086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438086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438086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438086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438086"/>
                  </a:solidFill>
                  <a:latin typeface="Times New Roman"/>
                </a:rPr>
                <a:t>из предыдущей задачи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6"/>
            <p:cNvSpPr/>
            <p:nvPr/>
          </p:nvSpPr>
          <p:spPr>
            <a:xfrm>
              <a:off x="4470120" y="352116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7" name="Object 7"/>
            <p:cNvGraphicFramePr/>
            <p:nvPr/>
          </p:nvGraphicFramePr>
          <p:xfrm>
            <a:off x="5448240" y="3209760"/>
            <a:ext cx="774720" cy="927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8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48240" y="3209760"/>
                      <a:ext cx="77472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2843280" y="260280"/>
            <a:ext cx="3078000" cy="33861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250920" y="26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900000" y="4221000"/>
            <a:ext cx="7775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Искомое расстояние равно расстоянию от точки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A 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до плоскости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438086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438086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43808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из предыдущей зада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900000" y="5734080"/>
            <a:ext cx="45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твет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Object 9"/>
          <p:cNvGraphicFramePr/>
          <p:nvPr/>
        </p:nvGraphicFramePr>
        <p:xfrm>
          <a:off x="1979640" y="5445000"/>
          <a:ext cx="1008000" cy="10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5445000"/>
                    <a:ext cx="100800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06:58Z</dcterms:created>
  <dc:creator>*</dc:creator>
  <dc:description/>
  <dc:language>en-US</dc:language>
  <cp:lastModifiedBy>BBB</cp:lastModifiedBy>
  <dcterms:modified xsi:type="dcterms:W3CDTF">2015-03-06T16:46:57Z</dcterms:modified>
  <cp:revision>28</cp:revision>
  <dc:subject/>
  <dc:title>УГОЛ МЕЖДУ ПРЯМЫМИ В ПРОСТРАНСТВЕ</dc:title>
</cp:coreProperties>
</file>