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195-7F54-4B37-BFC0-FDE2E90A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03B-2DFC-4C40-92A7-AE06860B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450-E9F5-44C0-933E-52C6C7F3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8E0-ACA7-4AD2-B704-EE6B3405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89439-B56D-429C-AD46-2F6D060C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50C3F-8B5E-432E-9F3E-DF9B09CC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57262-DB88-4E86-8ABA-E82710B4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8CD15-BA37-449A-8DF1-8800C66B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7F4F5-6C1A-4AFF-B8D9-24E918DD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DDD06-9EB8-4D1B-9EA6-13F5368F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9A6F0-A406-4305-9717-FEDAE3D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9C3-D739-497F-B83B-C95961A6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2E590-0883-4F40-8CC5-74054B5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9E47C-2A9A-4A28-B3FE-FF6AB8D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905F1-41CE-4619-B474-6A5D699A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A1FD3-EBE7-46F1-A05C-49B60869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09A18-4C1A-46EB-9410-CAB6D694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9AD6-C133-4198-BCCB-9FF35498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4B9A-1126-456E-B517-E932D611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A41B-4719-4BED-9BC4-3CC9069E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CF9C-358F-44D9-A10A-D128E736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D29D-DD51-4F5E-B8F4-1F6A5FB9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C1C-B49D-4468-A210-6DD85E54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1134-3195-406F-A105-73FF36D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677F-B947-4D8C-BD39-F73016B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7881-3B22-4F5E-A0FF-F0010096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D441A-8A71-429E-B5E4-F1367C63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76C2-5EA6-43EB-8BF6-DA9CCAE3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5861-524E-4E43-856D-5C748D1D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567C3-643D-4809-963A-45F62C64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E3C4BB-1293-4F33-8119-DB0EABFF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8E056-507C-4632-89EF-64803D1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1170A3-322D-45BB-A8E0-8AFA6D30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A7E-D7FA-40D3-AE29-9850A338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FB9E9-BDB9-45E0-B04C-AF0D1261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85477-F8EE-41DB-BE2C-855B73C2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0CD45-CCB3-44A8-BA94-A4DE9819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3255D-A460-48EC-A446-41A4F40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9C1BD-4657-407E-9D06-7C388F1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0FB17-08ED-484E-8C43-863BBAFD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1E8FF-DFEE-4466-B520-DF8CE5E4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DC93C-71EF-4FF4-81C7-1C9048A4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209D1-30C3-4D98-9CB6-40AEBEE6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F13-7D0E-429E-9462-4E7867C6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195-3197-4E20-8517-734D7EE8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AFE-E750-4B04-8BE6-8996A788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783-C9AC-4A5B-9A50-71A9A448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5F4-0D30-4DF1-9E05-3AF1C50C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EA03C9-25E0-4D67-B1B7-5E37EE2EC4C7}" type="slidenum">
              <a:rPr b="0" lang="en-US" sz="16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7598d9"/>
          </a:solidFill>
          <a:ln w="38160">
            <a:solidFill>
              <a:srgbClr val="7598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B2E574-0137-4719-AA61-447B3ED4B0A0}" type="slidenum">
              <a:rPr b="0" lang="en-US" sz="16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7B8D7F-812A-4612-B6B2-06430834649B}" type="slidenum">
              <a:rPr b="0" lang="en-US" sz="16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842C82-4EEE-4515-81E5-1014A42467A5}" type="slidenum">
              <a:rPr b="0" lang="en-US" sz="16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6612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3212640" y="142920"/>
            <a:ext cx="36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  <a:ea typeface="Arial"/>
              </a:rPr>
              <a:t>Flash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  <a:ea typeface="Arial"/>
              </a:rPr>
              <a:t> - ани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2"/>
          <p:cNvSpPr/>
          <p:nvPr/>
        </p:nvSpPr>
        <p:spPr>
          <a:xfrm>
            <a:off x="611280" y="69228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В основ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flash-аним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лежит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векторная графи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. Эта технология позволяет реализовать движение, плавно изменяя расположение, размер и цвет объектов на рисунке, а также показать плавное превращение одного объекта в друг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068640" cy="31258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684360" y="515772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В основе Flash - анимации  лежит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векторный морфинг, то есть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плавное «перетекание» одного ключевого кадра в друго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. Это позволяет делать сложные мультипликационные сцены, задавая лишь несколько ключевых кад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755640" y="256536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lash-анимация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получила широкое распространение не только в интернет- рекламе и строительстве сайтов, но и в науке, моделировании, образовании, а также в искусстве мультипликации, анимации и ки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Constantia"/>
              </a:rPr>
              <a:t>Графические редакторы</a:t>
            </a:r>
            <a:r>
              <a:rPr b="0" lang="ru-RU" sz="4200" spc="-1" strike="noStrike">
                <a:solidFill>
                  <a:srgbClr val="f9f9f9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9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обработки изображений на компьютере используются специальные программы —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рафические редактор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Графический редактор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программа для создания, редактирования и просмотра графических изображений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437000"/>
            <a:ext cx="3598920" cy="1440000"/>
          </a:xfrm>
          <a:prstGeom prst="rect">
            <a:avLst/>
          </a:prstGeom>
          <a:solidFill>
            <a:srgbClr val="e2f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стр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dobe Photo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M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3280" y="4437000"/>
            <a:ext cx="3598920" cy="1440000"/>
          </a:xfrm>
          <a:prstGeom prst="rect">
            <a:avLst/>
          </a:prstGeom>
          <a:solidFill>
            <a:srgbClr val="e2f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екто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orelDRA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acromedia Flash 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 встроенный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04920" y="228600"/>
          <a:ext cx="8534160" cy="6004080"/>
        </p:xfrm>
        <a:graphic>
          <a:graphicData uri="http://schemas.openxmlformats.org/drawingml/2006/table">
            <a:tbl>
              <a:tblPr/>
              <a:tblGrid>
                <a:gridCol w="2909880"/>
                <a:gridCol w="2779560"/>
                <a:gridCol w="2844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nstantia"/>
                          <a:ea typeface="Times New Roman"/>
                        </a:rPr>
                        <a:t>Растровая граф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nstantia"/>
                          <a:ea typeface="Times New Roman"/>
                        </a:rPr>
                        <a:t>Векторная граф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ак формируется изображение?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33"/>
          <p:cNvSpPr/>
          <p:nvPr/>
        </p:nvSpPr>
        <p:spPr>
          <a:xfrm>
            <a:off x="3276720" y="1197000"/>
            <a:ext cx="26636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з точек (пикселей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6084720" y="1052640"/>
            <a:ext cx="26640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з объектов (линия, окружность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04920" y="228600"/>
          <a:ext cx="8534160" cy="633240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стровая граф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екторная граф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ак формируется изображение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 точек (пикселе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 объектов (линия, окружность…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ак изменяется в процессе масштабирования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32"/>
          <p:cNvSpPr/>
          <p:nvPr/>
        </p:nvSpPr>
        <p:spPr>
          <a:xfrm>
            <a:off x="3203640" y="292428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ряется качество изображ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6095880" y="2895480"/>
            <a:ext cx="2667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з потери качества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tn_f316_gif"/>
          <p:cNvPicPr/>
          <p:nvPr/>
        </p:nvPicPr>
        <p:blipFill>
          <a:blip r:embed="rId1"/>
          <a:stretch/>
        </p:blipFill>
        <p:spPr>
          <a:xfrm>
            <a:off x="3733920" y="2514600"/>
            <a:ext cx="1349280" cy="1498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2"/>
          <a:srcRect l="5001" t="7001" r="49376" b="14998"/>
          <a:stretch/>
        </p:blipFill>
        <p:spPr>
          <a:xfrm>
            <a:off x="1374840" y="225360"/>
            <a:ext cx="603864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/>
          <p:nvPr/>
        </p:nvSpPr>
        <p:spPr>
          <a:xfrm>
            <a:off x="3419640" y="2781360"/>
            <a:ext cx="1295280" cy="1152360"/>
          </a:xfrm>
          <a:prstGeom prst="sun">
            <a:avLst>
              <a:gd name="adj" fmla="val 250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112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0"/>
            <a:ext cx="6553440" cy="6858000"/>
          </a:xfrm>
          <a:prstGeom prst="sun">
            <a:avLst>
              <a:gd name="adj" fmla="val 250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9"/>
          <p:cNvPicPr/>
          <p:nvPr/>
        </p:nvPicPr>
        <p:blipFill>
          <a:blip r:embed="rId1"/>
          <a:stretch/>
        </p:blipFill>
        <p:spPr>
          <a:xfrm>
            <a:off x="4267080" y="304920"/>
            <a:ext cx="4391280" cy="3089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nk Outlines (Обводка)"/>
          <p:cNvPicPr/>
          <p:nvPr/>
        </p:nvPicPr>
        <p:blipFill>
          <a:blip r:embed="rId2"/>
          <a:stretch/>
        </p:blipFill>
        <p:spPr>
          <a:xfrm>
            <a:off x="395280" y="1413000"/>
            <a:ext cx="3127320" cy="47242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4724280" y="3343680"/>
            <a:ext cx="3994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ретуширование, реставрирование фотограф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оздание и обработка; фотомонтаж, коллаж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250920" y="33336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ласть приме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7"/>
          <p:cNvSpPr txBox="1"/>
          <p:nvPr/>
        </p:nvSpPr>
        <p:spPr>
          <a:xfrm>
            <a:off x="179280" y="692280"/>
            <a:ext cx="5410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ласть приме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237" name="Group 10"/>
          <p:cNvGrpSpPr/>
          <p:nvPr/>
        </p:nvGrpSpPr>
        <p:grpSpPr>
          <a:xfrm>
            <a:off x="609480" y="2057400"/>
            <a:ext cx="5105520" cy="3724200"/>
            <a:chOff x="609480" y="2057400"/>
            <a:chExt cx="5105520" cy="3724200"/>
          </a:xfrm>
        </p:grpSpPr>
        <p:pic>
          <p:nvPicPr>
            <p:cNvPr id="238" name="Picture 6" descr="Векторная7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510552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WordArt 8"/>
            <p:cNvSpPr txBox="1"/>
            <p:nvPr/>
          </p:nvSpPr>
          <p:spPr>
            <a:xfrm>
              <a:off x="1752480" y="5257800"/>
              <a:ext cx="23623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latin typeface="Arial"/>
                </a:rPr>
                <a:t>чертеж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0" name="Group 11"/>
          <p:cNvGrpSpPr/>
          <p:nvPr/>
        </p:nvGrpSpPr>
        <p:grpSpPr>
          <a:xfrm>
            <a:off x="5845320" y="1143000"/>
            <a:ext cx="2871720" cy="4724280"/>
            <a:chOff x="5845320" y="1143000"/>
            <a:chExt cx="2871720" cy="4724280"/>
          </a:xfrm>
        </p:grpSpPr>
        <p:pic>
          <p:nvPicPr>
            <p:cNvPr id="241" name="Picture 5" descr="Векторная6"/>
            <p:cNvPicPr/>
            <p:nvPr/>
          </p:nvPicPr>
          <p:blipFill>
            <a:blip r:embed="rId2"/>
            <a:srcRect l="50138" t="5055" r="6236" b="142"/>
            <a:stretch/>
          </p:blipFill>
          <p:spPr>
            <a:xfrm>
              <a:off x="5845320" y="1143000"/>
              <a:ext cx="28717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WordArt 9"/>
            <p:cNvSpPr txBox="1"/>
            <p:nvPr/>
          </p:nvSpPr>
          <p:spPr>
            <a:xfrm>
              <a:off x="6095880" y="4876920"/>
              <a:ext cx="2371680" cy="75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Arial"/>
                </a:rPr>
                <a:t>эмблем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250920" y="0"/>
          <a:ext cx="8534160" cy="683568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86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nstantia"/>
                          <a:ea typeface="Times New Roman"/>
                        </a:rPr>
                        <a:t>Растровая граф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nstantia"/>
                          <a:ea typeface="Times New Roman"/>
                        </a:rPr>
                        <a:t>Векторная граф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ак формируется изображение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 точек (пикселе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 объектов (линия, окружность…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ак изменяется в процессе масштабирования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ласть приме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32"/>
          <p:cNvSpPr/>
          <p:nvPr/>
        </p:nvSpPr>
        <p:spPr>
          <a:xfrm>
            <a:off x="3276720" y="2492280"/>
            <a:ext cx="2743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ряется качество изображ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6012000" y="2421000"/>
            <a:ext cx="2666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з потери кач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2987640" y="3860640"/>
            <a:ext cx="3048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работка изображения (фотомонтаж, коллаж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35"/>
          <p:cNvSpPr/>
          <p:nvPr/>
        </p:nvSpPr>
        <p:spPr>
          <a:xfrm>
            <a:off x="6012000" y="4005360"/>
            <a:ext cx="2819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ртежи, схемы, логотипы…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50920" y="0"/>
          <a:ext cx="8534160" cy="683568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86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nstantia"/>
                          <a:ea typeface="Times New Roman"/>
                        </a:rPr>
                        <a:t>Растровая граф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nstantia"/>
                          <a:ea typeface="Times New Roman"/>
                        </a:rPr>
                        <a:t>Векторная граф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ак формируется изображение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 точек (пикселе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 объектов (линия, окружность…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ак изменяется в процессе масштабирования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ласть приме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рафические ред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rel 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obe Illustr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ksc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32"/>
          <p:cNvSpPr/>
          <p:nvPr/>
        </p:nvSpPr>
        <p:spPr>
          <a:xfrm>
            <a:off x="3276720" y="2492280"/>
            <a:ext cx="2743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ряется качество изображ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6012000" y="2421000"/>
            <a:ext cx="2666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з потери кач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4"/>
          <p:cNvSpPr/>
          <p:nvPr/>
        </p:nvSpPr>
        <p:spPr>
          <a:xfrm>
            <a:off x="2987640" y="3860640"/>
            <a:ext cx="3048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работка изображения (фотомонтаж, коллаж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35"/>
          <p:cNvSpPr/>
          <p:nvPr/>
        </p:nvSpPr>
        <p:spPr>
          <a:xfrm>
            <a:off x="6012000" y="4005360"/>
            <a:ext cx="2819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ртежи, схемы, логотипы…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3276720" y="5229360"/>
            <a:ext cx="273672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obe Photo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116000" y="981000"/>
            <a:ext cx="7128000" cy="3744720"/>
            <a:chOff x="1116000" y="981000"/>
            <a:chExt cx="7128000" cy="3744720"/>
          </a:xfrm>
        </p:grpSpPr>
        <p:sp>
          <p:nvSpPr>
            <p:cNvPr id="172" name=""/>
            <p:cNvSpPr/>
            <p:nvPr/>
          </p:nvSpPr>
          <p:spPr>
            <a:xfrm>
              <a:off x="1116000" y="3357360"/>
              <a:ext cx="3384720" cy="1368360"/>
            </a:xfrm>
            <a:prstGeom prst="rect">
              <a:avLst/>
            </a:prstGeom>
            <a:solidFill>
              <a:srgbClr val="ffd7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АСТРОВЫ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9280" y="3357360"/>
              <a:ext cx="3384720" cy="1368360"/>
            </a:xfrm>
            <a:prstGeom prst="rect">
              <a:avLst/>
            </a:prstGeom>
            <a:solidFill>
              <a:srgbClr val="ffd7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ЕКТОРНЫЕ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203640" y="2421000"/>
              <a:ext cx="1440000" cy="863280"/>
            </a:xfrm>
            <a:prstGeom prst="line">
              <a:avLst/>
            </a:prstGeom>
            <a:ln w="7632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3640" y="2421000"/>
              <a:ext cx="1368360" cy="863280"/>
            </a:xfrm>
            <a:prstGeom prst="line">
              <a:avLst/>
            </a:prstGeom>
            <a:ln w="7632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40000" y="981000"/>
              <a:ext cx="4753080" cy="144000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Компьютерные</a:t>
              </a:r>
              <a:br>
                <a:rPr sz="4000"/>
              </a:b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изображени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700360" y="2492280"/>
            <a:ext cx="792000" cy="79236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2492280"/>
            <a:ext cx="7923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79280" y="141300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MP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универсальный формат, который понимают все графические редактор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IF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используется для размещения изображений на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eb-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траницах за счет сжатия, но в палитре не более256 цве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NG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– использует метод сжатия без потери данных, в палитре до 16 миллионов цве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JPEG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– для сжатия цифровых и отсканированных фотограф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WordArt 5"/>
          <p:cNvSpPr txBox="1"/>
          <p:nvPr/>
        </p:nvSpPr>
        <p:spPr>
          <a:xfrm>
            <a:off x="900000" y="404640"/>
            <a:ext cx="734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орматы растровых изображени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6836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MF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для хранения коллекции графических изображений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icrosoft Clip Gale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EPS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— формат векторных графических файлов. Рекомендуется для печати и создания иллюстраций в настольных издательских системах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CDR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— оригинальный формат векторных графических файлов, используемый в системе обработки векторной графики CorelDraw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12760" y="333360"/>
            <a:ext cx="893124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Текст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1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Constantia"/>
              </a:rPr>
              <a:t>Контрольные вопросы: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стровая графика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кторная графи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кие растровые графические редакторы вы знаете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кие векторные графические редакторы вы знаете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каком редакторе, растровом или векторном, вы будете редактировать фотографию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Constantia"/>
              </a:rPr>
              <a:t>Растровая график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ровое изображение хранится с помощью точек различного цвета (пикселей), которые образуют строки и столбц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ждый пиксель имеет определенное положение и цве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икс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минимальный участок изображения, цвет которого можно задать независимым образ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964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1928880" cy="3306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090520" cy="3451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ИЦШ\Desktop\анимации, картинки\Рисунок2.jpg"/>
          <p:cNvPicPr/>
          <p:nvPr/>
        </p:nvPicPr>
        <p:blipFill>
          <a:blip r:embed="rId3"/>
          <a:stretch/>
        </p:blipFill>
        <p:spPr>
          <a:xfrm>
            <a:off x="3719520" y="2192400"/>
            <a:ext cx="1585800" cy="195732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5"/>
          <p:cNvSpPr/>
          <p:nvPr/>
        </p:nvSpPr>
        <p:spPr>
          <a:xfrm>
            <a:off x="285840" y="544500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Рассмотрим растровое изображение листа дерева. Слева оригинал изображения и пиксели не видны, однако при увеличении мы без труда обнаружим точки различного цвета – это и есть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пиксел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428760" y="50004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Каждый пиксель может принимать любой цвет из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алитры рисунка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 содержащей десятки тысяч или даже десятки миллионов цветов, поэтому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стровые изображения обеспечивают высокую точность передачи цветов и полутон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 rot="20929200">
            <a:off x="477720" y="3270240"/>
            <a:ext cx="2951280" cy="2655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 rot="298200">
            <a:off x="2555640" y="2636640"/>
            <a:ext cx="3959280" cy="2241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" descr=""/>
          <p:cNvPicPr/>
          <p:nvPr/>
        </p:nvPicPr>
        <p:blipFill>
          <a:blip r:embed="rId3"/>
          <a:stretch/>
        </p:blipFill>
        <p:spPr>
          <a:xfrm rot="21115800">
            <a:off x="5219280" y="3284280"/>
            <a:ext cx="320508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чество растрового изображения зависит от размера изображения (количества пикселей по горизонтали и вертикали) и количества цветов, которые можно задать для каждого пиксе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16x16=256 пиксе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хранения каждого пикселя необходим 1 б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ъем рисунка = 256 б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256 бит = 32 бай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516720" y="4222800"/>
            <a:ext cx="2303280" cy="23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nstantia"/>
              </a:rPr>
              <a:t>Ступенчатый эффект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411280" y="1700280"/>
            <a:ext cx="4321080" cy="4398840"/>
            <a:chOff x="2411280" y="1700280"/>
            <a:chExt cx="4321080" cy="4398840"/>
          </a:xfrm>
        </p:grpSpPr>
        <p:pic>
          <p:nvPicPr>
            <p:cNvPr id="194" name="1" descr=""/>
            <p:cNvPicPr/>
            <p:nvPr/>
          </p:nvPicPr>
          <p:blipFill>
            <a:blip r:embed="rId1"/>
            <a:stretch/>
          </p:blipFill>
          <p:spPr>
            <a:xfrm>
              <a:off x="3706560" y="1916280"/>
              <a:ext cx="2105280" cy="618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5" name=""/>
            <p:cNvGraphicFramePr/>
            <p:nvPr/>
          </p:nvGraphicFramePr>
          <p:xfrm>
            <a:off x="2411280" y="3164040"/>
            <a:ext cx="4321080" cy="2935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11280" y="3164040"/>
                      <a:ext cx="4321080" cy="29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3563640" y="1700280"/>
              <a:ext cx="1079640" cy="108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0832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Constantia"/>
              </a:rPr>
              <a:t>Векторная график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32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кторные графические изображения являются оптимальным средством хранения высокоточных графических объектов (чертежи, схемы и пр.), для которых имеет значение сохранение четких и ясных контур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кторные изображения формируются из графических примитивов, которые описываются математическими формул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508720" y="1484280"/>
            <a:ext cx="3112920" cy="4778280"/>
            <a:chOff x="5508720" y="1484280"/>
            <a:chExt cx="3112920" cy="4778280"/>
          </a:xfrm>
        </p:grpSpPr>
        <p:graphicFrame>
          <p:nvGraphicFramePr>
            <p:cNvPr id="202" name="Текст 8"/>
            <p:cNvGraphicFramePr/>
            <p:nvPr/>
          </p:nvGraphicFramePr>
          <p:xfrm>
            <a:off x="5508720" y="3340080"/>
            <a:ext cx="311292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Текст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08720" y="3340080"/>
                      <a:ext cx="3112920" cy="29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4" name=""/>
            <p:cNvGrpSpPr/>
            <p:nvPr/>
          </p:nvGrpSpPr>
          <p:grpSpPr>
            <a:xfrm>
              <a:off x="6461280" y="1484280"/>
              <a:ext cx="1224000" cy="1812960"/>
              <a:chOff x="6461280" y="1484280"/>
              <a:chExt cx="1224000" cy="1812960"/>
            </a:xfrm>
          </p:grpSpPr>
          <p:graphicFrame>
            <p:nvGraphicFramePr>
              <p:cNvPr id="205" name="Текст 8"/>
              <p:cNvGraphicFramePr/>
              <p:nvPr/>
            </p:nvGraphicFramePr>
            <p:xfrm>
              <a:off x="6461280" y="1484280"/>
              <a:ext cx="1224000" cy="1249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6" name="Текст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61280" y="1484280"/>
                        <a:ext cx="1224000" cy="12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7" name=""/>
              <p:cNvSpPr/>
              <p:nvPr/>
            </p:nvSpPr>
            <p:spPr>
              <a:xfrm>
                <a:off x="7124760" y="30812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3135960" y="404640"/>
            <a:ext cx="3025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  <a:ea typeface="Arial"/>
              </a:rPr>
              <a:t>GIF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 - аним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484280"/>
            <a:ext cx="824724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Это еще одна разновидность растровой графики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Анимация - последовательность растровых графических изображений, хранящихся в одном графическом файле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 Она представляет собой несколько рисунков-кадров, которые последовательно меняют друг друга, создавая эффект движения. Анимация часто используется в Интернете, в качестве рекламы, заставок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5-03-06T04:59:11Z</dcterms:modified>
  <cp:revision>54</cp:revision>
  <dc:subject/>
  <dc:title>Растр</dc:title>
</cp:coreProperties>
</file>